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0E8-F590-4A28-B773-C46415B3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B12-BE33-4057-BCFB-549540E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536-22E4-4F35-98C3-9A8A74B0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876-BEBE-4B8F-9384-3B7AE22B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1A35-C4FE-4E03-A10A-137593FF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3B86-3F45-419D-BCF5-942D80A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F44D-0198-4C3E-BA35-B2EC95BB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1573-A31F-467E-A886-E233E96C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C910-A137-467D-9990-772A91E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D207-CF7E-4084-8296-4931D9B6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F21-A7B2-47F2-A37E-DC8E4BF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B2C-6701-4E84-ABA6-805B6390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7EE1-FB4B-4C1F-9497-250C3C6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0A87-B9EB-4473-A575-54626672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3F4A-5B7F-4A22-A257-62936964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5F43-A2D9-48C4-92E4-C891E7C2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399A-306B-4D67-BD75-AE01286A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6DB-13C5-4907-97BA-48074F00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A1F-0EE3-4059-A9E5-A604CB82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5F9-8EBC-441C-8EB9-E572836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E88-C030-4C24-B140-B6E5D0D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522-3278-4DF9-90FF-1DCE6E6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4CB-5FC3-4E57-982D-3CB06E27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6B4-B36E-4815-8515-4C15A920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06E-55CA-4563-95CA-2622ECF40CB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30C-0A79-4AE3-8C93-786972236FA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2008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Clas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Osaka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5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57200" y="1447920"/>
            <a:ext cx="7391520" cy="5184000"/>
            <a:chOff x="457200" y="1447920"/>
            <a:chExt cx="7391520" cy="51840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91176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5486400" y="4800600"/>
              <a:ext cx="15620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1828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59436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lectropor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886200" y="1447920"/>
              <a:ext cx="11523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800600" y="16002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acterias hués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6019920"/>
              <a:ext cx="2819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6172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ultivo en pla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9480" y="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ransformación de bacterias por Electro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 embargo el procedimiento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formació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s 100 % eficiente, por lo tanto se requiere un método para seleccionar  e identificar las bacterias realmente transformadas con el plasmidi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882800"/>
            <a:ext cx="4114800" cy="243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86000" cy="1362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45720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2 h a 37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952880"/>
            <a:ext cx="373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recimiento de colonias de bacterias resistentes al antibiótico, que por lo tanto tienen el plasmid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95280" y="380880"/>
            <a:ext cx="6858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Bacteriófagos como vectores de cl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80880"/>
            <a:ext cx="78483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ELULAS USADAS COMO HUESPEDES DE CL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 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élulas procario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: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cherichia coli, Bacillus subti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jas: crecimiento rápido, cultivo barato, fisiología y genética bien cono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 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élulas eucario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. Levaduras, hongos, células de mamíferos en cultivo, células de insecto en cul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jas: estas células realizan modificaciones post-traduccionales (ej. Fosforilaciones y glicosilaciones) que son importantes para la actividad de muchas proteínas de eucariont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Un vector de expresión: usado para producir proteínas recombin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276720" cy="2837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51280" y="4191120"/>
            <a:ext cx="52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lac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lac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su gen favorito   term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00400" y="4952880"/>
            <a:ext cx="5105520" cy="1579320"/>
            <a:chOff x="3200400" y="4952880"/>
            <a:chExt cx="5105520" cy="1579320"/>
          </a:xfrm>
        </p:grpSpPr>
        <p:sp>
          <p:nvSpPr>
            <p:cNvPr id="141" name=""/>
            <p:cNvSpPr/>
            <p:nvPr/>
          </p:nvSpPr>
          <p:spPr>
            <a:xfrm>
              <a:off x="3200400" y="5313240"/>
              <a:ext cx="5105520" cy="1218960"/>
            </a:xfrm>
            <a:prstGeom prst="ellipse">
              <a:avLst/>
            </a:prstGeom>
            <a:noFill/>
            <a:ln w="381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8840" y="5278320"/>
              <a:ext cx="368280" cy="195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7520" y="5278320"/>
              <a:ext cx="2895480" cy="195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08720" y="5278320"/>
              <a:ext cx="368280" cy="195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9840" y="5278320"/>
              <a:ext cx="615960" cy="195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24160" y="4952880"/>
              <a:ext cx="74880" cy="260280"/>
            </a:xfrm>
            <a:prstGeom prst="downArrow">
              <a:avLst>
                <a:gd name="adj1" fmla="val 50000"/>
                <a:gd name="adj2" fmla="val 868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64080" y="5018040"/>
              <a:ext cx="74520" cy="195120"/>
            </a:xfrm>
            <a:prstGeom prst="downArrow">
              <a:avLst>
                <a:gd name="adj1" fmla="val 50000"/>
                <a:gd name="adj2" fmla="val 654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70440" y="4952880"/>
              <a:ext cx="74880" cy="260280"/>
            </a:xfrm>
            <a:prstGeom prst="downArrow">
              <a:avLst>
                <a:gd name="adj1" fmla="val 50000"/>
                <a:gd name="adj2" fmla="val 868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18520" y="4952880"/>
              <a:ext cx="74520" cy="260280"/>
            </a:xfrm>
            <a:prstGeom prst="downArrow">
              <a:avLst>
                <a:gd name="adj1" fmla="val 50000"/>
                <a:gd name="adj2" fmla="val 873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181480" y="5846400"/>
              <a:ext cx="1295280" cy="609840"/>
              <a:chOff x="5181480" y="5846400"/>
              <a:chExt cx="1295280" cy="609840"/>
            </a:xfrm>
          </p:grpSpPr>
          <p:sp>
            <p:nvSpPr>
              <p:cNvPr id="151" name=""/>
              <p:cNvSpPr/>
              <p:nvPr/>
            </p:nvSpPr>
            <p:spPr>
              <a:xfrm>
                <a:off x="5181480" y="5999040"/>
                <a:ext cx="763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86400" y="5999040"/>
                <a:ext cx="7596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86400" y="6303600"/>
                <a:ext cx="75960" cy="152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90960" y="6151320"/>
                <a:ext cx="763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72200" y="5922720"/>
                <a:ext cx="7596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3760" y="5846400"/>
                <a:ext cx="76320" cy="152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3760" y="6151320"/>
                <a:ext cx="763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7280" y="5846400"/>
                <a:ext cx="76320" cy="152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9560" y="6227640"/>
                <a:ext cx="7632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00800" y="6151320"/>
                <a:ext cx="7596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5791320" y="5541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5867280" y="380880"/>
          <a:ext cx="29005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80880"/>
                    <a:ext cx="2900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4360" y="260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 sobreexpresión de una proteína impone un estrés metabólico a las células, bajando la velocidad de crecimiento de las bac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lgunas proteínas recombinantes pueden ser “tóxicas” para las bacterias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773360"/>
            <a:ext cx="761976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or lo tanto, se deben separar las fases  de crecimiento de las células y de expresión del gen heterólo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92000" y="3645000"/>
            <a:ext cx="4420080" cy="3334680"/>
            <a:chOff x="3492000" y="3645000"/>
            <a:chExt cx="4420080" cy="3334680"/>
          </a:xfrm>
        </p:grpSpPr>
        <p:sp>
          <p:nvSpPr>
            <p:cNvPr id="167" name=""/>
            <p:cNvSpPr/>
            <p:nvPr/>
          </p:nvSpPr>
          <p:spPr>
            <a:xfrm>
              <a:off x="5016600" y="36450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 recombin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7800" y="4106880"/>
              <a:ext cx="0" cy="23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7800" y="6438960"/>
              <a:ext cx="210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7800" y="4559400"/>
              <a:ext cx="1801800" cy="1906560"/>
            </a:xfrm>
            <a:custGeom>
              <a:avLst/>
              <a:gdLst/>
              <a:ahLst/>
              <a:rect l="l" t="t" r="r" b="b"/>
              <a:pathLst>
                <a:path w="960" h="832">
                  <a:moveTo>
                    <a:pt x="0" y="832"/>
                  </a:moveTo>
                  <a:cubicBezTo>
                    <a:pt x="112" y="748"/>
                    <a:pt x="224" y="664"/>
                    <a:pt x="288" y="544"/>
                  </a:cubicBezTo>
                  <a:cubicBezTo>
                    <a:pt x="352" y="424"/>
                    <a:pt x="336" y="200"/>
                    <a:pt x="384" y="112"/>
                  </a:cubicBezTo>
                  <a:cubicBezTo>
                    <a:pt x="432" y="24"/>
                    <a:pt x="480" y="32"/>
                    <a:pt x="576" y="16"/>
                  </a:cubicBezTo>
                  <a:cubicBezTo>
                    <a:pt x="672" y="0"/>
                    <a:pt x="816" y="8"/>
                    <a:pt x="960" y="1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6960" y="6519960"/>
              <a:ext cx="13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ti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3492000" y="4989600"/>
              <a:ext cx="45468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N de céls/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6454440" y="45594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16600" y="4025880"/>
              <a:ext cx="1295280" cy="2362320"/>
            </a:xfrm>
            <a:custGeom>
              <a:avLst/>
              <a:gdLst/>
              <a:ahLst/>
              <a:rect l="l" t="t" r="r" b="b"/>
              <a:pathLst>
                <a:path w="1008" h="1440">
                  <a:moveTo>
                    <a:pt x="0" y="1440"/>
                  </a:moveTo>
                  <a:cubicBezTo>
                    <a:pt x="140" y="1440"/>
                    <a:pt x="280" y="1440"/>
                    <a:pt x="384" y="1392"/>
                  </a:cubicBezTo>
                  <a:cubicBezTo>
                    <a:pt x="488" y="1344"/>
                    <a:pt x="568" y="1232"/>
                    <a:pt x="624" y="1152"/>
                  </a:cubicBezTo>
                  <a:cubicBezTo>
                    <a:pt x="680" y="1072"/>
                    <a:pt x="680" y="1008"/>
                    <a:pt x="720" y="912"/>
                  </a:cubicBezTo>
                  <a:cubicBezTo>
                    <a:pt x="760" y="816"/>
                    <a:pt x="816" y="728"/>
                    <a:pt x="864" y="576"/>
                  </a:cubicBezTo>
                  <a:cubicBezTo>
                    <a:pt x="912" y="424"/>
                    <a:pt x="960" y="212"/>
                    <a:pt x="100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16600" y="4406760"/>
              <a:ext cx="75960" cy="1371600"/>
            </a:xfrm>
            <a:prstGeom prst="downArrow">
              <a:avLst>
                <a:gd name="adj1" fmla="val 50000"/>
                <a:gd name="adj2" fmla="val 4514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54480" y="3949560"/>
              <a:ext cx="172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IPT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95280" y="4508640"/>
            <a:ext cx="273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PTG = Isopropil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-D galactós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nálogo de lactosa, inductor del operon l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4497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" y="380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problema: ¿Cómo es posible identificar y aislar un gen determinado desde un genoma que contiene miles de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19360" y="3276720"/>
            <a:ext cx="7596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419360" y="1981080"/>
            <a:ext cx="2514600" cy="137160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Ge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Reacción de polimerización de cadenas de DNA (PC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610160" cy="6357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63868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97.152 c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8280" y="5943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800600"/>
            <a:ext cx="10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ciclos 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EQUERIMIENTOS PARA UNA REACCION DE PC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784692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s oligonucleótidos sintéticos, complementarios a los extremos del DNA de inte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 enzima DNA polimerasa termoestable (Taq DNA polimer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tro desoxirribonucleótidos (dATP, dCTP, dGTP, d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 secuencia de DNA "blanco“ o mol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627280" y="2565360"/>
            <a:ext cx="3746160" cy="1371600"/>
            <a:chOff x="2627280" y="2565360"/>
            <a:chExt cx="3746160" cy="1371600"/>
          </a:xfrm>
        </p:grpSpPr>
        <p:grpSp>
          <p:nvGrpSpPr>
            <p:cNvPr id="191" name=""/>
            <p:cNvGrpSpPr/>
            <p:nvPr/>
          </p:nvGrpSpPr>
          <p:grpSpPr>
            <a:xfrm>
              <a:off x="2627280" y="2565360"/>
              <a:ext cx="3746160" cy="1371600"/>
              <a:chOff x="2627280" y="2565360"/>
              <a:chExt cx="3746160" cy="13716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627280" y="2565360"/>
                <a:ext cx="3746160" cy="1371600"/>
                <a:chOff x="2627280" y="2565360"/>
                <a:chExt cx="3746160" cy="1371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73760" y="2841480"/>
                  <a:ext cx="265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173760" y="3296880"/>
                  <a:ext cx="265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448080" y="35712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5093640" y="265680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716560" y="2565360"/>
                  <a:ext cx="5482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´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627280" y="31140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16600" y="2656800"/>
                  <a:ext cx="4568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916600" y="3205440"/>
                  <a:ext cx="45684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'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449880" y="32968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41320" y="32968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32760" y="32968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24200" y="32968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87240" y="265680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78680" y="265680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70120" y="265680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61560" y="265680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389040" y="3174840"/>
              <a:ext cx="20574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89040" y="2793960"/>
              <a:ext cx="20574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3555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065560" y="2641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66800" y="947880"/>
            <a:ext cx="7610400" cy="4962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38280" y="3276720"/>
            <a:ext cx="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276720"/>
            <a:ext cx="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47760" y="40384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495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artidores complementarios al DNA de inte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é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60" y="268200"/>
            <a:ext cx="80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Reacción de Polimerización de cadenas (P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219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Si el gen que se quiere aislar está en el  DNA cromoso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donucleasas de restricción permiten fragmentar el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5214960" cy="400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1905120"/>
            <a:ext cx="28191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secuencias que son reconocidas por las Enzimas de restricción son  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palíndr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n extremos 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cohesivos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086600" cy="4497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5800" y="380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El problema: ¿Cómo es posible identificar y aislar un gen determinado desde un genoma que contiene miles de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55640" y="1844640"/>
            <a:ext cx="2514600" cy="137160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1773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e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4364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229280" cy="313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190760" cy="2895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11430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lonamiento de un gen X desde un ge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4197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Genoteca: conjunto de clones que contienen la totalidad de un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62320" y="1886040"/>
            <a:ext cx="6495840" cy="4456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3808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ada colonia representa un clon de bacterias genéticamente idénticas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522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ada colonia es un  conjunto de bacterias que tienen el mismo fragmento del genoma cl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5078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ot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686600">
            <a:off x="1218960" y="167616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4038480"/>
            <a:ext cx="266760" cy="1143000"/>
          </a:xfrm>
          <a:custGeom>
            <a:avLst/>
            <a:gdLst/>
            <a:ahLst/>
            <a:rect l="l" t="t" r="r" b="b"/>
            <a:pathLst>
              <a:path w="168" h="720">
                <a:moveTo>
                  <a:pt x="168" y="720"/>
                </a:moveTo>
                <a:cubicBezTo>
                  <a:pt x="108" y="680"/>
                  <a:pt x="48" y="640"/>
                  <a:pt x="24" y="576"/>
                </a:cubicBezTo>
                <a:cubicBezTo>
                  <a:pt x="0" y="512"/>
                  <a:pt x="16" y="432"/>
                  <a:pt x="24" y="336"/>
                </a:cubicBezTo>
                <a:cubicBezTo>
                  <a:pt x="32" y="240"/>
                  <a:pt x="52" y="120"/>
                  <a:pt x="7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01000" y="3200400"/>
            <a:ext cx="1143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acción de hibrid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6858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da radi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autorrad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9718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342900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286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Identificación de un clon que contiene el gen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5732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5111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143000" y="304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esnaturación d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rcación de DNA para generar una s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616640" cy="5224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3657600"/>
            <a:ext cx="2590920" cy="682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lnSpc>
                <a:spcPct val="8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DNA polimerasa + dNTPs (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CTP (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3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)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2895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124080"/>
            <a:ext cx="1905120" cy="7632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1344" y="96"/>
                </a:moveTo>
                <a:cubicBezTo>
                  <a:pt x="952" y="48"/>
                  <a:pt x="560" y="0"/>
                  <a:pt x="336" y="0"/>
                </a:cubicBezTo>
                <a:cubicBezTo>
                  <a:pt x="112" y="0"/>
                  <a:pt x="56" y="80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9718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960" y="144"/>
                </a:moveTo>
                <a:cubicBezTo>
                  <a:pt x="656" y="132"/>
                  <a:pt x="352" y="120"/>
                  <a:pt x="192" y="96"/>
                </a:cubicBezTo>
                <a:cubicBezTo>
                  <a:pt x="32" y="72"/>
                  <a:pt x="16" y="36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2057400"/>
            <a:ext cx="2210040" cy="449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t">
            <a:spAutoFit/>
          </a:bodyPr>
          <a:p>
            <a:pPr>
              <a:lnSpc>
                <a:spcPct val="8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Osaka"/>
              </a:rPr>
              <a:t>Desnatu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Sonda marcada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880240"/>
            <a:ext cx="1371600" cy="520560"/>
          </a:xfrm>
          <a:custGeom>
            <a:avLst/>
            <a:gdLst/>
            <a:ahLst/>
            <a:rect l="l" t="t" r="r" b="b"/>
            <a:pathLst>
              <a:path w="864" h="328">
                <a:moveTo>
                  <a:pt x="0" y="328"/>
                </a:moveTo>
                <a:cubicBezTo>
                  <a:pt x="168" y="204"/>
                  <a:pt x="336" y="80"/>
                  <a:pt x="480" y="40"/>
                </a:cubicBezTo>
                <a:cubicBezTo>
                  <a:pt x="624" y="0"/>
                  <a:pt x="744" y="44"/>
                  <a:pt x="864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715000"/>
            <a:ext cx="838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19920"/>
            <a:ext cx="838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6019920"/>
            <a:ext cx="838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5715000"/>
            <a:ext cx="838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* *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Otra forma de obtener una sonda: Traducción reversa de la secuencia de aminoácidos de una proteí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19320" y="2006640"/>
            <a:ext cx="67388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s enzimas de restri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53337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563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286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ELECTROFORESIS DE DNA: TÉCNICA PARA LA SEPARACIÓN DE FRAGMENTOS DE DNA DE DIFERENTE TAM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fragmentos de DNA producidos por corte con una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isma enzima de restricció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pueden ser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ligad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para formar moléculas de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NA recombin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24400" y="380880"/>
            <a:ext cx="47196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6744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Osaka"/>
              </a:rPr>
              <a:t>Clonamiento de un 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"/>
              </a:rPr>
              <a:t>Vectores de cl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smi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A extracromosomal circular, existente naturalmente en bacterias y levaduras, que se replica en forma autón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41008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301920" cy="3962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2666880" y="5333760"/>
            <a:ext cx="1067040" cy="759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029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en de re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 de resistencia a ampici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438280"/>
            <a:ext cx="1676520" cy="763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8288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 de resistencia a tetracic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67280" y="2133720"/>
            <a:ext cx="609840" cy="228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9144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tios de corte por 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00400" y="1752480"/>
            <a:ext cx="380880" cy="10670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1752480"/>
            <a:ext cx="2286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9051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aracterísticas de un vector de cl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867280" y="609480"/>
            <a:ext cx="28195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élula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241280"/>
            <a:ext cx="8076960" cy="4275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ransformación de bacterias con DNA plasmi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06668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Plasm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853240"/>
            <a:ext cx="61722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Comic Sans MS"/>
              </a:rPr>
              <a:t>Célula bacteriana transfor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6:23:49Z</dcterms:created>
  <dc:creator>Oriana Salazar</dc:creator>
  <dc:description/>
  <dc:language>en-US</dc:language>
  <cp:lastModifiedBy>Ing Quimica</cp:lastModifiedBy>
  <dcterms:modified xsi:type="dcterms:W3CDTF">2008-01-21T13:08:50Z</dcterms:modified>
  <cp:revision>136</cp:revision>
  <dc:subject/>
  <dc:title>Técnicas de Ingeniería Genética</dc:title>
</cp:coreProperties>
</file>