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F89-072F-4264-B6AC-8EED9A05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7BB-6F19-4651-8002-8CD894D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E7B-AD69-432B-87B1-A9A1EDE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E70-69D2-45B4-8671-7A93B092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286-A81E-462C-9770-51682064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B97F-5429-4FC3-A2F9-F3DD18C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A2F6-9852-421F-BB4E-C033CCF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2526-7026-4FF4-8003-E76473E4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16A-18A6-421C-A904-86BB6442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9FA6-53AE-4412-9A0C-D184AA83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2CF-7576-4D4B-97A4-177FE06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75D-264D-4F77-B96A-D72C0025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1902-33DE-47AB-9BDA-E35E7AC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24F6-74BD-4295-964F-F374598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A8D2-D1F3-46F9-A795-8E70B87B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A9D6-77C9-430E-A100-510C3E84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F38F-D8FC-4AFB-A2C0-06D756CE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9CE-F2B0-4190-88D4-3EF429E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591-D7CA-4F8B-913B-C6FB21C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6D2-A94B-4AD2-A028-0A3F9269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DB2-4A31-404B-950B-4857AAD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9A4-D508-4E8C-AA5C-D169296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D0C-C20F-466F-94EA-D7AFB26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E05-5118-4056-ACDD-EE87206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5 de Ener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41B-BAE2-48A4-AF02-EB78DA2B195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n esta clas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resión de los genes es controlada dependiendo del tipo celular, del tiempo de vida de la célula y de los nutrientes y factores de crecimiento del me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a nivel del inicio de la 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síntesis 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-galactosidasa es induc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775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16200000">
            <a:off x="359280" y="345024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ntración de Beta galactodasid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94360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cripción del operón lact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818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1148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6095880"/>
            <a:ext cx="6324480" cy="82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B-galactosid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perme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aceti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5638680"/>
            <a:ext cx="609480" cy="381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638680"/>
            <a:ext cx="609840" cy="45720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5715000"/>
            <a:ext cx="685800" cy="3808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120" y="404640"/>
            <a:ext cx="827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unción del operón lactosa (lac) es producir las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ridas para metabolizar lactosa y obtener energía cuando é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requerida por la cél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pasa en au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21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Y en pre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224240" cy="6283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rot="16200000">
            <a:off x="-1095480" y="269604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</a:rPr>
              <a:t>Nº de célula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43800">
            <a:off x="3170880" y="353376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 Beta galactosid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56386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4343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osa también regula la transcripción de los genes del metabolismo de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0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ucede cuando las bacterias están en presenci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lucosa y lact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sumen de la regulación del operón lac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286000"/>
            <a:ext cx="84582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uc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cAMP   Lact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Transcrip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operó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Ausent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transcri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Baja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Alto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Present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Alta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perón triptof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229600" cy="2791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388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zimas de la biosíntesis del aminoácido triptof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7200" y="1752480"/>
            <a:ext cx="8686800" cy="1282680"/>
            <a:chOff x="457200" y="1752480"/>
            <a:chExt cx="8686800" cy="1282680"/>
          </a:xfrm>
        </p:grpSpPr>
        <p:sp>
          <p:nvSpPr>
            <p:cNvPr id="296" name=""/>
            <p:cNvSpPr/>
            <p:nvPr/>
          </p:nvSpPr>
          <p:spPr>
            <a:xfrm>
              <a:off x="457200" y="1752480"/>
              <a:ext cx="86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S1         S2          S3       S4         S5        TRIPTOFAN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532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38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66680" y="22096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             B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C           D           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05320" cy="5715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</a:rPr>
              <a:t>Regulación de la transcripción del operón triptof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572000" y="1143000"/>
            <a:ext cx="4572000" cy="5715000"/>
            <a:chOff x="4572000" y="1143000"/>
            <a:chExt cx="4572000" cy="571500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4572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7162920" y="121932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Bacterias en medio </a:t>
              </a:r>
              <a:r>
                <a:rPr b="1" lang="es-ES_tradnl" sz="20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in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 triptof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743200" y="12193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Bacterias en medio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triptof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as las células de nuestro cuerpo tienen los mismos genes, pero no producen las mism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447920"/>
            <a:ext cx="3429000" cy="1381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(NUTRIENTES, HORMONAS, ET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1295280"/>
            <a:ext cx="3809880" cy="20595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f125"/>
                </a:solidFill>
                <a:latin typeface="Times New Roman"/>
              </a:rPr>
              <a:t>Activación o inactivación de gene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IPOS CELULARES</a:t>
            </a:r>
            <a:r>
              <a:rPr b="1" lang="es-ES_tradnl" sz="2400" spc="-1" strike="noStrike">
                <a:solidFill>
                  <a:srgbClr val="ecf12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13200">
            <a:off x="4343040" y="205740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095880" cy="3090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286000" y="4724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ós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mus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4648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. Ro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lá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mio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r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Neurotrans-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286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48000" y="0"/>
            <a:ext cx="5105520" cy="4191120"/>
          </a:xfrm>
          <a:prstGeom prst="ellipse">
            <a:avLst/>
          </a:prstGeom>
          <a:solidFill>
            <a:srgbClr val="99cc00">
              <a:alpha val="50000"/>
            </a:srgbClr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ÑALE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905120"/>
            <a:ext cx="18288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1905120"/>
            <a:ext cx="11430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905120"/>
            <a:ext cx="9144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6576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40384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7339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438280"/>
            <a:ext cx="0" cy="8384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332600">
            <a:off x="2816280" y="-611280"/>
            <a:ext cx="696960" cy="2208240"/>
          </a:xfrm>
          <a:custGeom>
            <a:avLst/>
            <a:gdLst>
              <a:gd name="textAreaLeft" fmla="*/ 93240 w 696960"/>
              <a:gd name="textAreaRight" fmla="*/ 603720 w 696960"/>
              <a:gd name="textAreaTop" fmla="*/ 386280 h 2208240"/>
              <a:gd name="textAreaBottom" fmla="*/ 160092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30680"/>
            <a:ext cx="83059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organimos multicelula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actores de crecimiento y hormonas, nutrientes, entre otros factores. La expresión de genes depende de tipo de célula y de la  etapa de diferenciación de las cél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14400" y="1828800"/>
            <a:ext cx="0" cy="274320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sibles puntos de regulación de la expresión de genes en eucari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658280" cy="3181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828800" y="44956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47242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gulación de la transcripción del gen de albúm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85960" y="3371760"/>
            <a:ext cx="268632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3371760"/>
            <a:ext cx="971280" cy="1159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43480" y="3371760"/>
            <a:ext cx="17136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325764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3560" y="33717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43560" y="3487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43560" y="36590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 de albu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43880" y="3544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15040" y="3830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160" y="2857680"/>
            <a:ext cx="914400" cy="514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29160" y="2800440"/>
            <a:ext cx="228600" cy="571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0064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tores de transcripción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29440" y="2514600"/>
            <a:ext cx="4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262908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2924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57840" y="308628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7560" y="30862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71760" y="2629080"/>
            <a:ext cx="57168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C/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72040" y="3371760"/>
            <a:ext cx="17136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71960" y="3371760"/>
            <a:ext cx="11448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371760"/>
            <a:ext cx="2286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57680" y="2571840"/>
            <a:ext cx="857160" cy="85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2819520"/>
            <a:ext cx="74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HNF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3371760"/>
            <a:ext cx="114300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600" y="3200400"/>
            <a:ext cx="1144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400120" y="3200400"/>
            <a:ext cx="1141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8596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2928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15280" y="4516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43448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43560" y="4230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867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12.00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2819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7524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467120" y="3124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14840" y="3048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72400" y="3352680"/>
            <a:ext cx="91440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53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5684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56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10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51055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giones “Enhancers” en el ADN se unen a  proteínas reguladoras de la transcri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eínas reguladoras unidas a “enhancers” actúan a distancia induciendo la curvatura del ADN, para permitir su acercamiento al complejo promotor con la RNA polimer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547640" y="1844640"/>
          <a:ext cx="53294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53294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Cómo se activa un gen en un tipo de célula  y no en otro?</a:t>
            </a: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26920" y="1989000"/>
            <a:ext cx="3382920" cy="3468600"/>
            <a:chOff x="826920" y="1989000"/>
            <a:chExt cx="3382920" cy="3468600"/>
          </a:xfrm>
        </p:grpSpPr>
        <p:sp>
          <p:nvSpPr>
            <p:cNvPr id="391" name=""/>
            <p:cNvSpPr/>
            <p:nvPr/>
          </p:nvSpPr>
          <p:spPr>
            <a:xfrm>
              <a:off x="826920" y="1989000"/>
              <a:ext cx="33829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A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albúmina se expresan porque las células de hígad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6920" y="3717720"/>
              <a:ext cx="338292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B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la proteína cristalino se expresan porque las células de cristalin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738680" y="1052640"/>
            <a:ext cx="4405320" cy="5503680"/>
            <a:chOff x="4738680" y="1052640"/>
            <a:chExt cx="4405320" cy="5503680"/>
          </a:xfrm>
        </p:grpSpPr>
        <p:graphicFrame>
          <p:nvGraphicFramePr>
            <p:cNvPr id="394" name=""/>
            <p:cNvGraphicFramePr/>
            <p:nvPr/>
          </p:nvGraphicFramePr>
          <p:xfrm>
            <a:off x="4738680" y="1052640"/>
            <a:ext cx="4359240" cy="550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1052640"/>
                      <a:ext cx="435924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5459400" y="119700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hepá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19760" y="1197000"/>
              <a:ext cx="1524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de crista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409920" y="0"/>
            <a:ext cx="573408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539640" y="2276640"/>
          <a:ext cx="2664000" cy="22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2664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105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os genes de globina en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11253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24360" y="620640"/>
            <a:ext cx="71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67280" y="692280"/>
            <a:ext cx="93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403280" y="1515960"/>
          <a:ext cx="72723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15960"/>
                    <a:ext cx="72723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zúcar lactosa induce la expresión de la enzim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galactosid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umento de temperatura a 42ºC induce la producción de proteínas de choque tér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roteína hemoglobina es producida sólo por glóbulos rojos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33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Arial"/>
              </a:rPr>
              <a:t>Ejemplo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Principal punto de regulación es la transcripción de los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requiere evitar desperdicio de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gulación de la acción de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be ser controlada lo más temprano posible en el proceso de expres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mecanismos de control transcripcional son de bajo costo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gulación es ejecutada por a través de la acción de proteínas reguladoras específicas, logra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resión o contr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egati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ación o contr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iti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IPOS DE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124080" cy="825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XPRESIÓN A UN NIVEL CONS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INACTIVOS QUE SE ACTIV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NDU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327672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ACTIVOS, PERO SE SILENCI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PR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1981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581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562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9900"/>
                </a:solidFill>
                <a:latin typeface="Arial"/>
              </a:rPr>
              <a:t>Un nuevo concep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tactos específicas entre secuencias de ADN y proteínas reguladoras son fundamentales en el control de la transcripción de los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¿Si ustedes fueran bacterias creciendo en un ambiente rico en aminoácidos, preferirían sintetizar sus propios aminoácidos o consumir los que ya están disponibles en el 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685800"/>
            <a:ext cx="2666880" cy="8254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D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609480"/>
            <a:ext cx="1752480" cy="1015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GE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8380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0099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914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99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609480"/>
            <a:ext cx="2057400" cy="1015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990720"/>
            <a:ext cx="152280" cy="533160"/>
          </a:xfrm>
          <a:prstGeom prst="up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0120" y="990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20574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Cuales son las señales que afectan la expresión de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expresión de genes responde a la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ucarion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la expresión de genes varía dependiendo del tipo de célula, del grado de diferenciación de las células, de factores de crecimiento y hormonas, entre otros fac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ferentes tipos celulares tienen distintas proteínas y 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Tipo de célul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ó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Proteínas principales que      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Músculo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vimiento de partes del cuerp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Mi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iel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tiene los órganos y tejid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untos y forma una capa continua,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quer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tecto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euro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duce las señales nerviosa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receptores de superfici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a parte a otra del cuerp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para neurotransmiso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Gl. rojos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porte de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 el flujo sanguíne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00032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52280" y="457200"/>
            <a:ext cx="46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ostración de que todas las células adultas (diferenciadas) de un organismo multicelular tienen el mismo material genético. Lo que las distingue es la expresión de los g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6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952880" y="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Control de la expresión de genes por hormo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0"/>
            <a:ext cx="762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152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Receptor de hor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ómo se activa un gen en un tipo de célula  y no en otro?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00000" y="1644480"/>
            <a:ext cx="7162920" cy="52135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800600" y="1219320"/>
            <a:ext cx="1523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cleo de células hep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64360" y="1341360"/>
            <a:ext cx="1523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cleo de células de cristal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591080" cy="5905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60948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Regulación de la expresión de genes ocurre principalmente en la etapa de la 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tran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7524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400" y="111240"/>
            <a:ext cx="860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structura  de un promotor en procari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560" y="5415120"/>
            <a:ext cx="3004920" cy="1053000"/>
            <a:chOff x="250560" y="5415120"/>
            <a:chExt cx="3004920" cy="1053000"/>
          </a:xfrm>
        </p:grpSpPr>
        <p:sp>
          <p:nvSpPr>
            <p:cNvPr id="119" name=""/>
            <p:cNvSpPr/>
            <p:nvPr/>
          </p:nvSpPr>
          <p:spPr>
            <a:xfrm>
              <a:off x="74556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98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42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61400" y="607068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4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5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03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49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8516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032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93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65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41320" y="5415120"/>
            <a:ext cx="2852640" cy="1053000"/>
            <a:chOff x="4441320" y="5415120"/>
            <a:chExt cx="2852640" cy="1053000"/>
          </a:xfrm>
        </p:grpSpPr>
        <p:grpSp>
          <p:nvGrpSpPr>
            <p:cNvPr id="132" name=""/>
            <p:cNvGrpSpPr/>
            <p:nvPr/>
          </p:nvGrpSpPr>
          <p:grpSpPr>
            <a:xfrm>
              <a:off x="4441320" y="5415120"/>
              <a:ext cx="520200" cy="1053000"/>
              <a:chOff x="4441320" y="5415120"/>
              <a:chExt cx="520200" cy="1053000"/>
            </a:xfrm>
          </p:grpSpPr>
          <p:sp>
            <p:nvSpPr>
              <p:cNvPr id="133" name=""/>
              <p:cNvSpPr/>
              <p:nvPr/>
            </p:nvSpPr>
            <p:spPr>
              <a:xfrm>
                <a:off x="446652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4132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9760" y="5415120"/>
              <a:ext cx="520200" cy="1053000"/>
              <a:chOff x="5279760" y="5415120"/>
              <a:chExt cx="520200" cy="1053000"/>
            </a:xfrm>
          </p:grpSpPr>
          <p:sp>
            <p:nvSpPr>
              <p:cNvPr id="136" name=""/>
              <p:cNvSpPr/>
              <p:nvPr/>
            </p:nvSpPr>
            <p:spPr>
              <a:xfrm>
                <a:off x="530460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7976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575040" y="5415120"/>
              <a:ext cx="718920" cy="1053000"/>
              <a:chOff x="6575040" y="5415120"/>
              <a:chExt cx="718920" cy="1053000"/>
            </a:xfrm>
          </p:grpSpPr>
          <p:sp>
            <p:nvSpPr>
              <p:cNvPr id="139" name=""/>
              <p:cNvSpPr/>
              <p:nvPr/>
            </p:nvSpPr>
            <p:spPr>
              <a:xfrm>
                <a:off x="6599880" y="607068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7504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60720" y="5415120"/>
              <a:ext cx="520200" cy="1053000"/>
              <a:chOff x="4860720" y="5415120"/>
              <a:chExt cx="520200" cy="1053000"/>
            </a:xfrm>
          </p:grpSpPr>
          <p:sp>
            <p:nvSpPr>
              <p:cNvPr id="142" name=""/>
              <p:cNvSpPr/>
              <p:nvPr/>
            </p:nvSpPr>
            <p:spPr>
              <a:xfrm>
                <a:off x="488556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6072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98800" y="5415120"/>
              <a:ext cx="520200" cy="1053000"/>
              <a:chOff x="5698800" y="5415120"/>
              <a:chExt cx="520200" cy="1053000"/>
            </a:xfrm>
          </p:grpSpPr>
          <p:sp>
            <p:nvSpPr>
              <p:cNvPr id="145" name=""/>
              <p:cNvSpPr/>
              <p:nvPr/>
            </p:nvSpPr>
            <p:spPr>
              <a:xfrm>
                <a:off x="572364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9880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156000" y="5415120"/>
              <a:ext cx="520200" cy="1053000"/>
              <a:chOff x="6156000" y="5415120"/>
              <a:chExt cx="520200" cy="105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618084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5600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2124720" y="6400800"/>
            <a:ext cx="389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encias de consen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51320" y="4365720"/>
            <a:ext cx="42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io de unicio de la transcri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6560" y="5084640"/>
            <a:ext cx="2116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ja Prib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1557360"/>
            <a:ext cx="9296280" cy="2210760"/>
            <a:chOff x="250920" y="1557360"/>
            <a:chExt cx="9296280" cy="2210760"/>
          </a:xfrm>
        </p:grpSpPr>
        <p:sp>
          <p:nvSpPr>
            <p:cNvPr id="154" name=""/>
            <p:cNvSpPr/>
            <p:nvPr/>
          </p:nvSpPr>
          <p:spPr>
            <a:xfrm>
              <a:off x="250920" y="25635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920" y="32493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5000" y="33098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45560" y="3309840"/>
              <a:ext cx="70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3400" y="330984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07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264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800" y="2014560"/>
              <a:ext cx="190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6400" y="1785960"/>
              <a:ext cx="42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1160" y="1557360"/>
              <a:ext cx="10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38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38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ACT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6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86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86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TA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04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89800" y="256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Proteínas reguladoras de la tran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Ayudan a la RNA polimerasa a unirse con mayor fuerza al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 de la velocidad de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m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resor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iden la transcripción por la RNA polim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ción de la velocida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íntesis d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52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5715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400800" y="66294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533520"/>
            <a:ext cx="8229600" cy="6172200"/>
            <a:chOff x="152280" y="533520"/>
            <a:chExt cx="8229600" cy="6172200"/>
          </a:xfrm>
        </p:grpSpPr>
        <p:sp>
          <p:nvSpPr>
            <p:cNvPr id="179" name=""/>
            <p:cNvSpPr/>
            <p:nvPr/>
          </p:nvSpPr>
          <p:spPr>
            <a:xfrm flipH="1">
              <a:off x="106632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1905120"/>
              <a:ext cx="167616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190512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19520" y="1905120"/>
              <a:ext cx="1066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638680" y="1599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8680" y="1600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914400"/>
              <a:ext cx="12952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8380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0080" y="281952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43800" y="2743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2057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18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1295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53352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CIÓN DE LA TRANSCRIP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14300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4800600"/>
              <a:ext cx="167652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480060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480060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150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4495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4114800"/>
              <a:ext cx="1524240" cy="76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5000" y="37339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activ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57150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6748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0120" y="56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852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11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9492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4191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4038480"/>
              <a:ext cx="1600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28800" y="2590920"/>
              <a:ext cx="12193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40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96" y="44"/>
                    <a:pt x="192" y="88"/>
                    <a:pt x="240" y="144"/>
                  </a:cubicBezTo>
                  <a:cubicBezTo>
                    <a:pt x="288" y="200"/>
                    <a:pt x="280" y="304"/>
                    <a:pt x="288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35053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8680" y="58672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1320" y="60199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61722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63244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8520" y="64771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1828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4724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280" y="15238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H="1">
            <a:off x="9907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182880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14300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8288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5627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1066680"/>
            <a:ext cx="129564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7432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74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4264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510552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10552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64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343400"/>
            <a:ext cx="129528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5105520"/>
            <a:ext cx="7617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962520"/>
            <a:ext cx="60984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IÓN DE LA TRAN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572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43240" y="44956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1828800"/>
            <a:ext cx="53352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895480"/>
            <a:ext cx="60984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04812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cubicBezTo>
                  <a:pt x="140" y="0"/>
                  <a:pt x="280" y="0"/>
                  <a:pt x="384" y="48"/>
                </a:cubicBezTo>
                <a:cubicBezTo>
                  <a:pt x="488" y="96"/>
                  <a:pt x="584" y="248"/>
                  <a:pt x="624" y="28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operón lactosa en bacte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219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los genes de las enzimas que permiten hidrolizar el disacárido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86200" y="1057320"/>
            <a:ext cx="43624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8:46:15Z</dcterms:created>
  <dc:creator>Oriana Salazar</dc:creator>
  <dc:description/>
  <dc:language>en-US</dc:language>
  <cp:lastModifiedBy>Ing Quimica</cp:lastModifiedBy>
  <dcterms:modified xsi:type="dcterms:W3CDTF">2008-01-16T16:27:45Z</dcterms:modified>
  <cp:revision>209</cp:revision>
  <dc:subject/>
  <dc:title>Presentación de PowerPoint</dc:title>
</cp:coreProperties>
</file>