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E4C0-E6B5-412C-B085-5128BD12C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9E71-1D3F-404D-9F8C-9FDEAAAB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070A-9FA2-4DAC-9F1C-9531B6B5D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1FEC-5F95-440E-910A-2E7CCE55B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A880-ABA0-40BD-8DAF-5AFBF8310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99D9-856D-47B0-A278-1038496F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24F6-9183-4510-B842-C84571A8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EC87-6D24-4734-96CA-7D4782CB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BDB7-212A-4795-962D-BED79479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989D-D86B-4321-8B52-5FB37443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1F74-7508-4A8D-ADE0-D19C56E2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966D-089B-49AF-B783-9D55DE3B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3176-5E04-426D-89DB-F53DDDD1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DB08-B31D-4501-B850-5E7E2349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3425-7040-4129-A557-9D7D11F3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C8E1-F222-45EB-9351-4869F4836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D3CA-0FF3-4058-A460-B48AD3142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F3D5-7D44-443B-8A56-928BBB25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B91C-1212-436D-A478-552E1840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5302-1B9B-4A14-B428-F83EB9C6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F54B-909B-4EC9-B92F-CAB3D200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ED38-DEFD-47B6-83FC-5D8ADA72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4C91-C707-4101-8435-7AFD0DDF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14BD-0337-48A1-8AA1-9657274F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15 de Enero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05C3-D2D0-475D-B4DE-19FB3AD3B6C7}" type="slidenum">
              <a:rPr b="0" lang="es-E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En esta clase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expresión de los genes es controlada dependiendo del tipo celular, del tiempo de vida de la célula y de los nutrientes y factores de crecimiento del med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gulación de la expresión génica en procario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aso del operón la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aso del operón triptof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gulación de la expresión génica en eucario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gulación a nivel del inicio de la transcri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La síntesis de 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-galactosidasa es induc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162560" cy="47754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 rot="16200000">
            <a:off x="359280" y="3450240"/>
            <a:ext cx="2667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ncentración de Beta galactodasid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943600"/>
            <a:ext cx="304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empo (minut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scripción del operón lacto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620120" cy="48182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1148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14600" y="6095880"/>
            <a:ext cx="6324480" cy="8254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B-galactosida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2400" spc="-1" strike="noStrike">
                <a:solidFill>
                  <a:srgbClr val="ff9900"/>
                </a:solidFill>
                <a:latin typeface="Comic Sans MS"/>
              </a:rPr>
              <a:t>permea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0066"/>
                </a:solidFill>
                <a:latin typeface="Comic Sans MS"/>
              </a:rPr>
              <a:t>acetil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34120" y="5638680"/>
            <a:ext cx="609480" cy="38124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638680"/>
            <a:ext cx="609840" cy="457200"/>
          </a:xfrm>
          <a:prstGeom prst="ellipse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391520" y="5715000"/>
            <a:ext cx="685800" cy="380880"/>
          </a:xfrm>
          <a:prstGeom prst="ellipse">
            <a:avLst/>
          </a:prstGeom>
          <a:solidFill>
            <a:srgbClr val="ff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4120" y="404640"/>
            <a:ext cx="82746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función del operón lactosa (lac) es producir las enz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eridas para metabolizar lactosa y obtener energía cuando é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 requerida por la célu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¿Qué pasa en ausencia de lactosa..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762120" y="213372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¿Y en presencia de lactosa..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3915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-190440" y="-4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4224240" cy="628344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 rot="16200000">
            <a:off x="-1095480" y="2696040"/>
            <a:ext cx="4572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</a:rPr>
              <a:t>Nº de células/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16243800">
            <a:off x="3170880" y="3533760"/>
            <a:ext cx="3505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ct Beta galactosid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05120" y="5638680"/>
            <a:ext cx="266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empo (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86400" y="4343400"/>
            <a:ext cx="312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Glucosa también regula la transcripción de los genes del metabolismo de lact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410080" y="38088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sucede cuando las bacterias están en presencia de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glucosa y lacto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77120" y="2514600"/>
            <a:ext cx="457200" cy="1219320"/>
          </a:xfrm>
          <a:prstGeom prst="downArrow">
            <a:avLst>
              <a:gd name="adj1" fmla="val 50000"/>
              <a:gd name="adj2" fmla="val 66673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807696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Resumen de la regulación del operón lacto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2286000"/>
            <a:ext cx="84582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lucos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cAMP   Lactos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Transcrip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ó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l operón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t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ajo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Ausente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No transcri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ta      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ajo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Present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aja transcrip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aja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to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sente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transcri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Times New Roman"/>
              </a:rPr>
              <a:t>Baja</a:t>
            </a:r>
            <a:r>
              <a:rPr b="1" lang="es-ES" sz="2400" spc="-1" strike="noStrike">
                <a:solidFill>
                  <a:srgbClr val="00ff00"/>
                </a:solidFill>
                <a:latin typeface="Times New Roman"/>
              </a:rPr>
              <a:t>          </a:t>
            </a:r>
            <a:r>
              <a:rPr b="1" lang="es-ES_tradnl" sz="2400" spc="-1" strike="noStrike">
                <a:solidFill>
                  <a:srgbClr val="00ff00"/>
                </a:solidFill>
                <a:latin typeface="Times New Roman"/>
              </a:rPr>
              <a:t>  Alto </a:t>
            </a:r>
            <a:r>
              <a:rPr b="1" lang="es-ES" sz="24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es-ES" sz="2400" spc="-1" strike="noStrike">
                <a:solidFill>
                  <a:srgbClr val="00ff00"/>
                </a:solidFill>
                <a:latin typeface="Times New Roman"/>
              </a:rPr>
              <a:t>  Present</a:t>
            </a:r>
            <a:r>
              <a:rPr b="1" lang="es-ES_tradnl" sz="24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1" lang="es-ES" sz="24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1" lang="es-ES_tradnl" sz="24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ff00"/>
                </a:solidFill>
                <a:latin typeface="Times New Roman"/>
              </a:rPr>
              <a:t>Alta transcri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50292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Operón triptof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8229600" cy="279108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523880" y="603576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zimas de la biosíntesis del aminoácido triptof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57200" y="1752480"/>
            <a:ext cx="8686800" cy="1282680"/>
            <a:chOff x="457200" y="1752480"/>
            <a:chExt cx="8686800" cy="1282680"/>
          </a:xfrm>
        </p:grpSpPr>
        <p:sp>
          <p:nvSpPr>
            <p:cNvPr id="296" name=""/>
            <p:cNvSpPr/>
            <p:nvPr/>
          </p:nvSpPr>
          <p:spPr>
            <a:xfrm>
              <a:off x="457200" y="1752480"/>
              <a:ext cx="86868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S1         S2          S3       S4         S5        TRIPTOFANO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143000" y="1905120"/>
              <a:ext cx="380880" cy="152280"/>
            </a:xfrm>
            <a:prstGeom prst="rightArrow">
              <a:avLst>
                <a:gd name="adj1" fmla="val 50000"/>
                <a:gd name="adj2" fmla="val 62530"/>
              </a:avLst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0" y="1905120"/>
              <a:ext cx="380880" cy="152280"/>
            </a:xfrm>
            <a:prstGeom prst="rightArrow">
              <a:avLst>
                <a:gd name="adj1" fmla="val 50000"/>
                <a:gd name="adj2" fmla="val 62530"/>
              </a:avLst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505320" y="1905120"/>
              <a:ext cx="380880" cy="152280"/>
            </a:xfrm>
            <a:prstGeom prst="rightArrow">
              <a:avLst>
                <a:gd name="adj1" fmla="val 50000"/>
                <a:gd name="adj2" fmla="val 62530"/>
              </a:avLst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209680" y="1905120"/>
              <a:ext cx="381240" cy="152280"/>
            </a:xfrm>
            <a:prstGeom prst="rightArrow">
              <a:avLst>
                <a:gd name="adj1" fmla="val 50000"/>
                <a:gd name="adj2" fmla="val 62589"/>
              </a:avLst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38680" y="1905120"/>
              <a:ext cx="381240" cy="152280"/>
            </a:xfrm>
            <a:prstGeom prst="rightArrow">
              <a:avLst>
                <a:gd name="adj1" fmla="val 50000"/>
                <a:gd name="adj2" fmla="val 62589"/>
              </a:avLst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066680" y="2209680"/>
              <a:ext cx="594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             B   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      C           D           E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4405320" cy="57150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304920" y="22860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Arial"/>
              </a:rPr>
              <a:t>Regulación de la transcripción del operón triptof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4572000" y="1143000"/>
            <a:ext cx="4572000" cy="5715000"/>
            <a:chOff x="4572000" y="1143000"/>
            <a:chExt cx="4572000" cy="5715000"/>
          </a:xfrm>
        </p:grpSpPr>
        <p:pic>
          <p:nvPicPr>
            <p:cNvPr id="306" name="" descr=""/>
            <p:cNvPicPr/>
            <p:nvPr/>
          </p:nvPicPr>
          <p:blipFill>
            <a:blip r:embed="rId2"/>
            <a:stretch/>
          </p:blipFill>
          <p:spPr>
            <a:xfrm>
              <a:off x="4572000" y="1143000"/>
              <a:ext cx="457200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7162920" y="1219320"/>
              <a:ext cx="1828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3300"/>
                  </a:solidFill>
                  <a:latin typeface="Comic Sans MS"/>
                </a:rPr>
                <a:t>Bacterias en medio </a:t>
              </a:r>
              <a:r>
                <a:rPr b="1" lang="es-ES_tradnl" sz="2000" spc="-1" strike="noStrike" u="sng">
                  <a:solidFill>
                    <a:srgbClr val="ff3300"/>
                  </a:solidFill>
                  <a:uFillTx/>
                  <a:latin typeface="Comic Sans MS"/>
                </a:rPr>
                <a:t>sin</a:t>
              </a:r>
              <a:r>
                <a:rPr b="0" lang="es-ES_tradnl" sz="2000" spc="-1" strike="noStrike">
                  <a:solidFill>
                    <a:srgbClr val="ff3300"/>
                  </a:solidFill>
                  <a:latin typeface="Comic Sans MS"/>
                </a:rPr>
                <a:t> triptofa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2743200" y="121932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Bacterias en medio </a:t>
            </a:r>
            <a:r>
              <a:rPr b="1" lang="es-ES_tradnl" sz="2000" spc="-1" strike="noStrike" u="sng">
                <a:solidFill>
                  <a:srgbClr val="ff3300"/>
                </a:solidFill>
                <a:uFillTx/>
                <a:latin typeface="Comic Sans MS"/>
              </a:rPr>
              <a:t>con</a:t>
            </a: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 triptof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57400" y="5791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transcri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odas las células de nuestro cuerpo tienen los mismos genes, pero no producen las mismas proteí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1447920"/>
            <a:ext cx="3429000" cy="138168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Times New Roman"/>
              </a:rPr>
              <a:t>SEÑALES 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Times New Roman"/>
              </a:rPr>
              <a:t>(NUTRIENTES, HORMONAS, ET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029200" y="1295280"/>
            <a:ext cx="3809880" cy="205956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f125"/>
                </a:solidFill>
                <a:latin typeface="Times New Roman"/>
              </a:rPr>
              <a:t>Activación o inactivación de genes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TIPOS CELULARES</a:t>
            </a:r>
            <a:r>
              <a:rPr b="1" lang="es-ES_tradnl" sz="2400" spc="-1" strike="noStrike">
                <a:solidFill>
                  <a:srgbClr val="ecf125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16213200">
            <a:off x="4343040" y="2057400"/>
            <a:ext cx="53352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6095880" cy="30909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2286000" y="47242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Osaka"/>
              </a:rPr>
              <a:t>T. ós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09880" y="47242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Osaka"/>
              </a:rPr>
              <a:t>T. musc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95880" y="46483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Osaka"/>
              </a:rPr>
              <a:t>neuro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33720" y="632448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Osaka"/>
              </a:rPr>
              <a:t>G. Ro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48120" y="54864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Osaka"/>
              </a:rPr>
              <a:t>Pi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3886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colá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5562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Osaka"/>
              </a:rPr>
              <a:t>hemoglob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276720" y="31240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mios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34120" y="5715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quera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238880" y="41148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Neurotrans-mis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781680" y="22860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348000" y="0"/>
            <a:ext cx="5105520" cy="4191120"/>
          </a:xfrm>
          <a:prstGeom prst="ellipse">
            <a:avLst/>
          </a:prstGeom>
          <a:solidFill>
            <a:srgbClr val="99cc00">
              <a:alpha val="50000"/>
            </a:srgbClr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6858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ÑALES AMBI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1905120"/>
            <a:ext cx="1828800" cy="7596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1905120"/>
            <a:ext cx="1143000" cy="7596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86200" y="1905120"/>
            <a:ext cx="914400" cy="7596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9152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7800" y="3886200"/>
            <a:ext cx="76320" cy="7632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3657600"/>
            <a:ext cx="76320" cy="7632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3962520"/>
            <a:ext cx="76320" cy="7596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4114800"/>
            <a:ext cx="76320" cy="7632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67280" y="4267080"/>
            <a:ext cx="76320" cy="7632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3886200"/>
            <a:ext cx="76320" cy="7632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3733920"/>
            <a:ext cx="76320" cy="7596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72200" y="4038480"/>
            <a:ext cx="76320" cy="7632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77120" y="3733920"/>
            <a:ext cx="75960" cy="7596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77120" y="3962520"/>
            <a:ext cx="75960" cy="7596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38680" y="2438280"/>
            <a:ext cx="0" cy="838440"/>
          </a:xfrm>
          <a:prstGeom prst="line">
            <a:avLst/>
          </a:prstGeom>
          <a:ln cap="sq" w="507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332600">
            <a:off x="2816280" y="-611280"/>
            <a:ext cx="696960" cy="2208240"/>
          </a:xfrm>
          <a:custGeom>
            <a:avLst/>
            <a:gdLst>
              <a:gd name="textAreaLeft" fmla="*/ 93240 w 696960"/>
              <a:gd name="textAreaRight" fmla="*/ 603720 w 696960"/>
              <a:gd name="textAreaTop" fmla="*/ 386280 h 2208240"/>
              <a:gd name="textAreaBottom" fmla="*/ 1600920 h 220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630680"/>
            <a:ext cx="830592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bacteri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Presencia o ausencia de nutrientes, temperatura, oxígeno, pH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organimos multicelulare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Factores de crecimiento y hormonas, nutrientes, entre otros factores. La expresión de genes depende de tipo de célula y de la  etapa de diferenciación de las célu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914400" y="1828800"/>
            <a:ext cx="0" cy="2743200"/>
          </a:xfrm>
          <a:prstGeom prst="line">
            <a:avLst/>
          </a:prstGeom>
          <a:ln cap="sq" w="63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Posibles puntos de regulación de la expresión de genes en eucario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7658280" cy="31813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828800" y="4495680"/>
            <a:ext cx="304920" cy="6098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76720" y="47242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095880" y="3809880"/>
            <a:ext cx="304920" cy="6098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467480" y="3809880"/>
            <a:ext cx="304920" cy="6098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572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gulación de la transcripción del gen de albúm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00800" y="2133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RN polimer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685960" y="3371760"/>
            <a:ext cx="2686320" cy="11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72280" y="3371760"/>
            <a:ext cx="971280" cy="115920"/>
          </a:xfrm>
          <a:prstGeom prst="rec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543480" y="3371760"/>
            <a:ext cx="171360" cy="1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429000" y="3257640"/>
            <a:ext cx="57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343560" y="3371760"/>
            <a:ext cx="80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43560" y="3487680"/>
            <a:ext cx="74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343560" y="365904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Gen de album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6743880" y="354492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15040" y="383076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romo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29160" y="2857680"/>
            <a:ext cx="914400" cy="5140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429160" y="2800440"/>
            <a:ext cx="228600" cy="5713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400640" y="20574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Factores de transcripción ba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229440" y="2514600"/>
            <a:ext cx="45720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029200" y="2629080"/>
            <a:ext cx="22860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629240" y="3029040"/>
            <a:ext cx="857160" cy="34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57840" y="3086280"/>
            <a:ext cx="62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Times New Roman"/>
              </a:rPr>
              <a:t>A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86200" y="3029040"/>
            <a:ext cx="857160" cy="34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057560" y="3086280"/>
            <a:ext cx="8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Times New Roman"/>
              </a:rPr>
              <a:t>A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371760" y="2629080"/>
            <a:ext cx="571680" cy="742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352680" y="2743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Times New Roman"/>
              </a:rPr>
              <a:t>C/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72040" y="3371760"/>
            <a:ext cx="171360" cy="11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971960" y="3371760"/>
            <a:ext cx="114480" cy="11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00400" y="3371760"/>
            <a:ext cx="22860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857680" y="2571840"/>
            <a:ext cx="857160" cy="858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19520" y="2819520"/>
            <a:ext cx="74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Times New Roman"/>
              </a:rPr>
              <a:t>HNF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143000" y="3371760"/>
            <a:ext cx="1143000" cy="11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2514600" y="3200400"/>
            <a:ext cx="114480" cy="4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2400120" y="3200400"/>
            <a:ext cx="114120" cy="4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85960" y="45165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229280" y="45165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57600" y="4191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30p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515280" y="45165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4344840"/>
            <a:ext cx="6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343560" y="423072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5867280" y="3657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143000" y="4343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-12.000p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23880" y="2819520"/>
            <a:ext cx="53352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0020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6668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han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75248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7467120" y="31240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7314840" y="304812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772400" y="3352680"/>
            <a:ext cx="914400" cy="152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8153280" y="3657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620120" y="3962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han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543800" y="4419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456840" y="3352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45684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610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68680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33520" y="510552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giones “Enhancers” en el ADN se unen a  proteínas reguladoras de la transcrip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6705720" cy="444492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914400" y="304920"/>
            <a:ext cx="7391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teínas reguladoras unidas a “enhancers” actúan a distancia induciendo la curvatura del ADN, para permitir su acercamiento al complejo promotor con la RNA polimerasa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"/>
          <p:cNvGraphicFramePr/>
          <p:nvPr/>
        </p:nvGraphicFramePr>
        <p:xfrm>
          <a:off x="1547640" y="1844640"/>
          <a:ext cx="5329440" cy="30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844640"/>
                    <a:ext cx="5329440" cy="30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0000"/>
                </a:solidFill>
                <a:latin typeface="Arial"/>
              </a:rPr>
              <a:t>Cómo se activa un gen en un tipo de célula  y no en otro?</a:t>
            </a:r>
            <a:r>
              <a:rPr b="0" lang="es-ES" sz="4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826920" y="1989000"/>
            <a:ext cx="3382920" cy="3468600"/>
            <a:chOff x="826920" y="1989000"/>
            <a:chExt cx="3382920" cy="3468600"/>
          </a:xfrm>
        </p:grpSpPr>
        <p:sp>
          <p:nvSpPr>
            <p:cNvPr id="391" name=""/>
            <p:cNvSpPr/>
            <p:nvPr/>
          </p:nvSpPr>
          <p:spPr>
            <a:xfrm>
              <a:off x="826920" y="1989000"/>
              <a:ext cx="3382920" cy="146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cc0000"/>
                  </a:solidFill>
                  <a:latin typeface="Tahoma"/>
                  <a:ea typeface="Osaka"/>
                </a:rPr>
                <a:t>En el esquema A</a:t>
              </a:r>
              <a:r>
                <a:rPr b="0" lang="es-CL" sz="1800" spc="-1" strike="noStrike">
                  <a:solidFill>
                    <a:srgbClr val="000000"/>
                  </a:solidFill>
                  <a:latin typeface="Tahoma"/>
                  <a:ea typeface="Osaka"/>
                </a:rPr>
                <a:t>, los genes de albúmina se expresan porque las células de hígado tienen los activadores necesarios para ese g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26920" y="3717720"/>
              <a:ext cx="3382920" cy="173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cc0000"/>
                  </a:solidFill>
                  <a:latin typeface="Tahoma"/>
                  <a:ea typeface="Osaka"/>
                </a:rPr>
                <a:t>En el esquema B</a:t>
              </a:r>
              <a:r>
                <a:rPr b="0" lang="es-CL" sz="1800" spc="-1" strike="noStrike">
                  <a:solidFill>
                    <a:srgbClr val="000000"/>
                  </a:solidFill>
                  <a:latin typeface="Tahoma"/>
                  <a:ea typeface="Osaka"/>
                </a:rPr>
                <a:t>, los genes de la proteína cristalino se expresan porque las células de cristalino tienen los activadores necesarios para ese g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4738680" y="1052640"/>
            <a:ext cx="4405320" cy="5503680"/>
            <a:chOff x="4738680" y="1052640"/>
            <a:chExt cx="4405320" cy="5503680"/>
          </a:xfrm>
        </p:grpSpPr>
        <p:graphicFrame>
          <p:nvGraphicFramePr>
            <p:cNvPr id="394" name=""/>
            <p:cNvGraphicFramePr/>
            <p:nvPr/>
          </p:nvGraphicFramePr>
          <p:xfrm>
            <a:off x="4738680" y="1052640"/>
            <a:ext cx="4359240" cy="550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9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38680" y="1052640"/>
                      <a:ext cx="4359240" cy="550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6" name=""/>
            <p:cNvSpPr/>
            <p:nvPr/>
          </p:nvSpPr>
          <p:spPr>
            <a:xfrm>
              <a:off x="5459400" y="1197000"/>
              <a:ext cx="152388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Núcleo de células hepát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619760" y="1197000"/>
              <a:ext cx="152424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Núcleo de células de cristali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3409920" y="0"/>
            <a:ext cx="5734080" cy="638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9" name=""/>
          <p:cNvGraphicFramePr/>
          <p:nvPr/>
        </p:nvGraphicFramePr>
        <p:xfrm>
          <a:off x="539640" y="2276640"/>
          <a:ext cx="2664000" cy="224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2276640"/>
                    <a:ext cx="2664000" cy="22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4105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gulación de los genes de globina en huma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885080" y="112536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imes New Roman"/>
                <a:ea typeface="Osaka"/>
              </a:rPr>
              <a:t>2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imes New Roman"/>
                <a:ea typeface="Osak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724360" y="620640"/>
            <a:ext cx="719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imes New Roman"/>
                <a:ea typeface="Osaka"/>
              </a:rPr>
              <a:t>2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imes New Roman"/>
                <a:ea typeface="Osak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067280" y="692280"/>
            <a:ext cx="93636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imes New Roman"/>
                <a:ea typeface="Osaka"/>
              </a:rPr>
              <a:t>2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imes New Roman"/>
                <a:ea typeface="Osak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30556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1403280" y="1515960"/>
          <a:ext cx="7272360" cy="44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15960"/>
                    <a:ext cx="7272360" cy="44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azúcar lactosa induce la expresión de la enzima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-galactosida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aumento de temperatura a 42ºC induce la producción de proteínas de choque térm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proteína hemoglobina es producida sólo por glóbulos rojos 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5335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000099"/>
                </a:solidFill>
                <a:uFillTx/>
                <a:latin typeface="Arial"/>
              </a:rPr>
              <a:t>Ejemplo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9"/>
                </a:solidFill>
                <a:latin typeface="Arial"/>
              </a:rPr>
              <a:t>Principal punto de regulación es la transcripción de los g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requiere evitar desperdicio de energ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regulación de la acción de un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te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be ser controlada lo más temprano posible en el proceso de expresión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s mecanismos de control transcripcional son de bajo costo.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regulación es ejecutada por a través de la acción de proteínas reguladoras específicas, logrand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presión o control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egativ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ctivación o control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ositiv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Arial"/>
              </a:rPr>
              <a:t>TIPOS DE GE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523880"/>
            <a:ext cx="3124080" cy="8254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EXPRESIÓN A UN NIVEL CONSTA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1905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CONTITU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666880"/>
            <a:ext cx="3200400" cy="15570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GENES INACTIVOS QUE SE ACTIVAN BAJO CIERTAS COND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35053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INDUC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4572000"/>
            <a:ext cx="3276720" cy="15570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GENES ACTIVOS, PERO SE SILENCIAN BAJO CIERTAS COND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91320" y="54100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REPRES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19810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43400" y="35812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43400" y="556272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9900"/>
                </a:solidFill>
                <a:latin typeface="Arial"/>
              </a:rPr>
              <a:t>Un nuevo concepto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ontactos específicas entre secuencias de ADN y proteínas reguladoras son fundamentales en el control de la transcripción de los g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¿Si ustedes fueran bacterias creciendo en un ambiente rico en aminoácidos, preferirían sintetizar sus propios aminoácidos o consumir los que ya están disponibles en el med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457200" y="685800"/>
            <a:ext cx="2666880" cy="82548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Times New Roman"/>
              </a:rPr>
              <a:t>SEÑALES DEL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962520" y="609480"/>
            <a:ext cx="1752480" cy="101592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ÉL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(GE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276720" y="8380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000099"/>
          </a:solidFill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943600" y="9144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000099"/>
          </a:solidFill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629400" y="609480"/>
            <a:ext cx="2057400" cy="101592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391520" y="990720"/>
            <a:ext cx="152280" cy="533160"/>
          </a:xfrm>
          <a:prstGeom prst="upArrow">
            <a:avLst>
              <a:gd name="adj1" fmla="val 50000"/>
              <a:gd name="adj2" fmla="val 87530"/>
            </a:avLst>
          </a:prstGeom>
          <a:solidFill>
            <a:srgbClr val="ffffff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20120" y="990720"/>
            <a:ext cx="152280" cy="533160"/>
          </a:xfrm>
          <a:prstGeom prst="downArrow">
            <a:avLst>
              <a:gd name="adj1" fmla="val 50000"/>
              <a:gd name="adj2" fmla="val 87530"/>
            </a:avLst>
          </a:prstGeom>
          <a:solidFill>
            <a:srgbClr val="ffffff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990720" y="2057400"/>
            <a:ext cx="739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¿Cuales son las señales que afectan la expresión de los gen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685800" y="34290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bacteria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expresión de genes responde a la presencia o ausencia de nutrientes, temperatura, oxígeno, pH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eucarionte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la expresión de genes varía dependiendo del tipo de célula, del grado de diferenciación de las células, de factores de crecimiento y hormonas, entre otros facto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Diferentes tipos celulares tienen distintas proteínas y fun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Tipo de célul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unc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ó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2400" spc="-1" strike="noStrike">
                <a:solidFill>
                  <a:srgbClr val="33cc33"/>
                </a:solidFill>
                <a:latin typeface="Arial"/>
              </a:rPr>
              <a:t>Proteínas principales que       </a:t>
            </a:r>
            <a:r>
              <a:rPr b="1" lang="es-ES_tradnl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33cc33"/>
                </a:solidFill>
                <a:latin typeface="Arial"/>
              </a:rPr>
              <a:t>pro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Músculo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ovimiento de partes del cuerpo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2000" spc="-1" strike="noStrike">
                <a:solidFill>
                  <a:srgbClr val="00cc00"/>
                </a:solidFill>
                <a:latin typeface="Arial"/>
              </a:rPr>
              <a:t>Mioglob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Piel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antiene los órganos y tejidos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juntos y forma una capa continua,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cc00"/>
                </a:solidFill>
                <a:latin typeface="Arial"/>
              </a:rPr>
              <a:t>quera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tector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neuron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duce las señales nerviosa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cc00"/>
                </a:solidFill>
                <a:latin typeface="Arial"/>
              </a:rPr>
              <a:t>receptores de superficie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sde una parte a otra del cuerpo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cc00"/>
                </a:solidFill>
                <a:latin typeface="Arial"/>
              </a:rPr>
              <a:t>para neurotransmisore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Gl. rojos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ransporte de O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y CO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en el flujo sanguíneo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cc00"/>
                </a:solidFill>
                <a:latin typeface="Arial"/>
              </a:rPr>
              <a:t>Hemoglob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4000320" cy="68580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52280" y="457200"/>
            <a:ext cx="4648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mostración de que todas las células adultas (diferenciadas) de un organismo multicelular tienen el mismo material genético. Lo que las distingue es la expresión de los ge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64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4952880" y="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8080"/>
                </a:solidFill>
                <a:latin typeface="Arial"/>
              </a:rPr>
              <a:t>Control de la expresión de genes por hormon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981080" y="0"/>
            <a:ext cx="7621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38080" y="15228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8080"/>
                </a:solidFill>
                <a:latin typeface="Arial"/>
              </a:rPr>
              <a:t>Receptor de horm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Cómo se activa un gen en un tipo de célula  y no en otro?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900000" y="1644480"/>
            <a:ext cx="7162920" cy="52135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4800600" y="1219320"/>
            <a:ext cx="15238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Núcleo de células hep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164360" y="1341360"/>
            <a:ext cx="15238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Núcleo de células de cristali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9880" y="533520"/>
            <a:ext cx="4591080" cy="5905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28600" y="609480"/>
            <a:ext cx="3581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Arial"/>
              </a:rPr>
              <a:t>Regulación de la expresión de genes ocurre principalmente en la etapa de la </a:t>
            </a:r>
            <a:r>
              <a:rPr b="1" lang="es-ES_tradnl" sz="3200" spc="-1" strike="noStrike">
                <a:solidFill>
                  <a:srgbClr val="a50021"/>
                </a:solidFill>
                <a:latin typeface="Arial"/>
              </a:rPr>
              <a:t>transcrip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1752480"/>
            <a:ext cx="990360" cy="533520"/>
          </a:xfrm>
          <a:prstGeom prst="rightArrow">
            <a:avLst>
              <a:gd name="adj1" fmla="val 50000"/>
              <a:gd name="adj2" fmla="val 464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20400" y="111240"/>
            <a:ext cx="860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structura  de un promotor en procario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50560" y="5415120"/>
            <a:ext cx="3004920" cy="1053000"/>
            <a:chOff x="250560" y="5415120"/>
            <a:chExt cx="3004920" cy="1053000"/>
          </a:xfrm>
        </p:grpSpPr>
        <p:sp>
          <p:nvSpPr>
            <p:cNvPr id="119" name=""/>
            <p:cNvSpPr/>
            <p:nvPr/>
          </p:nvSpPr>
          <p:spPr>
            <a:xfrm>
              <a:off x="745560" y="6070680"/>
              <a:ext cx="46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89800" y="6070680"/>
              <a:ext cx="46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04200" y="6070680"/>
              <a:ext cx="46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61400" y="6070680"/>
              <a:ext cx="694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5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5400" y="6070680"/>
              <a:ext cx="46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0560" y="5415120"/>
              <a:ext cx="52020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20360" y="5415120"/>
              <a:ext cx="52020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164960" y="5415120"/>
              <a:ext cx="52020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ourier New"/>
                </a:rPr>
                <a:t>G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85160" y="6070680"/>
              <a:ext cx="46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60320" y="5415120"/>
              <a:ext cx="52020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79360" y="5415120"/>
              <a:ext cx="52020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36560" y="5415120"/>
              <a:ext cx="52020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441320" y="5415120"/>
            <a:ext cx="2852640" cy="1053000"/>
            <a:chOff x="4441320" y="5415120"/>
            <a:chExt cx="2852640" cy="1053000"/>
          </a:xfrm>
        </p:grpSpPr>
        <p:grpSp>
          <p:nvGrpSpPr>
            <p:cNvPr id="132" name=""/>
            <p:cNvGrpSpPr/>
            <p:nvPr/>
          </p:nvGrpSpPr>
          <p:grpSpPr>
            <a:xfrm>
              <a:off x="4441320" y="5415120"/>
              <a:ext cx="520200" cy="1053000"/>
              <a:chOff x="4441320" y="5415120"/>
              <a:chExt cx="520200" cy="1053000"/>
            </a:xfrm>
          </p:grpSpPr>
          <p:sp>
            <p:nvSpPr>
              <p:cNvPr id="133" name=""/>
              <p:cNvSpPr/>
              <p:nvPr/>
            </p:nvSpPr>
            <p:spPr>
              <a:xfrm>
                <a:off x="4466520" y="6070680"/>
                <a:ext cx="46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7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441320" y="5415120"/>
                <a:ext cx="520200" cy="7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5279760" y="5415120"/>
              <a:ext cx="520200" cy="1053000"/>
              <a:chOff x="5279760" y="5415120"/>
              <a:chExt cx="520200" cy="1053000"/>
            </a:xfrm>
          </p:grpSpPr>
          <p:sp>
            <p:nvSpPr>
              <p:cNvPr id="136" name=""/>
              <p:cNvSpPr/>
              <p:nvPr/>
            </p:nvSpPr>
            <p:spPr>
              <a:xfrm>
                <a:off x="5304600" y="6070680"/>
                <a:ext cx="46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79760" y="5415120"/>
                <a:ext cx="520200" cy="7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6575040" y="5415120"/>
              <a:ext cx="718920" cy="1053000"/>
              <a:chOff x="6575040" y="5415120"/>
              <a:chExt cx="718920" cy="1053000"/>
            </a:xfrm>
          </p:grpSpPr>
          <p:sp>
            <p:nvSpPr>
              <p:cNvPr id="139" name=""/>
              <p:cNvSpPr/>
              <p:nvPr/>
            </p:nvSpPr>
            <p:spPr>
              <a:xfrm>
                <a:off x="6599880" y="607068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6%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575040" y="5415120"/>
                <a:ext cx="520200" cy="7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4860720" y="5415120"/>
              <a:ext cx="520200" cy="1053000"/>
              <a:chOff x="4860720" y="5415120"/>
              <a:chExt cx="520200" cy="1053000"/>
            </a:xfrm>
          </p:grpSpPr>
          <p:sp>
            <p:nvSpPr>
              <p:cNvPr id="142" name=""/>
              <p:cNvSpPr/>
              <p:nvPr/>
            </p:nvSpPr>
            <p:spPr>
              <a:xfrm>
                <a:off x="4885560" y="6070680"/>
                <a:ext cx="46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860720" y="5415120"/>
                <a:ext cx="520200" cy="7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698800" y="5415120"/>
              <a:ext cx="520200" cy="1053000"/>
              <a:chOff x="5698800" y="5415120"/>
              <a:chExt cx="520200" cy="1053000"/>
            </a:xfrm>
          </p:grpSpPr>
          <p:sp>
            <p:nvSpPr>
              <p:cNvPr id="145" name=""/>
              <p:cNvSpPr/>
              <p:nvPr/>
            </p:nvSpPr>
            <p:spPr>
              <a:xfrm>
                <a:off x="5723640" y="6070680"/>
                <a:ext cx="46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698800" y="5415120"/>
                <a:ext cx="520200" cy="7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156000" y="5415120"/>
              <a:ext cx="520200" cy="1053000"/>
              <a:chOff x="6156000" y="5415120"/>
              <a:chExt cx="520200" cy="1053000"/>
            </a:xfrm>
          </p:grpSpPr>
          <p:sp>
            <p:nvSpPr>
              <p:cNvPr id="148" name=""/>
              <p:cNvSpPr/>
              <p:nvPr/>
            </p:nvSpPr>
            <p:spPr>
              <a:xfrm>
                <a:off x="6180840" y="6070680"/>
                <a:ext cx="468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156000" y="5415120"/>
                <a:ext cx="520200" cy="7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" name=""/>
          <p:cNvSpPr/>
          <p:nvPr/>
        </p:nvSpPr>
        <p:spPr>
          <a:xfrm>
            <a:off x="2124720" y="6400800"/>
            <a:ext cx="389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encias de consen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51320" y="4365720"/>
            <a:ext cx="4252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tio de unicio de la transcrip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86560" y="5084640"/>
            <a:ext cx="2116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ja Prib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50920" y="1557360"/>
            <a:ext cx="9296280" cy="2210760"/>
            <a:chOff x="250920" y="1557360"/>
            <a:chExt cx="9296280" cy="2210760"/>
          </a:xfrm>
        </p:grpSpPr>
        <p:sp>
          <p:nvSpPr>
            <p:cNvPr id="154" name=""/>
            <p:cNvSpPr/>
            <p:nvPr/>
          </p:nvSpPr>
          <p:spPr>
            <a:xfrm>
              <a:off x="250920" y="2563560"/>
              <a:ext cx="9144000" cy="0"/>
            </a:xfrm>
            <a:prstGeom prst="line">
              <a:avLst/>
            </a:prstGeom>
            <a:ln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0920" y="3249360"/>
              <a:ext cx="9144000" cy="0"/>
            </a:xfrm>
            <a:prstGeom prst="line">
              <a:avLst/>
            </a:prstGeom>
            <a:ln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45000" y="330984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845560" y="3309840"/>
              <a:ext cx="701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73400" y="330984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30760" y="3309840"/>
              <a:ext cx="625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82640" y="3309840"/>
              <a:ext cx="625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3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5960" y="3309840"/>
              <a:ext cx="625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3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489800" y="2014560"/>
              <a:ext cx="1905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016400" y="1785960"/>
              <a:ext cx="421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31160" y="1557360"/>
              <a:ext cx="1081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43840" y="2547720"/>
              <a:ext cx="1282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TTGA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43840" y="2852640"/>
              <a:ext cx="1282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ACTG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5600" y="2090520"/>
              <a:ext cx="1641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gión -3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58640" y="2547720"/>
              <a:ext cx="1282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TATA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58640" y="2852640"/>
              <a:ext cx="1282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TAT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30400" y="2090520"/>
              <a:ext cx="1641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gión -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489800" y="25635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 flipV="1">
            <a:off x="7451640" y="3789000"/>
            <a:ext cx="0" cy="647640"/>
          </a:xfrm>
          <a:prstGeom prst="line">
            <a:avLst/>
          </a:prstGeom>
          <a:ln cap="sq"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3300"/>
                </a:solidFill>
                <a:latin typeface="Arial"/>
              </a:rPr>
              <a:t>Proteínas reguladoras de la transcrip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ctivador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Ayudan a la RNA polimerasa a unirse con mayor fuerza al PROMO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umento de la velocidad de    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íntesis de mR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presore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Impiden la transcripción por la RNA polimer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isminución de la velocidad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 síntesis de m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3352680"/>
            <a:ext cx="1295640" cy="304920"/>
          </a:xfrm>
          <a:prstGeom prst="rightArrow">
            <a:avLst>
              <a:gd name="adj1" fmla="val 50000"/>
              <a:gd name="adj2" fmla="val 1062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571500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400800" y="6629400"/>
            <a:ext cx="1523880" cy="228600"/>
          </a:xfrm>
          <a:custGeom>
            <a:avLst/>
            <a:gdLst/>
            <a:ahLst/>
            <a:rect l="l" t="t" r="r" b="b"/>
            <a:pathLst>
              <a:path w="960" h="144">
                <a:moveTo>
                  <a:pt x="0" y="48"/>
                </a:moveTo>
                <a:cubicBezTo>
                  <a:pt x="92" y="96"/>
                  <a:pt x="184" y="144"/>
                  <a:pt x="240" y="144"/>
                </a:cubicBezTo>
                <a:cubicBezTo>
                  <a:pt x="296" y="144"/>
                  <a:pt x="272" y="56"/>
                  <a:pt x="336" y="48"/>
                </a:cubicBezTo>
                <a:cubicBezTo>
                  <a:pt x="400" y="40"/>
                  <a:pt x="536" y="96"/>
                  <a:pt x="624" y="96"/>
                </a:cubicBezTo>
                <a:cubicBezTo>
                  <a:pt x="712" y="96"/>
                  <a:pt x="808" y="64"/>
                  <a:pt x="864" y="48"/>
                </a:cubicBezTo>
                <a:cubicBezTo>
                  <a:pt x="920" y="32"/>
                  <a:pt x="944" y="8"/>
                  <a:pt x="9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52280" y="533520"/>
            <a:ext cx="8229600" cy="6172200"/>
            <a:chOff x="152280" y="533520"/>
            <a:chExt cx="8229600" cy="6172200"/>
          </a:xfrm>
        </p:grpSpPr>
        <p:sp>
          <p:nvSpPr>
            <p:cNvPr id="179" name=""/>
            <p:cNvSpPr/>
            <p:nvPr/>
          </p:nvSpPr>
          <p:spPr>
            <a:xfrm flipH="1">
              <a:off x="1066320" y="213372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34120" y="1905120"/>
              <a:ext cx="1676160" cy="22860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86200" y="1905120"/>
              <a:ext cx="1523880" cy="228600"/>
            </a:xfrm>
            <a:prstGeom prst="rect">
              <a:avLst/>
            </a:prstGeom>
            <a:solidFill>
              <a:srgbClr val="d8ee0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819520" y="1905120"/>
              <a:ext cx="10666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5638680" y="1599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638680" y="16002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14800" y="914400"/>
              <a:ext cx="1295280" cy="9907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38680" y="83808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cripción Bas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10080" y="2819520"/>
              <a:ext cx="1524240" cy="228600"/>
            </a:xfrm>
            <a:custGeom>
              <a:avLst/>
              <a:gdLst/>
              <a:ahLst/>
              <a:rect l="l" t="t" r="r" b="b"/>
              <a:pathLst>
                <a:path w="960" h="144">
                  <a:moveTo>
                    <a:pt x="0" y="48"/>
                  </a:moveTo>
                  <a:cubicBezTo>
                    <a:pt x="92" y="96"/>
                    <a:pt x="184" y="144"/>
                    <a:pt x="240" y="144"/>
                  </a:cubicBezTo>
                  <a:cubicBezTo>
                    <a:pt x="296" y="144"/>
                    <a:pt x="272" y="56"/>
                    <a:pt x="336" y="48"/>
                  </a:cubicBezTo>
                  <a:cubicBezTo>
                    <a:pt x="400" y="40"/>
                    <a:pt x="536" y="96"/>
                    <a:pt x="624" y="96"/>
                  </a:cubicBezTo>
                  <a:cubicBezTo>
                    <a:pt x="712" y="96"/>
                    <a:pt x="808" y="64"/>
                    <a:pt x="864" y="48"/>
                  </a:cubicBezTo>
                  <a:cubicBezTo>
                    <a:pt x="920" y="32"/>
                    <a:pt x="944" y="8"/>
                    <a:pt x="96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391520" y="1905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43800" y="27432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72200" y="2286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114800" y="20574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mo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1218960" y="19051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91120" y="129528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Arial"/>
                </a:rPr>
                <a:t>RNA p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9480" y="533520"/>
              <a:ext cx="266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CTIVACIÓN DE LA TRANSCRIP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1143000" y="50292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410080" y="4800600"/>
              <a:ext cx="1676520" cy="22860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962520" y="4800600"/>
              <a:ext cx="1523880" cy="228600"/>
            </a:xfrm>
            <a:prstGeom prst="rect">
              <a:avLst/>
            </a:prstGeom>
            <a:solidFill>
              <a:srgbClr val="d8ee0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4800600"/>
              <a:ext cx="106704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5715000" y="4495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15000" y="44956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38480" y="4114800"/>
              <a:ext cx="1524240" cy="7621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15000" y="373392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cripción activ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86400" y="5715000"/>
              <a:ext cx="1523880" cy="228600"/>
            </a:xfrm>
            <a:custGeom>
              <a:avLst/>
              <a:gdLst/>
              <a:ahLst/>
              <a:rect l="l" t="t" r="r" b="b"/>
              <a:pathLst>
                <a:path w="960" h="144">
                  <a:moveTo>
                    <a:pt x="0" y="48"/>
                  </a:moveTo>
                  <a:cubicBezTo>
                    <a:pt x="92" y="96"/>
                    <a:pt x="184" y="144"/>
                    <a:pt x="240" y="144"/>
                  </a:cubicBezTo>
                  <a:cubicBezTo>
                    <a:pt x="296" y="144"/>
                    <a:pt x="272" y="56"/>
                    <a:pt x="336" y="48"/>
                  </a:cubicBezTo>
                  <a:cubicBezTo>
                    <a:pt x="400" y="40"/>
                    <a:pt x="536" y="96"/>
                    <a:pt x="624" y="96"/>
                  </a:cubicBezTo>
                  <a:cubicBezTo>
                    <a:pt x="712" y="96"/>
                    <a:pt x="808" y="64"/>
                    <a:pt x="864" y="48"/>
                  </a:cubicBezTo>
                  <a:cubicBezTo>
                    <a:pt x="920" y="32"/>
                    <a:pt x="944" y="8"/>
                    <a:pt x="96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467480" y="48006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20120" y="5638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48520" y="5181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91120" y="50292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mo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1294920" y="48006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67080" y="4191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Arial"/>
                </a:rPr>
                <a:t>RNA p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200400" y="4038480"/>
              <a:ext cx="1600200" cy="914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28800" y="2590920"/>
              <a:ext cx="1219320" cy="838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00400" y="3276720"/>
              <a:ext cx="457200" cy="533160"/>
            </a:xfrm>
            <a:custGeom>
              <a:avLst/>
              <a:gdLst/>
              <a:ahLst/>
              <a:rect l="l" t="t" r="r" b="b"/>
              <a:pathLst>
                <a:path w="288" h="336">
                  <a:moveTo>
                    <a:pt x="0" y="0"/>
                  </a:moveTo>
                  <a:cubicBezTo>
                    <a:pt x="96" y="44"/>
                    <a:pt x="192" y="88"/>
                    <a:pt x="240" y="144"/>
                  </a:cubicBezTo>
                  <a:cubicBezTo>
                    <a:pt x="288" y="200"/>
                    <a:pt x="280" y="304"/>
                    <a:pt x="288" y="33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2120" y="350532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CTIV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38680" y="5867280"/>
              <a:ext cx="1524240" cy="228600"/>
            </a:xfrm>
            <a:custGeom>
              <a:avLst/>
              <a:gdLst/>
              <a:ahLst/>
              <a:rect l="l" t="t" r="r" b="b"/>
              <a:pathLst>
                <a:path w="960" h="144">
                  <a:moveTo>
                    <a:pt x="0" y="48"/>
                  </a:moveTo>
                  <a:cubicBezTo>
                    <a:pt x="92" y="96"/>
                    <a:pt x="184" y="144"/>
                    <a:pt x="240" y="144"/>
                  </a:cubicBezTo>
                  <a:cubicBezTo>
                    <a:pt x="296" y="144"/>
                    <a:pt x="272" y="56"/>
                    <a:pt x="336" y="48"/>
                  </a:cubicBezTo>
                  <a:cubicBezTo>
                    <a:pt x="400" y="40"/>
                    <a:pt x="536" y="96"/>
                    <a:pt x="624" y="96"/>
                  </a:cubicBezTo>
                  <a:cubicBezTo>
                    <a:pt x="712" y="96"/>
                    <a:pt x="808" y="64"/>
                    <a:pt x="864" y="48"/>
                  </a:cubicBezTo>
                  <a:cubicBezTo>
                    <a:pt x="920" y="32"/>
                    <a:pt x="944" y="8"/>
                    <a:pt x="96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91320" y="6019920"/>
              <a:ext cx="1523880" cy="228600"/>
            </a:xfrm>
            <a:custGeom>
              <a:avLst/>
              <a:gdLst/>
              <a:ahLst/>
              <a:rect l="l" t="t" r="r" b="b"/>
              <a:pathLst>
                <a:path w="960" h="144">
                  <a:moveTo>
                    <a:pt x="0" y="48"/>
                  </a:moveTo>
                  <a:cubicBezTo>
                    <a:pt x="92" y="96"/>
                    <a:pt x="184" y="144"/>
                    <a:pt x="240" y="144"/>
                  </a:cubicBezTo>
                  <a:cubicBezTo>
                    <a:pt x="296" y="144"/>
                    <a:pt x="272" y="56"/>
                    <a:pt x="336" y="48"/>
                  </a:cubicBezTo>
                  <a:cubicBezTo>
                    <a:pt x="400" y="40"/>
                    <a:pt x="536" y="96"/>
                    <a:pt x="624" y="96"/>
                  </a:cubicBezTo>
                  <a:cubicBezTo>
                    <a:pt x="712" y="96"/>
                    <a:pt x="808" y="64"/>
                    <a:pt x="864" y="48"/>
                  </a:cubicBezTo>
                  <a:cubicBezTo>
                    <a:pt x="920" y="32"/>
                    <a:pt x="944" y="8"/>
                    <a:pt x="96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43600" y="6172200"/>
              <a:ext cx="1523880" cy="228600"/>
            </a:xfrm>
            <a:custGeom>
              <a:avLst/>
              <a:gdLst/>
              <a:ahLst/>
              <a:rect l="l" t="t" r="r" b="b"/>
              <a:pathLst>
                <a:path w="960" h="144">
                  <a:moveTo>
                    <a:pt x="0" y="48"/>
                  </a:moveTo>
                  <a:cubicBezTo>
                    <a:pt x="92" y="96"/>
                    <a:pt x="184" y="144"/>
                    <a:pt x="240" y="144"/>
                  </a:cubicBezTo>
                  <a:cubicBezTo>
                    <a:pt x="296" y="144"/>
                    <a:pt x="272" y="56"/>
                    <a:pt x="336" y="48"/>
                  </a:cubicBezTo>
                  <a:cubicBezTo>
                    <a:pt x="400" y="40"/>
                    <a:pt x="536" y="96"/>
                    <a:pt x="624" y="96"/>
                  </a:cubicBezTo>
                  <a:cubicBezTo>
                    <a:pt x="712" y="96"/>
                    <a:pt x="808" y="64"/>
                    <a:pt x="864" y="48"/>
                  </a:cubicBezTo>
                  <a:cubicBezTo>
                    <a:pt x="920" y="32"/>
                    <a:pt x="944" y="8"/>
                    <a:pt x="96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95880" y="6324480"/>
              <a:ext cx="1524240" cy="228600"/>
            </a:xfrm>
            <a:custGeom>
              <a:avLst/>
              <a:gdLst/>
              <a:ahLst/>
              <a:rect l="l" t="t" r="r" b="b"/>
              <a:pathLst>
                <a:path w="960" h="144">
                  <a:moveTo>
                    <a:pt x="0" y="48"/>
                  </a:moveTo>
                  <a:cubicBezTo>
                    <a:pt x="92" y="96"/>
                    <a:pt x="184" y="144"/>
                    <a:pt x="240" y="144"/>
                  </a:cubicBezTo>
                  <a:cubicBezTo>
                    <a:pt x="296" y="144"/>
                    <a:pt x="272" y="56"/>
                    <a:pt x="336" y="48"/>
                  </a:cubicBezTo>
                  <a:cubicBezTo>
                    <a:pt x="400" y="40"/>
                    <a:pt x="536" y="96"/>
                    <a:pt x="624" y="96"/>
                  </a:cubicBezTo>
                  <a:cubicBezTo>
                    <a:pt x="712" y="96"/>
                    <a:pt x="808" y="64"/>
                    <a:pt x="864" y="48"/>
                  </a:cubicBezTo>
                  <a:cubicBezTo>
                    <a:pt x="920" y="32"/>
                    <a:pt x="944" y="8"/>
                    <a:pt x="96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48520" y="6477120"/>
              <a:ext cx="1523880" cy="228600"/>
            </a:xfrm>
            <a:custGeom>
              <a:avLst/>
              <a:gdLst/>
              <a:ahLst/>
              <a:rect l="l" t="t" r="r" b="b"/>
              <a:pathLst>
                <a:path w="960" h="144">
                  <a:moveTo>
                    <a:pt x="0" y="48"/>
                  </a:moveTo>
                  <a:cubicBezTo>
                    <a:pt x="92" y="96"/>
                    <a:pt x="184" y="144"/>
                    <a:pt x="240" y="144"/>
                  </a:cubicBezTo>
                  <a:cubicBezTo>
                    <a:pt x="296" y="144"/>
                    <a:pt x="272" y="56"/>
                    <a:pt x="336" y="48"/>
                  </a:cubicBezTo>
                  <a:cubicBezTo>
                    <a:pt x="400" y="40"/>
                    <a:pt x="536" y="96"/>
                    <a:pt x="624" y="96"/>
                  </a:cubicBezTo>
                  <a:cubicBezTo>
                    <a:pt x="712" y="96"/>
                    <a:pt x="808" y="64"/>
                    <a:pt x="864" y="48"/>
                  </a:cubicBezTo>
                  <a:cubicBezTo>
                    <a:pt x="920" y="32"/>
                    <a:pt x="944" y="8"/>
                    <a:pt x="96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67280" y="18288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G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43600" y="47242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G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2280" y="152388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8600" y="4495680"/>
              <a:ext cx="106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 flipH="1">
            <a:off x="990720" y="20574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86400" y="1828800"/>
            <a:ext cx="1676520" cy="2286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9880" y="1828800"/>
            <a:ext cx="1143000" cy="228600"/>
          </a:xfrm>
          <a:prstGeom prst="rect">
            <a:avLst/>
          </a:prstGeom>
          <a:solidFill>
            <a:srgbClr val="d8ee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43200" y="1828800"/>
            <a:ext cx="10666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55627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62720" y="1523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38480" y="1066680"/>
            <a:ext cx="1295640" cy="7621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562720" y="762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cri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4120" y="2743200"/>
            <a:ext cx="1523880" cy="228600"/>
          </a:xfrm>
          <a:custGeom>
            <a:avLst/>
            <a:gdLst/>
            <a:ahLst/>
            <a:rect l="l" t="t" r="r" b="b"/>
            <a:pathLst>
              <a:path w="960" h="144">
                <a:moveTo>
                  <a:pt x="0" y="48"/>
                </a:moveTo>
                <a:cubicBezTo>
                  <a:pt x="92" y="96"/>
                  <a:pt x="184" y="144"/>
                  <a:pt x="240" y="144"/>
                </a:cubicBezTo>
                <a:cubicBezTo>
                  <a:pt x="296" y="144"/>
                  <a:pt x="272" y="56"/>
                  <a:pt x="336" y="48"/>
                </a:cubicBezTo>
                <a:cubicBezTo>
                  <a:pt x="400" y="40"/>
                  <a:pt x="536" y="96"/>
                  <a:pt x="624" y="96"/>
                </a:cubicBezTo>
                <a:cubicBezTo>
                  <a:pt x="712" y="96"/>
                  <a:pt x="808" y="64"/>
                  <a:pt x="864" y="48"/>
                </a:cubicBezTo>
                <a:cubicBezTo>
                  <a:pt x="920" y="32"/>
                  <a:pt x="944" y="8"/>
                  <a:pt x="9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315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467480" y="2666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58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9880" y="2057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mo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142640" y="1828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14800" y="1219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RNA p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81480" y="5105520"/>
            <a:ext cx="1676520" cy="2286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00400" y="5105520"/>
            <a:ext cx="1219320" cy="228600"/>
          </a:xfrm>
          <a:prstGeom prst="rect">
            <a:avLst/>
          </a:prstGeom>
          <a:solidFill>
            <a:srgbClr val="d8ee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33720" y="5105520"/>
            <a:ext cx="10666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5486400" y="4800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86400" y="48006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76720" y="4343400"/>
            <a:ext cx="1295280" cy="7621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86400" y="3886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Transcri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38880" y="5105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71800" y="5334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mo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066320" y="5105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4572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RNA p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19720" y="5105520"/>
            <a:ext cx="7617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360" y="5334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67080" y="5334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oper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3962520"/>
            <a:ext cx="609840" cy="1218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29718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4572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PRESIÓN DE LA TRANSCRIP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15000" y="4572000"/>
            <a:ext cx="106668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943240" y="4495680"/>
            <a:ext cx="60948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52880" y="1828800"/>
            <a:ext cx="533520" cy="228600"/>
          </a:xfrm>
          <a:prstGeom prst="rect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09680" y="2895480"/>
            <a:ext cx="609840" cy="1219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48120" y="3048120"/>
            <a:ext cx="990360" cy="457200"/>
          </a:xfrm>
          <a:custGeom>
            <a:avLst/>
            <a:gdLst/>
            <a:ahLst/>
            <a:rect l="l" t="t" r="r" b="b"/>
            <a:pathLst>
              <a:path w="624" h="288">
                <a:moveTo>
                  <a:pt x="0" y="0"/>
                </a:moveTo>
                <a:cubicBezTo>
                  <a:pt x="140" y="0"/>
                  <a:pt x="280" y="0"/>
                  <a:pt x="384" y="48"/>
                </a:cubicBezTo>
                <a:cubicBezTo>
                  <a:pt x="488" y="96"/>
                  <a:pt x="584" y="248"/>
                  <a:pt x="624" y="288"/>
                </a:cubicBezTo>
              </a:path>
            </a:pathLst>
          </a:custGeom>
          <a:noFill/>
          <a:ln cap="sq" w="38160">
            <a:solidFill>
              <a:srgbClr val="000000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l operón lactosa en bacte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121932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tiene los genes de las enzimas que permiten hidrolizar el disacárido lact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886200" y="1057320"/>
            <a:ext cx="436248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7T18:46:15Z</dcterms:created>
  <dc:creator>Oriana Salazar</dc:creator>
  <dc:description/>
  <dc:language>en-US</dc:language>
  <cp:lastModifiedBy>Ing Quimica</cp:lastModifiedBy>
  <dcterms:modified xsi:type="dcterms:W3CDTF">2008-01-16T16:27:45Z</dcterms:modified>
  <cp:revision>209</cp:revision>
  <dc:subject/>
  <dc:title>Presentación de PowerPoint</dc:title>
</cp:coreProperties>
</file>