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4A39-0463-4F60-96BA-6F8BD749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63EC-2153-4842-AFE6-9BAFF3CE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45A0-D3FD-4C40-9609-97C2FB45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1D2-71ED-462E-AD25-9012657D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55C6-4D1A-47CF-8F87-B71D65E2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0DA2-27BF-4DC7-AD94-FD49FEEF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5CC1-CE38-4899-89D0-6AEC74B7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7025-8214-468A-B459-0FE1D33C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BCD2-ADE3-4ECD-9876-9AF3D5AA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AA49-A3A0-479B-8119-D35E789A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97B8-9C8B-4BFF-ACFC-D1B569B3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1DAE-2CA2-45CA-B816-20DC99C9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DCA3-891B-4DE2-96DD-FD31BD11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6979-AE8A-4CDF-8BA0-12F38373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7B2A-B82B-42A2-B2EF-CF97F10C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C0C1-B9B8-41B0-A92A-036E5BC0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A28A-2925-4EDA-BF4E-8A652932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0300-5896-46A6-ADE3-B0A96DBF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5CC-9D1E-4E05-B497-0BBB2F31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794-1D63-489F-A948-8C20E958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149-7AA0-4F13-9B5B-39CB7356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1E3-C111-4B15-8732-81A4B442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2A0E-AC10-48A5-9C65-257A643A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5E5-1F6D-46DB-9F23-CFAD0749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15 de Ener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31E9-3D1A-4428-BBC2-F8E1A46C9EE2}" type="slidenum"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En esta clase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xpresión de los genes es controlada dependiendo del tipo celular, del tiempo de vida de la célula y de los nutrientes y factores de crecimiento del med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ulación de la expresión génica en pro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aso del operón 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aso del operón triptof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ulación de la expresión génica en eu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a nivel del inicio de la tran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La síntesis de 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-galactosidasa es induc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162560" cy="4775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rot="16200000">
            <a:off x="359280" y="3450240"/>
            <a:ext cx="26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ncentración de Beta galactodasid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943600"/>
            <a:ext cx="304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 (minu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scripción del operón lact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620120" cy="4818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1148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6095880"/>
            <a:ext cx="6324480" cy="8254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B-galactosida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9900"/>
                </a:solidFill>
                <a:latin typeface="Comic Sans MS"/>
              </a:rPr>
              <a:t>permea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0066"/>
                </a:solidFill>
                <a:latin typeface="Comic Sans MS"/>
              </a:rPr>
              <a:t>aceti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4120" y="5638680"/>
            <a:ext cx="609480" cy="38124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638680"/>
            <a:ext cx="609840" cy="45720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91520" y="5715000"/>
            <a:ext cx="685800" cy="380880"/>
          </a:xfrm>
          <a:prstGeom prst="ellipse">
            <a:avLst/>
          </a:prstGeom>
          <a:solidFill>
            <a:srgbClr val="ff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4120" y="404640"/>
            <a:ext cx="82746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función del operón lactosa (lac) es producir las enz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ridas para metabolizar lactosa y obtener energía cuando é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requerida por la cél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¿Qué pasa en ausencia de lactosa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62120" y="21337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¿Y en presencia de lactosa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391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4224240" cy="62834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rot="16200000">
            <a:off x="-1095480" y="2696040"/>
            <a:ext cx="457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</a:rPr>
              <a:t>Nº de células/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43800">
            <a:off x="3170880" y="3533760"/>
            <a:ext cx="3505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t Beta galactosid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5120" y="563868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(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434340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lucosa también regula la transcripción de los genes del metabolismo de lac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10080" y="380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sucede cuando las bacterias están en presencia de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glucosa y lacto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77120" y="2514600"/>
            <a:ext cx="457200" cy="1219320"/>
          </a:xfrm>
          <a:prstGeom prst="downArrow">
            <a:avLst>
              <a:gd name="adj1" fmla="val 50000"/>
              <a:gd name="adj2" fmla="val 6667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0769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esumen de la regulación del operón lacto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286000"/>
            <a:ext cx="84582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lucos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cAMP   Lactos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Transcrip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ó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l operón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Ausent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a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Presen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a transcrip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o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sent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Baja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  Alto 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Present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Alta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50292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Operón triptof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8229600" cy="27910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3880" y="60357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zimas de la biosíntesis del aminoácido triptof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57200" y="1752480"/>
            <a:ext cx="8686800" cy="1282680"/>
            <a:chOff x="457200" y="1752480"/>
            <a:chExt cx="8686800" cy="1282680"/>
          </a:xfrm>
        </p:grpSpPr>
        <p:sp>
          <p:nvSpPr>
            <p:cNvPr id="296" name=""/>
            <p:cNvSpPr/>
            <p:nvPr/>
          </p:nvSpPr>
          <p:spPr>
            <a:xfrm>
              <a:off x="457200" y="1752480"/>
              <a:ext cx="86868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S1         S2          S3       S4         S5        TRIPTOFANO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43000" y="19051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19051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05320" y="19051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09680" y="1905120"/>
              <a:ext cx="381240" cy="152280"/>
            </a:xfrm>
            <a:prstGeom prst="rightArrow">
              <a:avLst>
                <a:gd name="adj1" fmla="val 50000"/>
                <a:gd name="adj2" fmla="val 62589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38680" y="1905120"/>
              <a:ext cx="381240" cy="152280"/>
            </a:xfrm>
            <a:prstGeom prst="rightArrow">
              <a:avLst>
                <a:gd name="adj1" fmla="val 50000"/>
                <a:gd name="adj2" fmla="val 62589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66680" y="2209680"/>
              <a:ext cx="59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             B 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C           D           E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405320" cy="5715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04920" y="2286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Arial"/>
              </a:rPr>
              <a:t>Regulación de la transcripción del operón triptof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572000" y="1143000"/>
            <a:ext cx="4572000" cy="5715000"/>
            <a:chOff x="4572000" y="1143000"/>
            <a:chExt cx="4572000" cy="571500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4572000" y="1143000"/>
              <a:ext cx="457200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7162920" y="1219320"/>
              <a:ext cx="1828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3300"/>
                  </a:solidFill>
                  <a:latin typeface="Comic Sans MS"/>
                </a:rPr>
                <a:t>Bacterias en medio </a:t>
              </a:r>
              <a:r>
                <a:rPr b="1" lang="es-ES_tradnl" sz="2000" spc="-1" strike="noStrike" u="sng">
                  <a:solidFill>
                    <a:srgbClr val="ff3300"/>
                  </a:solidFill>
                  <a:uFillTx/>
                  <a:latin typeface="Comic Sans MS"/>
                </a:rPr>
                <a:t>sin</a:t>
              </a:r>
              <a:r>
                <a:rPr b="0" lang="es-ES_tradnl" sz="2000" spc="-1" strike="noStrike">
                  <a:solidFill>
                    <a:srgbClr val="ff3300"/>
                  </a:solidFill>
                  <a:latin typeface="Comic Sans MS"/>
                </a:rPr>
                <a:t> triptofa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743200" y="121932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Bacterias en medio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Comic Sans MS"/>
              </a:rPr>
              <a:t>con</a:t>
            </a: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 triptof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5791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odas las células de nuestro cuerpo tienen los mismos genes, pero no producen las mismas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1447920"/>
            <a:ext cx="3429000" cy="138168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Times New Roman"/>
              </a:rPr>
              <a:t>SEÑALE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Times New Roman"/>
              </a:rPr>
              <a:t>(NUTRIENTES, HORMONAS, ET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29200" y="1295280"/>
            <a:ext cx="3809880" cy="205956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f125"/>
                </a:solidFill>
                <a:latin typeface="Times New Roman"/>
              </a:rPr>
              <a:t>Activación o inactivación de genes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TIPOS CELULARES</a:t>
            </a:r>
            <a:r>
              <a:rPr b="1" lang="es-ES_tradnl" sz="2400" spc="-1" strike="noStrike">
                <a:solidFill>
                  <a:srgbClr val="ecf125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6213200">
            <a:off x="4343040" y="2057400"/>
            <a:ext cx="53352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095880" cy="3090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286000" y="47242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T. ós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9880" y="47242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T. mus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5880" y="46483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Osaka"/>
              </a:rPr>
              <a:t>neuro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33720" y="63244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Osaka"/>
              </a:rPr>
              <a:t>G. Ro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8120" y="54864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P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886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colá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5562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Osaka"/>
              </a:rPr>
              <a:t>hemoglob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3124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mios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4120" y="5715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quera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38880" y="41148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Neurotrans-mis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81680" y="22860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348000" y="0"/>
            <a:ext cx="5105520" cy="4191120"/>
          </a:xfrm>
          <a:prstGeom prst="ellipse">
            <a:avLst/>
          </a:prstGeom>
          <a:solidFill>
            <a:srgbClr val="99cc00">
              <a:alpha val="50000"/>
            </a:srgbClr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858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ÑALES 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1905120"/>
            <a:ext cx="1828800" cy="7596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1905120"/>
            <a:ext cx="1143000" cy="7596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1905120"/>
            <a:ext cx="914400" cy="7596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38862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36576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3962520"/>
            <a:ext cx="7632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41148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26708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38862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403848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3733920"/>
            <a:ext cx="7596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3962520"/>
            <a:ext cx="7596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2438280"/>
            <a:ext cx="0" cy="838440"/>
          </a:xfrm>
          <a:prstGeom prst="line">
            <a:avLst/>
          </a:prstGeom>
          <a:ln cap="sq" w="507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332600">
            <a:off x="2816280" y="-611280"/>
            <a:ext cx="696960" cy="2208240"/>
          </a:xfrm>
          <a:custGeom>
            <a:avLst/>
            <a:gdLst>
              <a:gd name="textAreaLeft" fmla="*/ 93240 w 696960"/>
              <a:gd name="textAreaRight" fmla="*/ 603720 w 696960"/>
              <a:gd name="textAreaTop" fmla="*/ 386280 h 2208240"/>
              <a:gd name="textAreaBottom" fmla="*/ 1600920 h 22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30680"/>
            <a:ext cx="83059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bacteri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Presencia o ausencia de nutrientes, temperatura, oxígeno, pH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organimos multicelular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Factores de crecimiento y hormonas, nutrientes, entre otros factores. La expresión de genes depende de tipo de célula y de la  etapa de diferenciación de las célu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914400" y="1828800"/>
            <a:ext cx="0" cy="2743200"/>
          </a:xfrm>
          <a:prstGeom prst="line">
            <a:avLst/>
          </a:prstGeom>
          <a:ln cap="sq"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osibles puntos de regulación de la expresión de genes en eucario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658280" cy="31813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828800" y="44956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47242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38098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67480" y="38098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gulación de la transcripción del gen de albúm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2133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RN polimer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85960" y="3371760"/>
            <a:ext cx="2686320" cy="11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72280" y="3371760"/>
            <a:ext cx="971280" cy="11592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43480" y="3371760"/>
            <a:ext cx="171360" cy="1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29000" y="3257640"/>
            <a:ext cx="57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43560" y="337176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43560" y="348768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43560" y="36590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Gen de album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743880" y="35449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15040" y="383076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29160" y="2857680"/>
            <a:ext cx="914400" cy="514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29160" y="2800440"/>
            <a:ext cx="228600" cy="5713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00640" y="20574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actores de transcripción b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229440" y="2514600"/>
            <a:ext cx="45720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29200" y="2629080"/>
            <a:ext cx="22860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29240" y="3029040"/>
            <a:ext cx="857160" cy="34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57840" y="3086280"/>
            <a:ext cx="6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A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029040"/>
            <a:ext cx="857160" cy="34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57560" y="308628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A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371760" y="2629080"/>
            <a:ext cx="571680" cy="742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52680" y="2743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C/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72040" y="3371760"/>
            <a:ext cx="17136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71960" y="3371760"/>
            <a:ext cx="11448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00400" y="3371760"/>
            <a:ext cx="22860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57680" y="2571840"/>
            <a:ext cx="857160" cy="85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9520" y="2819520"/>
            <a:ext cx="74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HNF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43000" y="3371760"/>
            <a:ext cx="1143000" cy="11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514600" y="3200400"/>
            <a:ext cx="11448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400120" y="3200400"/>
            <a:ext cx="11412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85960" y="45165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29280" y="45165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5760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30p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515280" y="4516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434484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343560" y="42307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5867280" y="36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43000" y="4343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12.000p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3880" y="28195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00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h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7524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7467120" y="31240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314840" y="30481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772400" y="3352680"/>
            <a:ext cx="914400" cy="152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8153280" y="36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20120" y="3962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h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4380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45684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4568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610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6868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520" y="51055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giones “Enhancers” en el ADN se unen a  proteínas reguladoras de la transcrip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6705720" cy="44449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914400" y="30492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teínas reguladoras unidas a “enhancers” actúan a distancia induciendo la curvatura del ADN, para permitir su acercamiento al complejo promotor con la RNA polimeras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1547640" y="1844640"/>
          <a:ext cx="532944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844640"/>
                    <a:ext cx="532944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Arial"/>
              </a:rPr>
              <a:t>Cómo se activa un gen en un tipo de célula  y no en otro?</a:t>
            </a:r>
            <a:r>
              <a:rPr b="0" lang="es-E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826920" y="1989000"/>
            <a:ext cx="3382920" cy="3468600"/>
            <a:chOff x="826920" y="1989000"/>
            <a:chExt cx="3382920" cy="3468600"/>
          </a:xfrm>
        </p:grpSpPr>
        <p:sp>
          <p:nvSpPr>
            <p:cNvPr id="391" name=""/>
            <p:cNvSpPr/>
            <p:nvPr/>
          </p:nvSpPr>
          <p:spPr>
            <a:xfrm>
              <a:off x="826920" y="1989000"/>
              <a:ext cx="3382920" cy="146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cc0000"/>
                  </a:solidFill>
                  <a:latin typeface="Tahoma"/>
                  <a:ea typeface="Osaka"/>
                </a:rPr>
                <a:t>En el esquema A</a:t>
              </a:r>
              <a:r>
                <a:rPr b="0" lang="es-CL" sz="1800" spc="-1" strike="noStrike">
                  <a:solidFill>
                    <a:srgbClr val="000000"/>
                  </a:solidFill>
                  <a:latin typeface="Tahoma"/>
                  <a:ea typeface="Osaka"/>
                </a:rPr>
                <a:t>, los genes de albúmina se expresan porque las células de hígado tienen los activadores necesarios para ese 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6920" y="3717720"/>
              <a:ext cx="3382920" cy="173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cc0000"/>
                  </a:solidFill>
                  <a:latin typeface="Tahoma"/>
                  <a:ea typeface="Osaka"/>
                </a:rPr>
                <a:t>En el esquema B</a:t>
              </a:r>
              <a:r>
                <a:rPr b="0" lang="es-CL" sz="1800" spc="-1" strike="noStrike">
                  <a:solidFill>
                    <a:srgbClr val="000000"/>
                  </a:solidFill>
                  <a:latin typeface="Tahoma"/>
                  <a:ea typeface="Osaka"/>
                </a:rPr>
                <a:t>, los genes de la proteína cristalino se expresan porque las células de cristalino tienen los activadores necesarios para ese 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738680" y="1052640"/>
            <a:ext cx="4405320" cy="5503680"/>
            <a:chOff x="4738680" y="1052640"/>
            <a:chExt cx="4405320" cy="5503680"/>
          </a:xfrm>
        </p:grpSpPr>
        <p:graphicFrame>
          <p:nvGraphicFramePr>
            <p:cNvPr id="394" name=""/>
            <p:cNvGraphicFramePr/>
            <p:nvPr/>
          </p:nvGraphicFramePr>
          <p:xfrm>
            <a:off x="4738680" y="1052640"/>
            <a:ext cx="4359240" cy="550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38680" y="1052640"/>
                      <a:ext cx="4359240" cy="550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"/>
            <p:cNvSpPr/>
            <p:nvPr/>
          </p:nvSpPr>
          <p:spPr>
            <a:xfrm>
              <a:off x="5459400" y="1197000"/>
              <a:ext cx="152388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úcleo de células hepát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19760" y="1197000"/>
              <a:ext cx="152424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úcleo de células de cristali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409920" y="0"/>
            <a:ext cx="5734080" cy="638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9" name=""/>
          <p:cNvGraphicFramePr/>
          <p:nvPr/>
        </p:nvGraphicFramePr>
        <p:xfrm>
          <a:off x="539640" y="2276640"/>
          <a:ext cx="2664000" cy="224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276640"/>
                    <a:ext cx="2664000" cy="22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4105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gulación de los genes de globina en 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885080" y="112536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24360" y="620640"/>
            <a:ext cx="719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067280" y="692280"/>
            <a:ext cx="9363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30556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1403280" y="1515960"/>
          <a:ext cx="727236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15960"/>
                    <a:ext cx="727236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azúcar lactosa induce la expresión de la enzima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galactosid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aumento de temperatura a 42ºC induce la producción de proteínas de choque térm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proteína hemoglobina es producida sólo por glóbulos rojos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335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99"/>
                </a:solidFill>
                <a:uFillTx/>
                <a:latin typeface="Arial"/>
              </a:rPr>
              <a:t>Ejemplo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9"/>
                </a:solidFill>
                <a:latin typeface="Arial"/>
              </a:rPr>
              <a:t>Principal punto de regulación es la transcripción de los g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requiere evitar desperdicio de ener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regulación de la acción de un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be ser controlada lo más temprano posible en el proceso de expresió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mecanismos de control transcripcional son de bajo costo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regulación es ejecutada por a través de la acción de proteínas reguladoras específicas, logrand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presión o contro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egativ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tivación o contro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sitiv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TIPOS DE G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523880"/>
            <a:ext cx="3124080" cy="8254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XPRESIÓN A UN NIVEL CONSTA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1905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NTITU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666880"/>
            <a:ext cx="3200400" cy="1557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ENES INACTIVOS QUE SE ACTIVAN BAJO CIERTAS 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505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NDUC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572000"/>
            <a:ext cx="3276720" cy="1557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ENES ACTIVOS, PERO SE SILENCIAN BAJO CIERTAS 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5410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REPRE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19810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35812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55627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9900"/>
                </a:solidFill>
                <a:latin typeface="Arial"/>
              </a:rPr>
              <a:t>Un nuevo concept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ontactos específicas entre secuencias de ADN y proteínas reguladoras son fundamentales en el control de la transcripción de los g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¿Si ustedes fueran bacterias creciendo en un ambiente rico en aminoácidos, preferirían sintetizar sus propios aminoácidos o consumir los que ya están disponibles en el med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57200" y="685800"/>
            <a:ext cx="2666880" cy="82548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Times New Roman"/>
              </a:rPr>
              <a:t>SEÑALES DEL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62520" y="609480"/>
            <a:ext cx="1752480" cy="10159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GE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76720" y="8380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000099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43600" y="9144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99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29400" y="609480"/>
            <a:ext cx="2057400" cy="10159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91520" y="990720"/>
            <a:ext cx="152280" cy="533160"/>
          </a:xfrm>
          <a:prstGeom prst="upArrow">
            <a:avLst>
              <a:gd name="adj1" fmla="val 50000"/>
              <a:gd name="adj2" fmla="val 87530"/>
            </a:avLst>
          </a:prstGeom>
          <a:solidFill>
            <a:srgbClr val="ffffff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0120" y="9907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ffffff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90720" y="205740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¿Cuales son las señales que afectan la expresión de los ge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685800" y="3429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bacteri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expresión de genes responde a la presencia o ausencia de nutrientes, temperatura, oxígeno, pH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eucariont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la expresión de genes varía dependiendo del tipo de célula, del grado de diferenciación de las células, de factores de crecimiento y hormonas, entre otros facto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iferentes tipos celulares tienen distintas proteínas y fun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Tipo de célul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ó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2400" spc="-1" strike="noStrike">
                <a:solidFill>
                  <a:srgbClr val="33cc33"/>
                </a:solidFill>
                <a:latin typeface="Arial"/>
              </a:rPr>
              <a:t>Proteínas principales que       </a:t>
            </a:r>
            <a:r>
              <a:rPr b="1" lang="es-ES_trad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cc33"/>
                </a:solidFill>
                <a:latin typeface="Arial"/>
              </a:rPr>
              <a:t>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Músculo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vimiento de partes del cuerp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000" spc="-1" strike="noStrike">
                <a:solidFill>
                  <a:srgbClr val="00cc00"/>
                </a:solidFill>
                <a:latin typeface="Arial"/>
              </a:rPr>
              <a:t>Mioglob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Piel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antiene los órganos y tejidos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juntos y forma una capa continua,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cc00"/>
                </a:solidFill>
                <a:latin typeface="Arial"/>
              </a:rPr>
              <a:t>quer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tector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neuron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duce las señales nerviosa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cc00"/>
                </a:solidFill>
                <a:latin typeface="Arial"/>
              </a:rPr>
              <a:t>receptores de superfici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de una parte a otra del cuerp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cc00"/>
                </a:solidFill>
                <a:latin typeface="Arial"/>
              </a:rPr>
              <a:t>para neurotransmisore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Gl. rojos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ransporte de 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y 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en el flujo sanguíne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cc00"/>
                </a:solidFill>
                <a:latin typeface="Arial"/>
              </a:rPr>
              <a:t>Hemoglob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00032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52280" y="457200"/>
            <a:ext cx="4648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mostración de que todas las células adultas (diferenciadas) de un organismo multicelular tienen el mismo material genético. Lo que las distingue es la expresión de los ge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64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4952880" y="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8080"/>
                </a:solidFill>
                <a:latin typeface="Arial"/>
              </a:rPr>
              <a:t>Control de la expresión de genes por hormo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81080" y="0"/>
            <a:ext cx="762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80" y="1522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80"/>
                </a:solidFill>
                <a:latin typeface="Arial"/>
              </a:rPr>
              <a:t>Receptor de horm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ómo se activa un gen en un tipo de célula  y no en otro?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900000" y="1644480"/>
            <a:ext cx="7162920" cy="52135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4800600" y="1219320"/>
            <a:ext cx="15238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úcleo de células hep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164360" y="1341360"/>
            <a:ext cx="15238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úcleo de células de cristal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9880" y="533520"/>
            <a:ext cx="4591080" cy="5905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8600" y="609480"/>
            <a:ext cx="358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Regulación de la expresión de genes ocurre principalmente en la etapa de la </a:t>
            </a:r>
            <a:r>
              <a:rPr b="1" lang="es-ES_tradnl" sz="3200" spc="-1" strike="noStrike">
                <a:solidFill>
                  <a:srgbClr val="a50021"/>
                </a:solidFill>
                <a:latin typeface="Arial"/>
              </a:rPr>
              <a:t>transcri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1752480"/>
            <a:ext cx="990360" cy="533520"/>
          </a:xfrm>
          <a:prstGeom prst="rightArrow">
            <a:avLst>
              <a:gd name="adj1" fmla="val 50000"/>
              <a:gd name="adj2" fmla="val 464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0400" y="111240"/>
            <a:ext cx="860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structura  de un promotor en procario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0560" y="5415120"/>
            <a:ext cx="3004920" cy="1053000"/>
            <a:chOff x="250560" y="5415120"/>
            <a:chExt cx="3004920" cy="1053000"/>
          </a:xfrm>
        </p:grpSpPr>
        <p:sp>
          <p:nvSpPr>
            <p:cNvPr id="119" name=""/>
            <p:cNvSpPr/>
            <p:nvPr/>
          </p:nvSpPr>
          <p:spPr>
            <a:xfrm>
              <a:off x="745560" y="60706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89800" y="60706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4200" y="60706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61400" y="607068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5400" y="60706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0560" y="5415120"/>
              <a:ext cx="5202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0360" y="5415120"/>
              <a:ext cx="5202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64960" y="5415120"/>
              <a:ext cx="5202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85160" y="60706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60320" y="5415120"/>
              <a:ext cx="5202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79360" y="5415120"/>
              <a:ext cx="5202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36560" y="5415120"/>
              <a:ext cx="5202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441320" y="5415120"/>
            <a:ext cx="2852640" cy="1053000"/>
            <a:chOff x="4441320" y="5415120"/>
            <a:chExt cx="2852640" cy="1053000"/>
          </a:xfrm>
        </p:grpSpPr>
        <p:grpSp>
          <p:nvGrpSpPr>
            <p:cNvPr id="132" name=""/>
            <p:cNvGrpSpPr/>
            <p:nvPr/>
          </p:nvGrpSpPr>
          <p:grpSpPr>
            <a:xfrm>
              <a:off x="4441320" y="5415120"/>
              <a:ext cx="520200" cy="1053000"/>
              <a:chOff x="4441320" y="5415120"/>
              <a:chExt cx="520200" cy="1053000"/>
            </a:xfrm>
          </p:grpSpPr>
          <p:sp>
            <p:nvSpPr>
              <p:cNvPr id="133" name=""/>
              <p:cNvSpPr/>
              <p:nvPr/>
            </p:nvSpPr>
            <p:spPr>
              <a:xfrm>
                <a:off x="4466520" y="607068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41320" y="5415120"/>
                <a:ext cx="52020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5279760" y="5415120"/>
              <a:ext cx="520200" cy="1053000"/>
              <a:chOff x="5279760" y="5415120"/>
              <a:chExt cx="520200" cy="1053000"/>
            </a:xfrm>
          </p:grpSpPr>
          <p:sp>
            <p:nvSpPr>
              <p:cNvPr id="136" name=""/>
              <p:cNvSpPr/>
              <p:nvPr/>
            </p:nvSpPr>
            <p:spPr>
              <a:xfrm>
                <a:off x="5304600" y="607068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79760" y="5415120"/>
                <a:ext cx="52020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6575040" y="5415120"/>
              <a:ext cx="718920" cy="1053000"/>
              <a:chOff x="6575040" y="5415120"/>
              <a:chExt cx="718920" cy="1053000"/>
            </a:xfrm>
          </p:grpSpPr>
          <p:sp>
            <p:nvSpPr>
              <p:cNvPr id="139" name=""/>
              <p:cNvSpPr/>
              <p:nvPr/>
            </p:nvSpPr>
            <p:spPr>
              <a:xfrm>
                <a:off x="6599880" y="607068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6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575040" y="5415120"/>
                <a:ext cx="52020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4860720" y="5415120"/>
              <a:ext cx="520200" cy="1053000"/>
              <a:chOff x="4860720" y="5415120"/>
              <a:chExt cx="520200" cy="1053000"/>
            </a:xfrm>
          </p:grpSpPr>
          <p:sp>
            <p:nvSpPr>
              <p:cNvPr id="142" name=""/>
              <p:cNvSpPr/>
              <p:nvPr/>
            </p:nvSpPr>
            <p:spPr>
              <a:xfrm>
                <a:off x="4885560" y="607068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860720" y="5415120"/>
                <a:ext cx="52020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98800" y="5415120"/>
              <a:ext cx="520200" cy="1053000"/>
              <a:chOff x="5698800" y="5415120"/>
              <a:chExt cx="520200" cy="1053000"/>
            </a:xfrm>
          </p:grpSpPr>
          <p:sp>
            <p:nvSpPr>
              <p:cNvPr id="145" name=""/>
              <p:cNvSpPr/>
              <p:nvPr/>
            </p:nvSpPr>
            <p:spPr>
              <a:xfrm>
                <a:off x="5723640" y="607068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698800" y="5415120"/>
                <a:ext cx="52020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156000" y="5415120"/>
              <a:ext cx="520200" cy="1053000"/>
              <a:chOff x="6156000" y="5415120"/>
              <a:chExt cx="520200" cy="1053000"/>
            </a:xfrm>
          </p:grpSpPr>
          <p:sp>
            <p:nvSpPr>
              <p:cNvPr id="148" name=""/>
              <p:cNvSpPr/>
              <p:nvPr/>
            </p:nvSpPr>
            <p:spPr>
              <a:xfrm>
                <a:off x="6180840" y="607068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56000" y="5415120"/>
                <a:ext cx="52020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" name=""/>
          <p:cNvSpPr/>
          <p:nvPr/>
        </p:nvSpPr>
        <p:spPr>
          <a:xfrm>
            <a:off x="2124720" y="6400800"/>
            <a:ext cx="389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encias de consen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51320" y="4365720"/>
            <a:ext cx="4252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tio de unicio de la transcri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86560" y="5084640"/>
            <a:ext cx="2116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ja Prib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50920" y="1557360"/>
            <a:ext cx="9296280" cy="2210760"/>
            <a:chOff x="250920" y="1557360"/>
            <a:chExt cx="9296280" cy="2210760"/>
          </a:xfrm>
        </p:grpSpPr>
        <p:sp>
          <p:nvSpPr>
            <p:cNvPr id="154" name=""/>
            <p:cNvSpPr/>
            <p:nvPr/>
          </p:nvSpPr>
          <p:spPr>
            <a:xfrm>
              <a:off x="250920" y="2563560"/>
              <a:ext cx="9144000" cy="0"/>
            </a:xfrm>
            <a:prstGeom prst="line">
              <a:avLst/>
            </a:prstGeom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0920" y="3249360"/>
              <a:ext cx="9144000" cy="0"/>
            </a:xfrm>
            <a:prstGeom prst="line">
              <a:avLst/>
            </a:prstGeom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45000" y="330984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845560" y="3309840"/>
              <a:ext cx="701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73400" y="330984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30760" y="3309840"/>
              <a:ext cx="62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82640" y="3309840"/>
              <a:ext cx="62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5960" y="3309840"/>
              <a:ext cx="62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89800" y="2014560"/>
              <a:ext cx="1905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16400" y="1785960"/>
              <a:ext cx="421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31160" y="1557360"/>
              <a:ext cx="108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3840" y="254772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TTGA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3840" y="285264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ACTG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5600" y="2090520"/>
              <a:ext cx="1641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gión -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58640" y="254772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TATA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58640" y="285264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TAT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30400" y="2090520"/>
              <a:ext cx="1641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gión -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89800" y="25635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V="1">
            <a:off x="7451640" y="3789000"/>
            <a:ext cx="0" cy="647640"/>
          </a:xfrm>
          <a:prstGeom prst="line">
            <a:avLst/>
          </a:prstGeom>
          <a:ln cap="sq"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3300"/>
                </a:solidFill>
                <a:latin typeface="Arial"/>
              </a:rPr>
              <a:t>Proteínas reguladoras de la transcrip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tivador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Ayudan a la RNA polimerasa a unirse con mayor fuerza al PRO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umento de la velocidad de 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íntesis de mR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presor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mpiden la transcripción por la RNA polim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minución de la velocidad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 síntesis de 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33526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57150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400800" y="662940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48"/>
                </a:moveTo>
                <a:cubicBezTo>
                  <a:pt x="92" y="96"/>
                  <a:pt x="184" y="144"/>
                  <a:pt x="240" y="144"/>
                </a:cubicBezTo>
                <a:cubicBezTo>
                  <a:pt x="296" y="144"/>
                  <a:pt x="272" y="56"/>
                  <a:pt x="336" y="48"/>
                </a:cubicBezTo>
                <a:cubicBezTo>
                  <a:pt x="400" y="40"/>
                  <a:pt x="536" y="96"/>
                  <a:pt x="624" y="96"/>
                </a:cubicBezTo>
                <a:cubicBezTo>
                  <a:pt x="712" y="96"/>
                  <a:pt x="808" y="64"/>
                  <a:pt x="864" y="48"/>
                </a:cubicBezTo>
                <a:cubicBezTo>
                  <a:pt x="920" y="32"/>
                  <a:pt x="944" y="8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52280" y="533520"/>
            <a:ext cx="8229600" cy="6172200"/>
            <a:chOff x="152280" y="533520"/>
            <a:chExt cx="8229600" cy="6172200"/>
          </a:xfrm>
        </p:grpSpPr>
        <p:sp>
          <p:nvSpPr>
            <p:cNvPr id="179" name=""/>
            <p:cNvSpPr/>
            <p:nvPr/>
          </p:nvSpPr>
          <p:spPr>
            <a:xfrm flipH="1">
              <a:off x="1066320" y="21337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34120" y="1905120"/>
              <a:ext cx="1676160" cy="2286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86200" y="1905120"/>
              <a:ext cx="1523880" cy="228600"/>
            </a:xfrm>
            <a:prstGeom prst="rect">
              <a:avLst/>
            </a:prstGeom>
            <a:solidFill>
              <a:srgbClr val="d8ee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19520" y="1905120"/>
              <a:ext cx="10666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638680" y="1599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38680" y="1600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14800" y="914400"/>
              <a:ext cx="1295280" cy="9907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38680" y="8380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cripción Bas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10080" y="2819520"/>
              <a:ext cx="152424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9152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43800" y="27432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2200" y="2286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14800" y="20574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mo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218960" y="1905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91120" y="12952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480" y="533520"/>
              <a:ext cx="266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CTIVACIÓN DE LA TRANSCRIP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143000" y="50292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10080" y="4800600"/>
              <a:ext cx="1676520" cy="2286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62520" y="4800600"/>
              <a:ext cx="1523880" cy="228600"/>
            </a:xfrm>
            <a:prstGeom prst="rect">
              <a:avLst/>
            </a:prstGeom>
            <a:solidFill>
              <a:srgbClr val="d8ee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4800600"/>
              <a:ext cx="106704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715000" y="449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15000" y="44956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38480" y="4114800"/>
              <a:ext cx="1524240" cy="7621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15000" y="373392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cripción activ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86400" y="571500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67480" y="4800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20120" y="5638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48520" y="5181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91120" y="50292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mo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294920" y="4800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7080" y="4191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00400" y="4038480"/>
              <a:ext cx="1600200" cy="91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28800" y="2590920"/>
              <a:ext cx="1219320" cy="83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00400" y="3276720"/>
              <a:ext cx="457200" cy="53316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0" y="0"/>
                  </a:moveTo>
                  <a:cubicBezTo>
                    <a:pt x="96" y="44"/>
                    <a:pt x="192" y="88"/>
                    <a:pt x="240" y="144"/>
                  </a:cubicBezTo>
                  <a:cubicBezTo>
                    <a:pt x="288" y="200"/>
                    <a:pt x="280" y="304"/>
                    <a:pt x="288" y="33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2120" y="350532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CTIV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38680" y="5867280"/>
              <a:ext cx="152424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91320" y="601992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43600" y="617220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95880" y="6324480"/>
              <a:ext cx="152424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48520" y="647712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67280" y="18288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43600" y="47242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2280" y="15238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8600" y="449568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 flipH="1">
            <a:off x="990720" y="2057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1828800"/>
            <a:ext cx="1676520" cy="2286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1828800"/>
            <a:ext cx="1143000" cy="228600"/>
          </a:xfrm>
          <a:prstGeom prst="rect">
            <a:avLst/>
          </a:prstGeom>
          <a:solidFill>
            <a:srgbClr val="d8ee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1828800"/>
            <a:ext cx="10666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5627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627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1066680"/>
            <a:ext cx="1295640" cy="762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62720" y="762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74320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48"/>
                </a:moveTo>
                <a:cubicBezTo>
                  <a:pt x="92" y="96"/>
                  <a:pt x="184" y="144"/>
                  <a:pt x="240" y="144"/>
                </a:cubicBezTo>
                <a:cubicBezTo>
                  <a:pt x="296" y="144"/>
                  <a:pt x="272" y="56"/>
                  <a:pt x="336" y="48"/>
                </a:cubicBezTo>
                <a:cubicBezTo>
                  <a:pt x="400" y="40"/>
                  <a:pt x="536" y="96"/>
                  <a:pt x="624" y="96"/>
                </a:cubicBezTo>
                <a:cubicBezTo>
                  <a:pt x="712" y="96"/>
                  <a:pt x="808" y="64"/>
                  <a:pt x="864" y="48"/>
                </a:cubicBezTo>
                <a:cubicBezTo>
                  <a:pt x="920" y="32"/>
                  <a:pt x="944" y="8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15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67480" y="2666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58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142640" y="1828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1480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RNA p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5105520"/>
            <a:ext cx="1676520" cy="2286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5105520"/>
            <a:ext cx="1219320" cy="228600"/>
          </a:xfrm>
          <a:prstGeom prst="rect">
            <a:avLst/>
          </a:prstGeom>
          <a:solidFill>
            <a:srgbClr val="d8ee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5105520"/>
            <a:ext cx="10666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48640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4800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4343400"/>
            <a:ext cx="1295280" cy="762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3886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71800" y="5334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06632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RNA p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9720" y="5105520"/>
            <a:ext cx="7617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360" y="5334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708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pe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3962520"/>
            <a:ext cx="609840" cy="1218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2971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4572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RESIÓN DE LA TRANSCRIP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4572000"/>
            <a:ext cx="10666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943240" y="4495680"/>
            <a:ext cx="60948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1828800"/>
            <a:ext cx="533520" cy="22860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2895480"/>
            <a:ext cx="609840" cy="1219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8120" y="3048120"/>
            <a:ext cx="990360" cy="457200"/>
          </a:xfrm>
          <a:custGeom>
            <a:avLst/>
            <a:gdLst/>
            <a:ahLst/>
            <a:rect l="l" t="t" r="r" b="b"/>
            <a:pathLst>
              <a:path w="624" h="288">
                <a:moveTo>
                  <a:pt x="0" y="0"/>
                </a:moveTo>
                <a:cubicBezTo>
                  <a:pt x="140" y="0"/>
                  <a:pt x="280" y="0"/>
                  <a:pt x="384" y="48"/>
                </a:cubicBezTo>
                <a:cubicBezTo>
                  <a:pt x="488" y="96"/>
                  <a:pt x="584" y="248"/>
                  <a:pt x="624" y="288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operón lactosa en bacte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2193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iene los genes de las enzimas que permiten hidrolizar el disacárido lac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886200" y="1057320"/>
            <a:ext cx="436248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18:46:15Z</dcterms:created>
  <dc:creator>Oriana Salazar</dc:creator>
  <dc:description/>
  <dc:language>en-US</dc:language>
  <cp:lastModifiedBy>Ing Quimica</cp:lastModifiedBy>
  <dcterms:modified xsi:type="dcterms:W3CDTF">2008-01-16T16:27:45Z</dcterms:modified>
  <cp:revision>209</cp:revision>
  <dc:subject/>
  <dc:title>Presentación de PowerPoint</dc:title>
</cp:coreProperties>
</file>