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7.wmf" ContentType="image/x-wmf"/>
  <Override PartName="/ppt/media/image37.jpeg" ContentType="image/jpeg"/>
  <Override PartName="/ppt/media/image30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526-F564-4BE9-80CE-C66E555A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DAF-9667-4DEF-BF90-B197195F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E4F-BEC3-4669-85C2-69119648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4DD-17F0-4071-B1C9-20B6F8F1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2C8-8B5E-4A42-B8A8-9E400350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EEF-AE38-4529-9C9C-FBD517F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91AC-BD94-4F90-BAC8-85B6311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D9FD-AF3B-4030-97F6-97276578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2F5E-029C-422C-A5CE-75F2B75A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706F-C2FD-45D5-A5D0-950776F0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55F8-EE30-4012-9814-1127422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E5D-F489-4DE5-B7BF-4513A1B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AF4-7B8D-4676-A2D1-88B22BD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DF12-7FD6-4085-A855-A3DB4C9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997-9F98-4EC5-8F0D-04C0463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C5F6-DC2E-492D-8D67-802BA03D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864-C560-4B8C-B886-FA34058D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87E-090B-4F01-BBB0-8BFC0190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288-4084-4C6C-8D78-1F04B782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FDD-E8DA-44B1-9302-D9118DE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695-53D8-4C9E-B025-097D4924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07E-661A-4029-99D4-F079B0BF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DD5-33B9-4FEF-93E9-837F8C5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C40-A76B-4B77-B211-39142045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3CA-2BEF-4F47-9FBB-515BA53339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07E2-0938-4A19-8757-FCDBA8D3F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8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657600"/>
            <a:ext cx="2209680" cy="2796120"/>
            <a:chOff x="914400" y="3657600"/>
            <a:chExt cx="2209680" cy="2796120"/>
          </a:xfrm>
        </p:grpSpPr>
        <p:graphicFrame>
          <p:nvGraphicFramePr>
            <p:cNvPr id="154" name=""/>
            <p:cNvGraphicFramePr/>
            <p:nvPr/>
          </p:nvGraphicFramePr>
          <p:xfrm>
            <a:off x="914400" y="3657600"/>
            <a:ext cx="2209680" cy="177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657600"/>
                      <a:ext cx="2209680" cy="177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1184400" y="5749920"/>
              <a:ext cx="165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n Nucleóti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76920" y="2895480"/>
            <a:ext cx="3429000" cy="3809880"/>
            <a:chOff x="4876920" y="2895480"/>
            <a:chExt cx="3429000" cy="3809880"/>
          </a:xfrm>
        </p:grpSpPr>
        <p:graphicFrame>
          <p:nvGraphicFramePr>
            <p:cNvPr id="158" name=""/>
            <p:cNvGraphicFramePr/>
            <p:nvPr/>
          </p:nvGraphicFramePr>
          <p:xfrm>
            <a:off x="4876920" y="3296160"/>
            <a:ext cx="2825640" cy="340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3296160"/>
                      <a:ext cx="2825640" cy="340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4876920" y="28954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560" y="349704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5360" y="349704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ADF-6974-4E8E-9CA5-91ACB679D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6EF-A9B4-4CA6-9334-58C161E8EF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94D-19A4-406C-8CB4-BE98F1C89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FF4-287F-4CD3-83DF-89D0783B1E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2166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0CB-7E19-4830-90D7-4CDE73A5F8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C1E-AA84-47AC-8534-AE794BD078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7DC-CEAE-4CC5-ACC6-19214F5D2E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0F0-3555-47FA-A7FD-9843E8201D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082-B1D5-4C74-9E14-CB3BB255D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8C2-167F-4B82-B7B7-91482B2E9A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67C-23D4-4547-AC20-C828CC93AC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F04-7134-461D-8D96-0D7F65EFE5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247-1CD5-408F-9B03-6E3FA1296C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8D8-27A9-4D72-BC5B-501ABA565A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674-E4EB-4D5A-AD80-F2B8E82548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515-ABBC-4CF7-8656-7C778EA6EC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FF6-78C1-4108-9C15-6C941F9190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08C-72FB-4DE4-BB3A-279C472CF2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0C8-2442-48DC-A862-1A18DF0A26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400" spc="-1" strike="noStrike">
                <a:solidFill>
                  <a:srgbClr val="000066"/>
                </a:solidFill>
                <a:latin typeface="Arial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01956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E7B-4F30-4168-9A35-EE146A3104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7A7-2ED1-4CCA-AE8E-76AA0671FC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6AF-591D-4714-9309-C59B10EA02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ses moleculares de l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plicaciones de Ing.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9EA-B982-42D9-A90C-1F55C29C10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2133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5F1-AF51-4390-9103-9CCBD5E7A3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5CD-87B4-4D35-BB56-60B43E192B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3F8-CEE4-4D0C-BA65-58C57CC5E8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25780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FF4-F572-49B0-8AF4-0444FEE35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555-07CA-44F7-9E96-4A70EB1994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8-01-16T16:27:58Z</dcterms:modified>
  <cp:revision>330</cp:revision>
  <dc:subject/>
  <dc:title>Genes: Qué son y dónde están?</dc:title>
</cp:coreProperties>
</file>