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png" ContentType="image/png"/>
  <Override PartName="/ppt/media/image15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17.wmf" ContentType="image/x-wmf"/>
  <Override PartName="/ppt/media/image37.jpeg" ContentType="image/jpeg"/>
  <Override PartName="/ppt/media/image30.png" ContentType="image/png"/>
  <Override PartName="/ppt/media/image28.png" ContentType="image/png"/>
  <Override PartName="/ppt/media/image31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92F0A-854B-4E1A-A02A-6BC8F4EBF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1B2A-B8EE-426C-B1A8-2E55A792B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B90CB-B670-4191-801A-10E563433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C958-54CC-4AB1-B7E0-A5A6A57ED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87F0D-EE79-42E4-A72F-F2908C1422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90884-492A-4B91-887E-1488B4217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2EE79-EF5A-4F2D-BFEA-FC2FBF8BA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7854A-C557-49ED-8328-B5ED6A55D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9D5BA-7753-43FB-8E72-B8B9386B5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F62DD-9BF4-4D17-98E2-E9D6FD60D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3CD9-AD1D-4B6B-BB69-4B1EA55B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9A2C-E248-45B8-9325-B00BDE0097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8FF23-7C3A-4A05-895D-82F30ACEF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00D33-4AA9-4299-9AC3-F4FD1BA2D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03D27-5629-4C2E-B7AB-A8E8B7C0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8ED16-FAC8-4AE4-8937-6B9ACBB93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94F8-2771-4F83-8D85-4F5792981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442-626E-460F-BA47-2FC25228A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211D5-5D12-4AC4-9C81-7080EE7FD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E1082-8313-48C2-B110-A1A39858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611F-AE2E-4E39-BC30-F41DF764D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8B7BD-9AAF-4F8F-9950-4303ADA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6E33-8A74-4B07-8867-D54844C65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4ACAF-CFEF-4F54-BBCD-8DC830571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3FE9F-1B0A-4A62-8699-8765EE1873F9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600" y="0"/>
            <a:ext cx="677880" cy="1523880"/>
            <a:chOff x="228600" y="0"/>
            <a:chExt cx="677880" cy="1523880"/>
          </a:xfrm>
        </p:grpSpPr>
        <p:sp>
          <p:nvSpPr>
            <p:cNvPr id="6" name=""/>
            <p:cNvSpPr/>
            <p:nvPr/>
          </p:nvSpPr>
          <p:spPr>
            <a:xfrm>
              <a:off x="264600" y="591480"/>
              <a:ext cx="634320" cy="850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" name="" descr=""/>
            <p:cNvPicPr/>
            <p:nvPr/>
          </p:nvPicPr>
          <p:blipFill>
            <a:blip r:embed="rId2"/>
            <a:srcRect l="6136" t="0" r="7364" b="0"/>
            <a:stretch/>
          </p:blipFill>
          <p:spPr>
            <a:xfrm>
              <a:off x="228600" y="0"/>
              <a:ext cx="67788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Osak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04D26-43F8-43A0-8E78-FED1D489C4B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Osak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pn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0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1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IOTECNOLOGÍA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2008</a:t>
            </a:r>
            <a:br>
              <a:rPr sz="4400"/>
            </a:b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Clas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3962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rof. Oriana Salaz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entro de Ingeniería Bio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pto. de Ingeniería Química y Bio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ac. Ciencias Físicas y Matemátic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28600" y="0"/>
            <a:ext cx="895320" cy="2013120"/>
            <a:chOff x="228600" y="0"/>
            <a:chExt cx="895320" cy="2013120"/>
          </a:xfrm>
        </p:grpSpPr>
        <p:sp>
          <p:nvSpPr>
            <p:cNvPr id="88" name=""/>
            <p:cNvSpPr/>
            <p:nvPr/>
          </p:nvSpPr>
          <p:spPr>
            <a:xfrm>
              <a:off x="276120" y="781560"/>
              <a:ext cx="837720" cy="1123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9" name="" descr=""/>
            <p:cNvPicPr/>
            <p:nvPr/>
          </p:nvPicPr>
          <p:blipFill>
            <a:blip r:embed="rId1"/>
            <a:srcRect l="6136" t="0" r="7364" b="0"/>
            <a:stretch/>
          </p:blipFill>
          <p:spPr>
            <a:xfrm>
              <a:off x="228600" y="0"/>
              <a:ext cx="895320" cy="20131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1600200" y="30492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Las partes del AD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914400" y="3657600"/>
            <a:ext cx="2209680" cy="2796120"/>
            <a:chOff x="914400" y="3657600"/>
            <a:chExt cx="2209680" cy="2796120"/>
          </a:xfrm>
        </p:grpSpPr>
        <p:graphicFrame>
          <p:nvGraphicFramePr>
            <p:cNvPr id="154" name=""/>
            <p:cNvGraphicFramePr/>
            <p:nvPr/>
          </p:nvGraphicFramePr>
          <p:xfrm>
            <a:off x="914400" y="3657600"/>
            <a:ext cx="2209680" cy="17708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914400" y="3657600"/>
                      <a:ext cx="2209680" cy="1770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6" name=""/>
            <p:cNvSpPr/>
            <p:nvPr/>
          </p:nvSpPr>
          <p:spPr>
            <a:xfrm>
              <a:off x="1184400" y="5749920"/>
              <a:ext cx="1658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Un Nucleótido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4876920" y="2895480"/>
            <a:ext cx="3429000" cy="3809880"/>
            <a:chOff x="4876920" y="2895480"/>
            <a:chExt cx="3429000" cy="3809880"/>
          </a:xfrm>
        </p:grpSpPr>
        <p:graphicFrame>
          <p:nvGraphicFramePr>
            <p:cNvPr id="158" name=""/>
            <p:cNvGraphicFramePr/>
            <p:nvPr/>
          </p:nvGraphicFramePr>
          <p:xfrm>
            <a:off x="4876920" y="3296160"/>
            <a:ext cx="2825640" cy="34092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59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876920" y="3296160"/>
                      <a:ext cx="2825640" cy="3409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0" name=""/>
            <p:cNvSpPr/>
            <p:nvPr/>
          </p:nvSpPr>
          <p:spPr>
            <a:xfrm>
              <a:off x="4876920" y="2895480"/>
              <a:ext cx="3429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BASES NITROGENADA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272560" y="3497040"/>
              <a:ext cx="72504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525360" y="3497040"/>
              <a:ext cx="1055160" cy="0"/>
            </a:xfrm>
            <a:prstGeom prst="line">
              <a:avLst/>
            </a:prstGeom>
            <a:ln cap="sq"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63" name="" descr=""/>
          <p:cNvPicPr/>
          <p:nvPr/>
        </p:nvPicPr>
        <p:blipFill>
          <a:blip r:embed="rId5"/>
          <a:stretch/>
        </p:blipFill>
        <p:spPr>
          <a:xfrm>
            <a:off x="1447920" y="914400"/>
            <a:ext cx="5852880" cy="2009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52CC7-C6EF-44DA-99B1-4739DD96508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"/>
          <p:cNvGraphicFramePr/>
          <p:nvPr/>
        </p:nvGraphicFramePr>
        <p:xfrm>
          <a:off x="914400" y="0"/>
          <a:ext cx="7467480" cy="6846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0"/>
                    <a:ext cx="7467480" cy="684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"/>
          <p:cNvSpPr/>
          <p:nvPr/>
        </p:nvSpPr>
        <p:spPr>
          <a:xfrm>
            <a:off x="4419720" y="175248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962520" y="2220840"/>
            <a:ext cx="30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514600" y="2220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209680" y="92556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133720" y="1676520"/>
            <a:ext cx="2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57913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Poli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" y="0"/>
            <a:ext cx="5499000" cy="3238560"/>
          </a:xfrm>
          <a:custGeom>
            <a:avLst/>
            <a:gdLst/>
            <a:ahLst/>
            <a:rect l="l" t="t" r="r" b="b"/>
            <a:pathLst>
              <a:path w="3464" h="2040">
                <a:moveTo>
                  <a:pt x="960" y="400"/>
                </a:moveTo>
                <a:cubicBezTo>
                  <a:pt x="836" y="420"/>
                  <a:pt x="712" y="440"/>
                  <a:pt x="576" y="496"/>
                </a:cubicBezTo>
                <a:cubicBezTo>
                  <a:pt x="440" y="552"/>
                  <a:pt x="232" y="608"/>
                  <a:pt x="144" y="736"/>
                </a:cubicBezTo>
                <a:cubicBezTo>
                  <a:pt x="56" y="864"/>
                  <a:pt x="0" y="1104"/>
                  <a:pt x="48" y="1264"/>
                </a:cubicBezTo>
                <a:cubicBezTo>
                  <a:pt x="96" y="1424"/>
                  <a:pt x="184" y="1640"/>
                  <a:pt x="432" y="1696"/>
                </a:cubicBezTo>
                <a:cubicBezTo>
                  <a:pt x="680" y="1752"/>
                  <a:pt x="1264" y="1576"/>
                  <a:pt x="1536" y="1600"/>
                </a:cubicBezTo>
                <a:cubicBezTo>
                  <a:pt x="1808" y="1624"/>
                  <a:pt x="1896" y="1776"/>
                  <a:pt x="2064" y="1840"/>
                </a:cubicBezTo>
                <a:cubicBezTo>
                  <a:pt x="2232" y="1904"/>
                  <a:pt x="2424" y="2040"/>
                  <a:pt x="2544" y="1984"/>
                </a:cubicBezTo>
                <a:cubicBezTo>
                  <a:pt x="2664" y="1928"/>
                  <a:pt x="2648" y="1672"/>
                  <a:pt x="2784" y="1504"/>
                </a:cubicBezTo>
                <a:cubicBezTo>
                  <a:pt x="2920" y="1336"/>
                  <a:pt x="3256" y="1200"/>
                  <a:pt x="3360" y="976"/>
                </a:cubicBezTo>
                <a:cubicBezTo>
                  <a:pt x="3464" y="752"/>
                  <a:pt x="3456" y="320"/>
                  <a:pt x="3408" y="160"/>
                </a:cubicBezTo>
                <a:cubicBezTo>
                  <a:pt x="3360" y="0"/>
                  <a:pt x="3336" y="8"/>
                  <a:pt x="3072" y="16"/>
                </a:cubicBezTo>
                <a:cubicBezTo>
                  <a:pt x="2808" y="24"/>
                  <a:pt x="2184" y="144"/>
                  <a:pt x="1824" y="208"/>
                </a:cubicBezTo>
                <a:cubicBezTo>
                  <a:pt x="1464" y="272"/>
                  <a:pt x="1188" y="336"/>
                  <a:pt x="912" y="400"/>
                </a:cubicBezTo>
              </a:path>
            </a:pathLst>
          </a:custGeom>
          <a:noFill/>
          <a:ln w="50760">
            <a:solidFill>
              <a:srgbClr val="ff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019920" y="22860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ffff"/>
                </a:solidFill>
                <a:latin typeface="Times New Roman"/>
              </a:rPr>
              <a:t>1 nucleót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rot="3678600">
            <a:off x="6286320" y="723600"/>
            <a:ext cx="228600" cy="609840"/>
          </a:xfrm>
          <a:prstGeom prst="downArrow">
            <a:avLst>
              <a:gd name="adj1" fmla="val 50000"/>
              <a:gd name="adj2" fmla="val 66693"/>
            </a:avLst>
          </a:prstGeom>
          <a:solidFill>
            <a:srgbClr val="ff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8720-5771-4CA2-962B-5B3C25CB2E2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1066680" y="250920"/>
            <a:ext cx="7162920" cy="6218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B1F7-A8FB-400F-A1C6-D3794C55FB4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04920"/>
            <a:ext cx="7772400" cy="10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EL ADN es una doble hél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1295280"/>
            <a:ext cx="3757680" cy="556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7F3C9-AB2C-4ABD-AD83-E488C164C62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0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99"/>
                </a:solidFill>
                <a:latin typeface="Arial"/>
              </a:rPr>
              <a:t>El material genético: los cromosoma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209680" y="1981080"/>
            <a:ext cx="421668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CD493-7E53-4266-B1D4-361147D1C5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2362320" y="6172200"/>
            <a:ext cx="1066680" cy="304920"/>
          </a:xfrm>
          <a:prstGeom prst="rect">
            <a:avLst/>
          </a:prstGeom>
          <a:noFill/>
          <a:ln cap="sq"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6172200"/>
            <a:ext cx="990720" cy="380880"/>
          </a:xfrm>
          <a:prstGeom prst="rect">
            <a:avLst/>
          </a:prstGeom>
          <a:noFill/>
          <a:ln cap="sq"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286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152280"/>
            <a:ext cx="129528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3300"/>
                </a:solidFill>
                <a:latin typeface="Times New Roman"/>
              </a:rPr>
              <a:t>URACI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467480" y="0"/>
            <a:ext cx="129564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CITOS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543800" y="1523880"/>
            <a:ext cx="160020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GUA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467480" y="312408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ADEN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43800" y="4648320"/>
            <a:ext cx="12193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ff"/>
                </a:solidFill>
                <a:latin typeface="Times New Roman"/>
              </a:rPr>
              <a:t>TI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33E6-2361-4289-B584-FED22D66257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066680" y="762120"/>
            <a:ext cx="3429000" cy="336708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5105520" y="762120"/>
            <a:ext cx="3429000" cy="324468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438280" y="419112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858000" y="4114800"/>
            <a:ext cx="0" cy="685800"/>
          </a:xfrm>
          <a:prstGeom prst="line">
            <a:avLst/>
          </a:prstGeom>
          <a:ln cap="sq" w="2556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51055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R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172200" y="5105520"/>
            <a:ext cx="175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3300"/>
                </a:solidFill>
                <a:latin typeface="Comic Sans MS"/>
              </a:rPr>
              <a:t>DN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467480" y="2362320"/>
            <a:ext cx="609840" cy="53316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505320" y="2438280"/>
            <a:ext cx="609480" cy="533520"/>
          </a:xfrm>
          <a:prstGeom prst="ellipse">
            <a:avLst/>
          </a:prstGeom>
          <a:noFill/>
          <a:ln cap="sq"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E1DC8-09C2-4A26-9D01-DB110116982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Tres tipos de 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609120" y="1752120"/>
            <a:ext cx="3429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RNA mensajero (mR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914400" y="3581280"/>
            <a:ext cx="2819520" cy="227484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572000" y="54864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de transferencia (t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90480" y="5942160"/>
            <a:ext cx="32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  <a:ea typeface="Osaka"/>
              </a:rPr>
              <a:t>RNA ribosomal (rR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2"/>
          <a:stretch/>
        </p:blipFill>
        <p:spPr>
          <a:xfrm>
            <a:off x="6477120" y="3429000"/>
            <a:ext cx="1979640" cy="24098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4114800" y="1600200"/>
          <a:ext cx="2409840" cy="1857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14800" y="1600200"/>
                    <a:ext cx="2409840" cy="18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7" name=""/>
          <p:cNvSpPr/>
          <p:nvPr/>
        </p:nvSpPr>
        <p:spPr>
          <a:xfrm>
            <a:off x="5029200" y="1523880"/>
            <a:ext cx="38088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C0878-3FD5-4A9A-90A2-95B17B6436D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2590920" y="838080"/>
            <a:ext cx="41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Genes (AD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4191120"/>
            <a:ext cx="6248520" cy="22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Proteínas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9900"/>
                </a:solidFill>
                <a:latin typeface="Comic Sans MS"/>
              </a:rPr>
              <a:t>(función en catálisis y estructuras)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981080"/>
            <a:ext cx="457200" cy="198144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ff0000"/>
          </a:solidFill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6400800" y="990720"/>
            <a:ext cx="1433520" cy="34765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762120" y="2438280"/>
            <a:ext cx="320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Expresión de los ge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358A2-FE49-4AED-9DCF-0DBF6583383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0" y="1143000"/>
            <a:ext cx="9144000" cy="5715000"/>
          </a:xfrm>
          <a:prstGeom prst="rect">
            <a:avLst/>
          </a:prstGeom>
          <a:solidFill>
            <a:srgbClr val="00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250920" y="1344600"/>
            <a:ext cx="8381880" cy="530856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519120" y="2106720"/>
            <a:ext cx="187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209680"/>
            <a:ext cx="22860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REPLIC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143000" y="3200400"/>
            <a:ext cx="28526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NSCRIP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523880" y="4952880"/>
            <a:ext cx="231804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66"/>
                </a:solidFill>
                <a:latin typeface="Arial"/>
              </a:rPr>
              <a:t>TRADUC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72200" y="5638680"/>
            <a:ext cx="266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fun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715000" y="40384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ffffff"/>
                </a:solidFill>
                <a:latin typeface="Comic Sans MS"/>
              </a:rPr>
              <a:t>=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mensaj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81680" y="1447920"/>
            <a:ext cx="1752840" cy="533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1447920"/>
            <a:ext cx="2133360" cy="838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638680" y="205740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Comic Sans MS"/>
              </a:rPr>
              <a:t>=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</a:rPr>
              <a:t>inform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6197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66"/>
                </a:solidFill>
                <a:latin typeface="Arial"/>
              </a:rPr>
              <a:t>Proceso de expresión de los gen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E76E-2913-42E0-8955-183CC4ECC67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Qué es la Biotecnología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143000" y="1219320"/>
            <a:ext cx="6491160" cy="5170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E96B9-0F96-4E95-8849-7399DB35B40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0" y="1219320"/>
            <a:ext cx="9144000" cy="4449600"/>
            <a:chOff x="0" y="1219320"/>
            <a:chExt cx="9144000" cy="4449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0" y="1219320"/>
              <a:ext cx="91440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1447920" y="1343160"/>
              <a:ext cx="6019560" cy="947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800" spc="-1" strike="noStrike">
                  <a:solidFill>
                    <a:srgbClr val="000099"/>
                  </a:solidFill>
                  <a:latin typeface="Arial"/>
                </a:rPr>
                <a:t>TRANSCRIPCION: SINTESIS DE AR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400800" y="4238640"/>
              <a:ext cx="274320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Cadena de ARN creciend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477120" y="2105280"/>
              <a:ext cx="2666880" cy="778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Hebra de DNA mold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2895480" y="4695840"/>
              <a:ext cx="3048120" cy="825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ff0000"/>
                  </a:solidFill>
                  <a:latin typeface="Arial"/>
                </a:rPr>
                <a:t>Dirección de la síntesis de ARN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384A-1691-4AD7-BA60-4F1E71B1F87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2438280" y="0"/>
          <a:ext cx="62708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0"/>
                    <a:ext cx="62708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"/>
          <p:cNvSpPr/>
          <p:nvPr/>
        </p:nvSpPr>
        <p:spPr>
          <a:xfrm>
            <a:off x="2438280" y="1828800"/>
            <a:ext cx="6248520" cy="1334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0000"/>
                </a:solidFill>
                <a:latin typeface="Times New Roman"/>
              </a:rPr>
              <a:t>La hebra inferior del DNA es el molde para la síntesis de R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33cc"/>
                </a:solidFill>
                <a:latin typeface="Times New Roman"/>
              </a:rPr>
              <a:t>La RNA polimerasa hace una copia de la secuencia de DNA pero substituyendo timidina (T) por uridina (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743200" y="4952880"/>
            <a:ext cx="5562720" cy="120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76720" y="0"/>
            <a:ext cx="373356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0000"/>
                </a:solidFill>
                <a:latin typeface="Times New Roman"/>
              </a:rPr>
              <a:t>Transcripción del AD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0880" y="3505320"/>
            <a:ext cx="2210040" cy="32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Times New Roman"/>
              </a:rPr>
              <a:t>La hebra inferior del dúplex es usada como molde para sintetizar el RNA. Sin embargo, la secuencia de bases del RNA es la misma que la de la hebra superior, con U en lugar de 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34120" y="4952880"/>
            <a:ext cx="304560" cy="1219320"/>
          </a:xfrm>
          <a:prstGeom prst="downArrow">
            <a:avLst>
              <a:gd name="adj1" fmla="val 50000"/>
              <a:gd name="adj2" fmla="val 100089"/>
            </a:avLst>
          </a:prstGeom>
          <a:solidFill>
            <a:srgbClr val="ff00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1828800"/>
            <a:ext cx="26668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http://www-class.unl.edu/biochem/gp2/m_biology/animation/gene/gene_a2.htm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D052-E7E0-431F-A4A7-8FD658B3B8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pro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1"/>
          <a:stretch/>
        </p:blipFill>
        <p:spPr>
          <a:xfrm>
            <a:off x="0" y="1981080"/>
            <a:ext cx="8686800" cy="3824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567D-42B1-4B21-B5B1-2DE38A4F829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structura de un gen eucarion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2" name=""/>
          <p:cNvGraphicFramePr/>
          <p:nvPr/>
        </p:nvGraphicFramePr>
        <p:xfrm>
          <a:off x="914400" y="1905120"/>
          <a:ext cx="7315200" cy="442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1905120"/>
                    <a:ext cx="7315200" cy="44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B36F6-6CC9-43D8-AC68-C07C9D7C35F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352680" y="369720"/>
            <a:ext cx="5589720" cy="648828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1752480"/>
            <a:ext cx="32767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Genes de eucariontes son interrumpidos por secuencias</a:t>
            </a:r>
            <a:r>
              <a:rPr b="1" lang="es-ES_tradnl" sz="2800" spc="-1" strike="noStrike">
                <a:solidFill>
                  <a:srgbClr val="ffff00"/>
                </a:solidFill>
                <a:latin typeface="Arial"/>
                <a:ea typeface="Arial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Arial"/>
              </a:rPr>
              <a:t>no codificantes (intron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5257800" y="1676520"/>
            <a:ext cx="2209680" cy="101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Transcrip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934320" y="54864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  <a:ea typeface="Arial"/>
              </a:rPr>
              <a:t>mRNA madu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A7FC-01E3-4E17-954D-A03B5578852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62120" y="706320"/>
            <a:ext cx="7696080" cy="6151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BB9D-1583-4760-930A-90982E584D1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990720" y="1585800"/>
            <a:ext cx="7924680" cy="5272200"/>
          </a:xfrm>
          <a:prstGeom prst="rect">
            <a:avLst/>
          </a:prstGeom>
          <a:ln w="0">
            <a:noFill/>
          </a:ln>
        </p:spPr>
      </p:pic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7924680" cy="1524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Arial"/>
              </a:rPr>
              <a:t>En procariontes la transcripción y la traducción están acoplados en el tiempo y en el espacio</a:t>
            </a:r>
            <a:r>
              <a:rPr b="0" lang="es-C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5B5C4-2D5C-4CDA-83C1-E268CF4F03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00"/>
                </a:solidFill>
                <a:latin typeface="Arial"/>
              </a:rPr>
              <a:t>Genes de procariontes están asociados en opero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1066680" y="1981080"/>
          <a:ext cx="7162920" cy="431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7162920" cy="431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1281-41C3-4764-A92A-F65249175EDF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000066"/>
                </a:solidFill>
                <a:latin typeface="Arial"/>
              </a:rPr>
              <a:t>Operón lactosa de </a:t>
            </a:r>
            <a:r>
              <a:rPr b="1" i="1" lang="es-CL" sz="4400" spc="-1" strike="noStrike">
                <a:solidFill>
                  <a:srgbClr val="000066"/>
                </a:solidFill>
                <a:latin typeface="Arial"/>
              </a:rPr>
              <a:t>E. col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990720" y="1981080"/>
            <a:ext cx="6019560" cy="36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21859-14C7-4897-8BDE-8181455F9E9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609480" y="152280"/>
            <a:ext cx="838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CESO DE EXPRESIÓN GÉNICA: DIFERENCIAS ENTRE PROCARIONTES Y EUCARIO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825-749E-46FA-B11A-02316DF6AF0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3048120" y="2743200"/>
            <a:ext cx="2438280" cy="1523880"/>
          </a:xfrm>
          <a:prstGeom prst="ellipse">
            <a:avLst/>
          </a:prstGeom>
          <a:solidFill>
            <a:srgbClr val="bbe0e3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352680" y="3124080"/>
            <a:ext cx="2362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Ingeniería genét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6172200" y="29718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2981000">
            <a:off x="5257440" y="175248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rot="19194000">
            <a:off x="5409720" y="4495320"/>
            <a:ext cx="381240" cy="990720"/>
          </a:xfrm>
          <a:prstGeom prst="downArrow">
            <a:avLst>
              <a:gd name="adj1" fmla="val 50000"/>
              <a:gd name="adj2" fmla="val 64967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481400">
            <a:off x="3200040" y="4572000"/>
            <a:ext cx="380880" cy="990720"/>
          </a:xfrm>
          <a:prstGeom prst="downArrow">
            <a:avLst>
              <a:gd name="adj1" fmla="val 50000"/>
              <a:gd name="adj2" fmla="val 65028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5539200">
            <a:off x="2245680" y="2855520"/>
            <a:ext cx="382680" cy="1065240"/>
          </a:xfrm>
          <a:prstGeom prst="downArrow">
            <a:avLst>
              <a:gd name="adj1" fmla="val 50000"/>
              <a:gd name="adj2" fmla="val 69591"/>
            </a:avLst>
          </a:prstGeom>
          <a:solidFill>
            <a:srgbClr val="ff00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562720" y="1143000"/>
            <a:ext cx="2209680" cy="914400"/>
          </a:xfrm>
          <a:prstGeom prst="ellipse">
            <a:avLst/>
          </a:prstGeom>
          <a:solidFill>
            <a:srgbClr val="ff99cc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91320" y="129528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99"/>
                </a:solidFill>
                <a:latin typeface="Arial"/>
              </a:rPr>
              <a:t>Proteínas recombina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934320" y="2590920"/>
            <a:ext cx="1828800" cy="1523880"/>
          </a:xfrm>
          <a:prstGeom prst="ellipse">
            <a:avLst/>
          </a:prstGeom>
          <a:solidFill>
            <a:srgbClr val="cccc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010280" y="2819520"/>
            <a:ext cx="190512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Modificación genética de vías metabólicas</a:t>
            </a: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8600" y="2514600"/>
            <a:ext cx="1600200" cy="1523880"/>
          </a:xfrm>
          <a:prstGeom prst="ellipse">
            <a:avLst/>
          </a:prstGeom>
          <a:solidFill>
            <a:srgbClr val="ff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57200" y="2971800"/>
            <a:ext cx="1295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Terapia gé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19320" y="5334120"/>
            <a:ext cx="2133360" cy="1218960"/>
          </a:xfrm>
          <a:prstGeom prst="ellipse">
            <a:avLst/>
          </a:prstGeom>
          <a:solidFill>
            <a:srgbClr val="cc99ff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486400" y="5486400"/>
            <a:ext cx="1981080" cy="1219320"/>
          </a:xfrm>
          <a:prstGeom prst="ellipse">
            <a:avLst/>
          </a:prstGeom>
          <a:solidFill>
            <a:srgbClr val="99ff99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371600" y="5562720"/>
            <a:ext cx="1828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Arial"/>
              </a:rPr>
              <a:t>Animales y plantas transgénic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638680" y="571500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99"/>
                </a:solidFill>
                <a:latin typeface="Arial"/>
              </a:rPr>
              <a:t>vacu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0"/>
            <a:ext cx="7010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Aplicaciones de Ingeniería genética para biotecnologí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1C33-35E4-4D92-9180-E330CAC18130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99"/>
                </a:solidFill>
                <a:latin typeface="Arial"/>
              </a:rPr>
              <a:t>Temario gene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295280"/>
            <a:ext cx="76960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Bases moleculares de l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Técnicas de Ingeniería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Arial"/>
              </a:rPr>
              <a:t>Aplicaciones de Ing. Genétic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85800" y="3657600"/>
            <a:ext cx="7772400" cy="28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0000"/>
                </a:solidFill>
                <a:latin typeface="Arial"/>
                <a:ea typeface="Osaka"/>
              </a:rPr>
              <a:t>En esta cla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son los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genes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y dónde está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Qué es el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AD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(o DNA)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¿Cómo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funcionan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Osaka"/>
              </a:rPr>
              <a:t> los ge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B65E-B3E0-4A2B-A0D2-842AD9514AB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990720" y="457200"/>
          <a:ext cx="7561080" cy="259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457200"/>
                    <a:ext cx="7561080" cy="259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838080" y="3124080"/>
          <a:ext cx="1752840" cy="2847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3124080"/>
                    <a:ext cx="175284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2743200" y="2895480"/>
          <a:ext cx="1628640" cy="3086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4320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"/>
          <p:cNvGraphicFramePr/>
          <p:nvPr/>
        </p:nvGraphicFramePr>
        <p:xfrm>
          <a:off x="4419720" y="2895480"/>
          <a:ext cx="1628640" cy="30862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419720" y="2895480"/>
                    <a:ext cx="1628640" cy="308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1" name=""/>
          <p:cNvGraphicFramePr/>
          <p:nvPr/>
        </p:nvGraphicFramePr>
        <p:xfrm>
          <a:off x="6248520" y="3048120"/>
          <a:ext cx="1752480" cy="28479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48520" y="3048120"/>
                    <a:ext cx="1752480" cy="284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5486400" y="5715000"/>
          <a:ext cx="3114720" cy="542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486400" y="5715000"/>
                    <a:ext cx="311472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380880" y="21337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Comic Sans MS"/>
                <a:ea typeface="Osaka"/>
              </a:rPr>
              <a:t>Streptococcus pneumonia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E1308-A5DB-4490-AA0A-C0010DA3DD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3352680" y="1828800"/>
            <a:ext cx="4724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Definición de un </a:t>
            </a:r>
            <a:r>
              <a:rPr b="1" lang="es-ES_tradnl" sz="3600" spc="-1" strike="noStrike">
                <a:solidFill>
                  <a:srgbClr val="cc0000"/>
                </a:solidFill>
                <a:latin typeface="Arial"/>
                <a:ea typeface="Osaka"/>
              </a:rPr>
              <a:t>“principio transformante</a:t>
            </a:r>
            <a:r>
              <a:rPr b="1" lang="es-ES_tradnl" sz="2400" spc="-1" strike="noStrike">
                <a:solidFill>
                  <a:srgbClr val="cc0000"/>
                </a:solidFill>
                <a:latin typeface="Arial"/>
                <a:ea typeface="Osaka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2819520"/>
            <a:ext cx="1752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Osaka"/>
              </a:rPr>
              <a:t>Griffith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514600" y="2666880"/>
            <a:ext cx="457200" cy="6858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00"/>
          </a:solid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8AEDD-BFAA-4819-A567-D5CC096DDBA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90720" y="228600"/>
          <a:ext cx="7665840" cy="3057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28600"/>
                    <a:ext cx="7665840" cy="3057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6334200" y="3276720"/>
          <a:ext cx="2809800" cy="3295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334200" y="3276720"/>
                    <a:ext cx="2809800" cy="329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4114800" y="5943600"/>
          <a:ext cx="2390760" cy="542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114800" y="5943600"/>
                    <a:ext cx="2390760" cy="54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3505320" y="3200400"/>
          <a:ext cx="3352680" cy="2346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505320" y="3200400"/>
                    <a:ext cx="3352680" cy="234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57200" y="3200400"/>
          <a:ext cx="3048120" cy="2370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57200" y="3200400"/>
                    <a:ext cx="3048120" cy="237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5A989-58DC-4AA1-A001-C2A2BC94BA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76212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99"/>
                </a:solidFill>
                <a:latin typeface="Arial"/>
              </a:rPr>
              <a:t>DEFINIENDO AL 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600200"/>
            <a:ext cx="83822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Mas de una definición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0066"/>
                </a:solidFill>
                <a:latin typeface="Arial"/>
              </a:rPr>
              <a:t>Definición clásica</a:t>
            </a:r>
            <a:r>
              <a:rPr b="0" lang="es-ES_tradnl" sz="3000" spc="-1" strike="noStrike">
                <a:solidFill>
                  <a:srgbClr val="ff0066"/>
                </a:solidFill>
                <a:latin typeface="Arial"/>
              </a:rPr>
              <a:t> </a:t>
            </a:r>
            <a:r>
              <a:rPr b="1" lang="es-ES_tradnl" sz="3000" spc="-1" strike="noStrike">
                <a:solidFill>
                  <a:srgbClr val="ff0066"/>
                </a:solidFill>
                <a:latin typeface="Arial"/>
              </a:rPr>
              <a:t>(Mendel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</a:rPr>
              <a:t>Definición molecular</a:t>
            </a: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s-ES_tradnl" sz="3000" spc="-1" strike="noStrike">
                <a:solidFill>
                  <a:srgbClr val="000000"/>
                </a:solidFill>
                <a:latin typeface="Arial"/>
              </a:rPr>
              <a:t>Un gen es a un segmento lineal de ADN que contiene la información para sintetizar una molécula funcional, ya sea una proteína o un RNA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2819520"/>
            <a:ext cx="7315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066680" y="5257800"/>
            <a:ext cx="7391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0000"/>
                </a:solidFill>
                <a:latin typeface="Arial"/>
              </a:rPr>
              <a:t>Los genes están contenidos en el AD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533520"/>
            <a:ext cx="5791320" cy="914400"/>
          </a:xfrm>
          <a:prstGeom prst="wedgeRectCallout">
            <a:avLst>
              <a:gd name="adj1" fmla="val -43518"/>
              <a:gd name="adj2" fmla="val 7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583B-572D-4F91-84BC-141D82DDDFA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219320" y="1066680"/>
            <a:ext cx="6858000" cy="5513400"/>
          </a:xfrm>
          <a:prstGeom prst="rect">
            <a:avLst/>
          </a:prstGeom>
          <a:ln w="0">
            <a:noFill/>
          </a:ln>
        </p:spPr>
      </p:pic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000099"/>
                </a:solidFill>
                <a:latin typeface="Arial"/>
              </a:rPr>
              <a:t>Elementos de la estructura de un g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514600" y="175248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980000"/>
            <a:ext cx="281952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INIC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680" y="1980000"/>
            <a:ext cx="3124440" cy="726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94000" rIns="1098000" tIns="180000" bIns="180000" anchor="ctr" anchorCtr="1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Arial"/>
                <a:ea typeface="Osaka"/>
              </a:rPr>
              <a:t>TERM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809880" y="3657600"/>
            <a:ext cx="2667240" cy="3049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35268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72200" y="3200400"/>
            <a:ext cx="7621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F2F7-EF27-4326-9471-53C14D7263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15T17:47:27Z</dcterms:created>
  <dc:creator>Oriana Salazar</dc:creator>
  <dc:description/>
  <dc:language>en-US</dc:language>
  <cp:lastModifiedBy>Ing Quimica</cp:lastModifiedBy>
  <dcterms:modified xsi:type="dcterms:W3CDTF">2008-01-16T16:27:58Z</dcterms:modified>
  <cp:revision>330</cp:revision>
  <dc:subject/>
  <dc:title>Genes: Qué son y dónde están?</dc:title>
</cp:coreProperties>
</file>