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7.wmf" ContentType="image/x-wmf"/>
  <Override PartName="/ppt/media/image37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FC1-C359-4006-B190-A47B3FC0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7CC-FE2B-4CA0-8715-6849020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B44-C541-4CFA-822B-C1EB3EF3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79B-BFD5-4116-8150-2F125F3E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DA5-6C77-488A-9EE4-1664FF16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6E64-3D1D-4F96-A022-ACD0ABE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957F-BFC7-4865-BEB0-95DE847A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1D75-F6E6-4CBC-9D4C-10EA8E1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A66F-639C-4C85-8199-9FBE382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6AF5-7ABE-4AE8-A2C0-F7E51DD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40F3-0AA2-48D8-A9D8-C8BFC9C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AB9-BDBC-4AE0-9F38-A0999056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E3C0-0073-4071-BFDB-46C8801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CB0C-A2AB-48CF-A1DC-F6D2E4F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6D5C-2ED2-486B-8A68-E85CFBE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64DF-BAD7-47D4-9A33-47D21F9D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A26A-77A0-446C-9A8A-CEE43255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BE2-D035-4966-A0BF-06DD9D9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485-8CDC-49A3-B1A6-22D925D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DB4-6586-443F-8150-C796E817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698-2EF8-4DF1-9907-939493D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C72-182B-4C41-AF08-2D81755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03A-557C-4530-A337-F31E32D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F02-D7E4-46B4-ACA2-9235CF8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4BE0-AD53-4CDF-A5AF-C70C1DECB7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35B-EA44-4F49-9623-1C19496FFB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8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657600"/>
            <a:ext cx="2209680" cy="2796120"/>
            <a:chOff x="914400" y="3657600"/>
            <a:chExt cx="2209680" cy="2796120"/>
          </a:xfrm>
        </p:grpSpPr>
        <p:graphicFrame>
          <p:nvGraphicFramePr>
            <p:cNvPr id="154" name=""/>
            <p:cNvGraphicFramePr/>
            <p:nvPr/>
          </p:nvGraphicFramePr>
          <p:xfrm>
            <a:off x="914400" y="3657600"/>
            <a:ext cx="2209680" cy="177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657600"/>
                      <a:ext cx="2209680" cy="177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1184400" y="5749920"/>
              <a:ext cx="165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n Nucleóti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6920" y="2895480"/>
            <a:ext cx="3429000" cy="3809880"/>
            <a:chOff x="4876920" y="2895480"/>
            <a:chExt cx="3429000" cy="3809880"/>
          </a:xfrm>
        </p:grpSpPr>
        <p:graphicFrame>
          <p:nvGraphicFramePr>
            <p:cNvPr id="158" name=""/>
            <p:cNvGraphicFramePr/>
            <p:nvPr/>
          </p:nvGraphicFramePr>
          <p:xfrm>
            <a:off x="4876920" y="3296160"/>
            <a:ext cx="2825640" cy="340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296160"/>
                      <a:ext cx="2825640" cy="340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4876920" y="2895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560" y="349704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5360" y="349704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2D0-4024-4478-A1A5-08B1A64D7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8D0-197A-4C06-83C3-D16E5D4AE6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DF5-6C22-4CB2-B51F-09700EE0B8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EA5-756C-4F33-ABA0-3F39C8DEE6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2166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059-2498-4299-81ED-2BABB771F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9D0-BBED-4682-9E2B-3614B7F62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6C2-7731-4CC4-821B-55D3144B1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493-288C-4DBA-9C56-A354E8EA33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9B0-EC84-4C0E-A9D9-A1F16FBCA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65D-58AE-4168-BBFB-3BF9C9DD6A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0E0-002F-433C-9B8B-659BF2FFE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D01-76BB-41C9-AA54-82EEE36B46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B61-1608-4539-9B3E-0DB809A101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4E7-6FD7-49A4-9B45-C08DB98218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0D8-52DA-4177-95AB-E0E8AEAF8F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D10-2478-4266-ACF4-3E1109C9C9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48E-45B1-486A-9BA6-EDDF31E52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C87-7D45-4E26-97DC-A348FF3A1B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998-B860-4E75-9222-B8205103A4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400" spc="-1" strike="noStrike">
                <a:solidFill>
                  <a:srgbClr val="000066"/>
                </a:solidFill>
                <a:latin typeface="Arial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1956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F81-C4CD-4125-B9DB-128769495D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522-16D8-4577-BB06-E8DD1F4EF3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C42-7096-42D4-AE00-9A1BAD8A8B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ses moleculares de l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plicaciones de Ing.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3AB-4E55-42BF-AEFF-4396BDCA15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2133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990-67A2-4E3C-8759-F7DE4D7A1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4E3-F5D9-49F4-A699-491F6F725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451-44E6-4C68-BB4A-C2844A329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2578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DC6-2F1B-4D23-86B3-E4CDF323E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54E-01EF-4098-A4DA-F5B9980CE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8-01-16T16:27:58Z</dcterms:modified>
  <cp:revision>330</cp:revision>
  <dc:subject/>
  <dc:title>Genes: Qué son y dónde están?</dc:title>
</cp:coreProperties>
</file>