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5BA-8BCE-4642-A8A2-AF22CA4D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B64-C2DF-4059-AD55-65362C8F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0A8-CF98-421E-AEA0-16661563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DCF-F08F-4F57-82C2-9859D78C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857-08E7-48A0-A72C-953291E2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CAB-1630-4CED-9901-C9B32204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737-EA26-4F4E-8BDF-FA2013E6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A3E-050F-4459-99D2-DC87523F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342-D4B0-4DBE-BC73-9452BAAD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596-9071-4C9C-A895-985C073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B60-5637-4447-A008-EB965C68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DD7-60F3-4D27-830D-63A56E5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1BD2-40A4-4048-B5A7-2F9611CEE1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5880" y="2309760"/>
            <a:ext cx="789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troducción a la 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y Enzimologí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04640"/>
            <a:ext cx="867564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Reducción: Foto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1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6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6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Oxidación:     Respirac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 6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2060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86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5800" y="57992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86 Kcal/molécula de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0240" y="1550880"/>
            <a:ext cx="8123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oda la E que se libera en la hidrólisis de un enlace C-H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útil para formar un enlace quí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a molécula de glucosa que se oxida forma 36-38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da enlace P que se hidroliza del ATP libera 7.3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cada molécula de glucosa que se oxida se producen 280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5% re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3840" y="2629080"/>
            <a:ext cx="477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– T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1480" y="5119560"/>
            <a:ext cx="36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libre     Entalpía     Entrop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7294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820880"/>
            <a:ext cx="784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de enlace contenida en reactantes debe ser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 E contenida en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menta el desorden del sistema (2ª Ley de la 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44686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7280" y="4468680"/>
            <a:ext cx="486000" cy="615960"/>
          </a:xfrm>
          <a:prstGeom prst="downArrow">
            <a:avLst>
              <a:gd name="adj1" fmla="val 50000"/>
              <a:gd name="adj2" fmla="val 3168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44686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480" y="907920"/>
            <a:ext cx="92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ómo se puede predecir que una reacción ocurra en forma espontánea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692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005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620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3933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504360" y="23094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vel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816360" y="20937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vel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708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9800" y="366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6928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57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2720" y="2276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98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76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134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31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6920" y="2198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81640" y="903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5800" y="54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50520" y="275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50920" y="134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9240" y="1773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adminis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80360" y="1269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83600" y="19828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lib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76280"/>
            <a:ext cx="1584360" cy="9763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85080" y="9079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885080" y="475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15600" y="376200"/>
            <a:ext cx="122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0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124000" y="198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200" y="4340160"/>
            <a:ext cx="333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erg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4720" y="4400640"/>
            <a:ext cx="38512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Oxi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erg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gra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t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56000" y="1987560"/>
            <a:ext cx="3311280" cy="1297080"/>
          </a:xfrm>
          <a:prstGeom prst="rect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3480" y="2786040"/>
            <a:ext cx="786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0360" y="907920"/>
            <a:ext cx="680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 célula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n la Energía de Acti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2276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3573360"/>
            <a:ext cx="0" cy="64764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992" t="40641" r="53994" b="10017"/>
          <a:stretch/>
        </p:blipFill>
        <p:spPr>
          <a:xfrm>
            <a:off x="1598760" y="1125360"/>
            <a:ext cx="5487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464" t="24822" r="51916" b="19637"/>
          <a:stretch/>
        </p:blipFill>
        <p:spPr>
          <a:xfrm>
            <a:off x="900000" y="44280"/>
            <a:ext cx="7128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1117" t="32697" r="15315" b="16456"/>
          <a:stretch/>
        </p:blipFill>
        <p:spPr>
          <a:xfrm>
            <a:off x="1905120" y="533520"/>
            <a:ext cx="4495680" cy="5105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2720" y="5772240"/>
            <a:ext cx="824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Km y la Vmax para una reacción catalizada por una enzima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das desde  los gráficos de velocidad inicial versus concen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l sustra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4960" y="803160"/>
            <a:ext cx="884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IGNIFICADO de Km y Vm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n dos parámetros que definen el comportamiento ci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una enzima como una funció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representa la concentración de sustrato que se re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a alcanzar  la mitad de la velocidad máxim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es una concentración. Se expresa como moles/litro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max es una medida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 expresa en moles/min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68360" y="0"/>
          <a:ext cx="8136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136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476280"/>
          <a:ext cx="799128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799128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99120" y="11253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competitiva y no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58480" y="198900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cs.whfreeman.com/thelifewire/content/chp06/06020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2464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wiley.com/college/pratt/0471393878/student/animations/enzyme_inhibition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24360" y="2781360"/>
            <a:ext cx="1512720" cy="865080"/>
          </a:xfrm>
          <a:prstGeom prst="ellipse">
            <a:avLst/>
          </a:prstGeom>
          <a:solidFill>
            <a:srgbClr val="f6f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1268280"/>
            <a:ext cx="78692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nzimas acoplan la combustión espontánea de los alimentos a reacciones que produ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3933720"/>
            <a:ext cx="0" cy="108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5300640"/>
            <a:ext cx="42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50280" y="495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867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8431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la célula fabrica ATP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620640"/>
            <a:ext cx="8893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Directa: fosforilación a nivel de sustrato: cuando un sustrato (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dona su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l ADP para hacer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37711" t="59170" r="29000" b="8669"/>
          <a:stretch/>
        </p:blipFill>
        <p:spPr>
          <a:xfrm>
            <a:off x="3635280" y="2276640"/>
            <a:ext cx="2536920" cy="18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76320" y="5603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992" t="51345" r="53002" b="10017"/>
          <a:stretch/>
        </p:blipFill>
        <p:spPr>
          <a:xfrm>
            <a:off x="1792440" y="1228680"/>
            <a:ext cx="5732280" cy="3610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rcRect l="4015" t="32697" r="59993" b="50022"/>
          <a:stretch/>
        </p:blipFill>
        <p:spPr>
          <a:xfrm>
            <a:off x="2054160" y="4680000"/>
            <a:ext cx="5326200" cy="1917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624320" y="299880"/>
            <a:ext cx="56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08360" y="1413000"/>
            <a:ext cx="48564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5040" y="955800"/>
            <a:ext cx="3274560" cy="459720"/>
          </a:xfrm>
          <a:prstGeom prst="rect">
            <a:avLst/>
          </a:prstGeom>
          <a:solidFill>
            <a:srgbClr val="f6f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10800000">
            <a:off x="3923280" y="1555920"/>
            <a:ext cx="3600360" cy="720720"/>
          </a:xfrm>
          <a:custGeom>
            <a:avLst/>
            <a:gdLst>
              <a:gd name="textAreaLeft" fmla="*/ 1199880 w 3600360"/>
              <a:gd name="textAreaRight" fmla="*/ 3083400 w 3600360"/>
              <a:gd name="textAreaTop" fmla="*/ 34380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26000" y="549360"/>
            <a:ext cx="48564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0480" y="115920"/>
            <a:ext cx="1872360" cy="459720"/>
          </a:xfrm>
          <a:prstGeom prst="rect">
            <a:avLst/>
          </a:prstGeom>
          <a:gradFill rotWithShape="0">
            <a:gsLst>
              <a:gs pos="0">
                <a:srgbClr val="ca040d"/>
              </a:gs>
              <a:gs pos="100000">
                <a:srgbClr val="5d01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611640" y="1542960"/>
            <a:ext cx="3311640" cy="733680"/>
          </a:xfrm>
          <a:custGeom>
            <a:avLst/>
            <a:gdLst>
              <a:gd name="textAreaLeft" fmla="*/ 1103760 w 3311640"/>
              <a:gd name="textAreaRight" fmla="*/ 2836440 w 3311640"/>
              <a:gd name="textAreaTop" fmla="*/ 34992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26370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284640"/>
            <a:ext cx="2159280" cy="720720"/>
          </a:xfrm>
          <a:prstGeom prst="rect">
            <a:avLst/>
          </a:prstGeom>
          <a:solidFill>
            <a:srgbClr val="f000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3141720"/>
            <a:ext cx="4176720" cy="504720"/>
          </a:xfrm>
          <a:prstGeom prst="rect">
            <a:avLst/>
          </a:prstGeom>
          <a:solidFill>
            <a:srgbClr val="f000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0370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653000"/>
            <a:ext cx="3600360" cy="485640"/>
          </a:xfrm>
          <a:prstGeom prst="leftArrow">
            <a:avLst>
              <a:gd name="adj1" fmla="val 50000"/>
              <a:gd name="adj2" fmla="val 18534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3640" y="3645000"/>
            <a:ext cx="486000" cy="718920"/>
          </a:xfrm>
          <a:prstGeom prst="downArrow">
            <a:avLst>
              <a:gd name="adj1" fmla="val 50000"/>
              <a:gd name="adj2" fmla="val 3698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4365720"/>
            <a:ext cx="2303640" cy="1152360"/>
          </a:xfrm>
          <a:prstGeom prst="ellipse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3440" y="2311560"/>
            <a:ext cx="20476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270972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680" y="315900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CIO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080" y="2349360"/>
            <a:ext cx="22305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781360"/>
            <a:ext cx="48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21440" y="5516640"/>
            <a:ext cx="1726920" cy="1123920"/>
          </a:xfrm>
          <a:custGeom>
            <a:avLst/>
            <a:gdLst>
              <a:gd name="textAreaLeft" fmla="*/ 231120 w 1726920"/>
              <a:gd name="textAreaRight" fmla="*/ 1495800 w 1726920"/>
              <a:gd name="textAreaTop" fmla="*/ 196560 h 1123920"/>
              <a:gd name="textAreaBottom" fmla="*/ 81504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5373720"/>
            <a:ext cx="3384720" cy="1341360"/>
          </a:xfrm>
          <a:prstGeom prst="rect">
            <a:avLst/>
          </a:prstGeom>
          <a:solidFill>
            <a:srgbClr val="f6f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baj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ulso nerv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vimiento organ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9640" y="104940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Indirecta: Mecanismo: Quimiosm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sustratos de los alimentos donan s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 moléculas aceptoras: NAD+, NADP+ , FA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para producción de moléculas reducid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rotón difunde a través de la membrana plasmática (bacterias) o mitocondrial o tilacoide (eucariontes) e ingresa nuevamente activando ATPa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P + P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564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14720" y="952560"/>
            <a:ext cx="4714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992" t="18018" r="30989" b="13986"/>
          <a:stretch/>
        </p:blipFill>
        <p:spPr>
          <a:xfrm>
            <a:off x="838080" y="1504800"/>
            <a:ext cx="6632640" cy="4972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43000" y="5335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838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3352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4360" y="2349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highered.mcgraw-hill.com/sites/0072437316/student_view0/chapter9/animations.html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1628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2274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brookscole.com/chemistry_d/templates/student_resources/shared_resources/animations/oxidative/oxidativephosphoryl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6920" y="3665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n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41400" y="260280"/>
            <a:ext cx="4602240" cy="62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1001" t="19335" r="28003" b="11334"/>
          <a:stretch/>
        </p:blipFill>
        <p:spPr>
          <a:xfrm>
            <a:off x="838080" y="0"/>
            <a:ext cx="5410440" cy="396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rcRect l="1001" t="51339" r="28003" b="11334"/>
          <a:stretch/>
        </p:blipFill>
        <p:spPr>
          <a:xfrm>
            <a:off x="838080" y="3962520"/>
            <a:ext cx="5410440" cy="2133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rcRect l="1001" t="59340" r="14998" b="30001"/>
          <a:stretch/>
        </p:blipFill>
        <p:spPr>
          <a:xfrm>
            <a:off x="838080" y="6095880"/>
            <a:ext cx="6400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76720" y="2133720"/>
            <a:ext cx="525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692280"/>
            <a:ext cx="2627280" cy="936360"/>
          </a:xfrm>
          <a:prstGeom prst="rect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92376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Í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Capacidad de realizar un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" y="4549680"/>
            <a:ext cx="7572240" cy="947160"/>
          </a:xfrm>
          <a:prstGeom prst="rect">
            <a:avLst/>
          </a:prstGeom>
          <a:solidFill>
            <a:srgbClr val="f6f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dad de realizar una reacción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2090880"/>
            <a:ext cx="486000" cy="1985760"/>
          </a:xfrm>
          <a:prstGeom prst="downArrow">
            <a:avLst>
              <a:gd name="adj1" fmla="val 50000"/>
              <a:gd name="adj2" fmla="val 1021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527720"/>
            <a:ext cx="84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815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6384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2349360"/>
            <a:ext cx="1407960" cy="486000"/>
          </a:xfrm>
          <a:prstGeom prst="rightArrow">
            <a:avLst>
              <a:gd name="adj1" fmla="val 50000"/>
              <a:gd name="adj2" fmla="val 72426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27480" y="2276640"/>
            <a:ext cx="527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ida en los enlaces químicos entre átomos que forman las molécu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constituyen de los alimentos (C-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0000" y="68436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24000" y="404640"/>
            <a:ext cx="71928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1197000"/>
            <a:ext cx="93528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87920" y="255600"/>
            <a:ext cx="60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ética: comprometida directamente en re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4680" y="123660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cial: energía de almacen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0360" y="2532240"/>
            <a:ext cx="72932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ENERGI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ráu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ér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Electro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Quí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24920" y="4836960"/>
            <a:ext cx="556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ODINÁM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udia las transferencias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8480" y="733320"/>
            <a:ext cx="8000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YES DE LA TERMO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ª Ley: la energía no se crea ni se destru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ólo se trans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ª Ley: toda transferencia de energía 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aumento en el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24479" t="31116" r="16916" b="28583"/>
          <a:stretch/>
        </p:blipFill>
        <p:spPr>
          <a:xfrm>
            <a:off x="468360" y="476280"/>
            <a:ext cx="81723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7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9880" y="5661000"/>
            <a:ext cx="826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qué los organismos vivos no ocupan el calor como forma de E útil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que calor produce T cuando hay gradientes de t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nergía se transfiere en pequeñas cantidades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miento 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1916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6400" y="3043080"/>
            <a:ext cx="5825520" cy="398880"/>
          </a:xfrm>
          <a:prstGeom prst="rect">
            <a:avLst/>
          </a:prstGeom>
          <a:solidFill>
            <a:srgbClr val="f114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CIONES de OXIDO-REDUCCIÓN: 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3882960"/>
            <a:ext cx="799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écula que gana electrón: se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écula que pierde electrón: se ox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0520" y="579924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e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814" t="39917" r="32042" b="15971"/>
          <a:stretch/>
        </p:blipFill>
        <p:spPr>
          <a:xfrm>
            <a:off x="395280" y="620640"/>
            <a:ext cx="8064360" cy="4897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5400" y="5608800"/>
            <a:ext cx="69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es viajan acompañados de un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ransferencias de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40:59Z</dcterms:created>
  <dc:creator>Ana Maria Ronco</dc:creator>
  <dc:description/>
  <dc:language>en-US</dc:language>
  <cp:lastModifiedBy>Ana Maria Ronco</cp:lastModifiedBy>
  <dcterms:modified xsi:type="dcterms:W3CDTF">2008-01-07T21:03:29Z</dcterms:modified>
  <cp:revision>58</cp:revision>
  <dc:subject/>
  <dc:title>Diapositiva 1</dc:title>
</cp:coreProperties>
</file>