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175-2089-4C29-A59E-3236699F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3F8-B6C5-4AE0-A51A-42E70F7A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C48-6FB4-490C-A9A1-DED513B7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900-33CD-44B0-AE8E-DA5CE0AA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54E-F811-40D1-A418-63726D8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87D-7831-449C-81F8-A801A12D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C58-8965-4C7A-BC80-FFD7E2A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B6A-6313-4EEC-8185-860EEE68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B59-C104-4299-80E8-D1BE3D54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EB3-B0D2-46E9-B4B9-F245D827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A1F-953D-4999-8442-CEE5D159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2FF-F0A6-41E5-A04D-95D09A1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4C5-63E1-4BD6-8E9D-C57329C42E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5880" y="2309760"/>
            <a:ext cx="78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 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y Enzimologí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04640"/>
            <a:ext cx="867564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Reducción: 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1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Oxidación:     Respir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0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86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5800" y="57992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86 Kcal/molécula de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0240" y="1550880"/>
            <a:ext cx="8123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oda la E que se libera en la hidrólisis de un enlace C-H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útil para formar un enlace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molécula de glucosa que se oxida forma 36-38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da enlace P que se hidroliza del ATP libera 7.3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cada molécula de glucosa que se oxida se producen 280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5%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3840" y="2629080"/>
            <a:ext cx="47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– T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1480" y="5119560"/>
            <a:ext cx="36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libre     Entalpía     Entrop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7294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820880"/>
            <a:ext cx="78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de enlace contenida en reactantes debe ser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 E contenida en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menta el desorden del sistema (2ª Ley de la 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7280" y="4468680"/>
            <a:ext cx="486000" cy="615960"/>
          </a:xfrm>
          <a:prstGeom prst="downArrow">
            <a:avLst>
              <a:gd name="adj1" fmla="val 50000"/>
              <a:gd name="adj2" fmla="val 31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480" y="907920"/>
            <a:ext cx="92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ómo se puede predecir que una reacción ocurra en forma espontánea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692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00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620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504360" y="23094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16360" y="20937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708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9800" y="36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6928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2276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98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76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134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31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6920" y="219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81640" y="90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5800" y="54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50520" y="275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134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9240" y="1773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adminis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80360" y="1269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982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76280"/>
            <a:ext cx="1584360" cy="9763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85080" y="9079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885080" y="475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5600" y="376200"/>
            <a:ext cx="122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0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124000" y="198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200" y="4340160"/>
            <a:ext cx="333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4720" y="4400640"/>
            <a:ext cx="38512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Ox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t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56000" y="1987560"/>
            <a:ext cx="3311280" cy="129708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480" y="2786040"/>
            <a:ext cx="786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360" y="907920"/>
            <a:ext cx="68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célula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n la Energía de Ac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27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573360"/>
            <a:ext cx="0" cy="647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64" t="24822" r="51916" b="19637"/>
          <a:stretch/>
        </p:blipFill>
        <p:spPr>
          <a:xfrm>
            <a:off x="900000" y="44280"/>
            <a:ext cx="7128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99120" y="11253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 y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58480" y="198900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2464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wiley.com/college/pratt/0471393878/student/animations/enzyme_inhibit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24360" y="2781360"/>
            <a:ext cx="1512720" cy="865080"/>
          </a:xfrm>
          <a:prstGeom prst="ellipse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1268280"/>
            <a:ext cx="78692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393372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530064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50280" y="495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67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8431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20640"/>
            <a:ext cx="8893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37711" t="59170" r="29000" b="8669"/>
          <a:stretch/>
        </p:blipFill>
        <p:spPr>
          <a:xfrm>
            <a:off x="3635280" y="2276640"/>
            <a:ext cx="2536920" cy="18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6320" y="5603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992" t="51345" r="53002" b="10017"/>
          <a:stretch/>
        </p:blipFill>
        <p:spPr>
          <a:xfrm>
            <a:off x="1792440" y="1228680"/>
            <a:ext cx="5732280" cy="361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4015" t="32697" r="59993" b="50022"/>
          <a:stretch/>
        </p:blipFill>
        <p:spPr>
          <a:xfrm>
            <a:off x="2054160" y="4680000"/>
            <a:ext cx="5326200" cy="1917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24320" y="299880"/>
            <a:ext cx="56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08360" y="141300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5040" y="955800"/>
            <a:ext cx="3274560" cy="45972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0800000">
            <a:off x="3923280" y="1555920"/>
            <a:ext cx="3600360" cy="720720"/>
          </a:xfrm>
          <a:custGeom>
            <a:avLst/>
            <a:gdLst>
              <a:gd name="textAreaLeft" fmla="*/ 1199880 w 3600360"/>
              <a:gd name="textAreaRight" fmla="*/ 3083400 w 3600360"/>
              <a:gd name="textAreaTop" fmla="*/ 34380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26000" y="54936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0480" y="115920"/>
            <a:ext cx="1872360" cy="459720"/>
          </a:xfrm>
          <a:prstGeom prst="rect">
            <a:avLst/>
          </a:prstGeom>
          <a:gradFill rotWithShape="0">
            <a:gsLst>
              <a:gs pos="0">
                <a:srgbClr val="ca040d"/>
              </a:gs>
              <a:gs pos="100000">
                <a:srgbClr val="5d01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611640" y="1542960"/>
            <a:ext cx="3311640" cy="733680"/>
          </a:xfrm>
          <a:custGeom>
            <a:avLst/>
            <a:gdLst>
              <a:gd name="textAreaLeft" fmla="*/ 1103760 w 3311640"/>
              <a:gd name="textAreaRight" fmla="*/ 2836440 w 3311640"/>
              <a:gd name="textAreaTop" fmla="*/ 34992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2637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284640"/>
            <a:ext cx="2159280" cy="720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3141720"/>
            <a:ext cx="4176720" cy="504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0370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653000"/>
            <a:ext cx="3600360" cy="485640"/>
          </a:xfrm>
          <a:prstGeom prst="leftArrow">
            <a:avLst>
              <a:gd name="adj1" fmla="val 50000"/>
              <a:gd name="adj2" fmla="val 18534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3640" y="3645000"/>
            <a:ext cx="486000" cy="718920"/>
          </a:xfrm>
          <a:prstGeom prst="downArrow">
            <a:avLst>
              <a:gd name="adj1" fmla="val 50000"/>
              <a:gd name="adj2" fmla="val 3698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4365720"/>
            <a:ext cx="2303640" cy="1152360"/>
          </a:xfrm>
          <a:prstGeom prst="ellipse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3440" y="2311560"/>
            <a:ext cx="2047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70972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680" y="315900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080" y="2349360"/>
            <a:ext cx="22305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78136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1440" y="5516640"/>
            <a:ext cx="1726920" cy="1123920"/>
          </a:xfrm>
          <a:custGeom>
            <a:avLst/>
            <a:gdLst>
              <a:gd name="textAreaLeft" fmla="*/ 231120 w 1726920"/>
              <a:gd name="textAreaRight" fmla="*/ 1495800 w 1726920"/>
              <a:gd name="textAreaTop" fmla="*/ 196560 h 1123920"/>
              <a:gd name="textAreaBottom" fmla="*/ 81504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5373720"/>
            <a:ext cx="3384720" cy="1341360"/>
          </a:xfrm>
          <a:prstGeom prst="rect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baj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ulso nerv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vimiento organ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104940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+, NADP+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14720" y="952560"/>
            <a:ext cx="4714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992" t="18018" r="30989" b="13986"/>
          <a:stretch/>
        </p:blipFill>
        <p:spPr>
          <a:xfrm>
            <a:off x="838080" y="1504800"/>
            <a:ext cx="6632640" cy="4972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43000" y="533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838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335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234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9/animations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1628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2274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brookscole.com/chemistry_d/templates/student_resources/shared_resources/animations/oxidative/oxidativephosphoryl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6920" y="3665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41400" y="260280"/>
            <a:ext cx="460224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1001" t="19335" r="28003" b="11334"/>
          <a:stretch/>
        </p:blipFill>
        <p:spPr>
          <a:xfrm>
            <a:off x="838080" y="0"/>
            <a:ext cx="5410440" cy="396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1001" t="51339" r="28003" b="11334"/>
          <a:stretch/>
        </p:blipFill>
        <p:spPr>
          <a:xfrm>
            <a:off x="838080" y="3962520"/>
            <a:ext cx="5410440" cy="2133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rcRect l="1001" t="59340" r="14998" b="30001"/>
          <a:stretch/>
        </p:blipFill>
        <p:spPr>
          <a:xfrm>
            <a:off x="838080" y="6095880"/>
            <a:ext cx="6400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6720" y="2133720"/>
            <a:ext cx="525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692280"/>
            <a:ext cx="2627280" cy="93636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92376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Capacidad de realizar un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" y="4549680"/>
            <a:ext cx="7572240" cy="94716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dad de realizar una reacción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090880"/>
            <a:ext cx="486000" cy="1985760"/>
          </a:xfrm>
          <a:prstGeom prst="downArrow">
            <a:avLst>
              <a:gd name="adj1" fmla="val 50000"/>
              <a:gd name="adj2" fmla="val 1021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527720"/>
            <a:ext cx="84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815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638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2349360"/>
            <a:ext cx="1407960" cy="486000"/>
          </a:xfrm>
          <a:prstGeom prst="rightArrow">
            <a:avLst>
              <a:gd name="adj1" fmla="val 50000"/>
              <a:gd name="adj2" fmla="val 7242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276640"/>
            <a:ext cx="52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ida en los enlaces químicos entre átomos que forman las molé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constituyen de los alimentos (C-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0000" y="68436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24000" y="404640"/>
            <a:ext cx="71928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197000"/>
            <a:ext cx="93528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87920" y="255600"/>
            <a:ext cx="60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ética: comprometida directamente en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4680" y="123660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cial: energía de almacen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0360" y="2532240"/>
            <a:ext cx="7293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ENERGI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ér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Electro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24920" y="4836960"/>
            <a:ext cx="556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ODINÁM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udia las transferencias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8480" y="733320"/>
            <a:ext cx="800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YES DE LA TERMO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ª Ley: la energía no se crea ni se destru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ólo se trans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ª Ley: toda transferencia de energía 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aumento en el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4479" t="31116" r="16916" b="28583"/>
          <a:stretch/>
        </p:blipFill>
        <p:spPr>
          <a:xfrm>
            <a:off x="468360" y="476280"/>
            <a:ext cx="81723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9880" y="5661000"/>
            <a:ext cx="82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qué los organismos vivos no ocupan el calor como forma de E útil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que calor produce T cuando hay gradientes de t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nergía se transfiere en pequeñas cantidades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miento 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6400" y="3043080"/>
            <a:ext cx="5825520" cy="398880"/>
          </a:xfrm>
          <a:prstGeom prst="rect">
            <a:avLst/>
          </a:prstGeom>
          <a:solidFill>
            <a:srgbClr val="f114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CIONES de OXIDO-REDUCCIÓN: 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882960"/>
            <a:ext cx="799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gana electrón: se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pierde electrón: se ox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0520" y="579924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814" t="39917" r="32042" b="15971"/>
          <a:stretch/>
        </p:blipFill>
        <p:spPr>
          <a:xfrm>
            <a:off x="395280" y="620640"/>
            <a:ext cx="8064360" cy="489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5400" y="560880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es viajan acompañados de un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ransferencias de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40:59Z</dcterms:created>
  <dc:creator>Ana Maria Ronco</dc:creator>
  <dc:description/>
  <dc:language>en-US</dc:language>
  <cp:lastModifiedBy>Ana Maria Ronco</cp:lastModifiedBy>
  <dcterms:modified xsi:type="dcterms:W3CDTF">2008-01-07T21:03:29Z</dcterms:modified>
  <cp:revision>58</cp:revision>
  <dc:subject/>
  <dc:title>Diapositiva 1</dc:title>
</cp:coreProperties>
</file>