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1E8B-40C3-40F4-8721-DFCEEBD6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52A1-5596-41B4-86F4-376C9C03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ED6A-7516-4B89-9B73-6A41B8592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3270-1FC4-4857-963D-A92212DB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1C92-03B1-4940-B944-B67A7D87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0A03-0341-4577-B4CB-2EC8539B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23E1-4828-4636-B400-F436F870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08CE-5F6A-42BE-9140-9192ED2A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7E00-D4E8-4804-9F0A-56758EBE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DFD7-B0C1-49EB-AA7F-C9738FEA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E880-B21C-4A9A-A96B-961E03E2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DD16-06B3-4253-9D8D-55DC30B7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C016-D821-45BA-B4DB-C320F81E233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5880" y="2309760"/>
            <a:ext cx="789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ntroducción a la Bioenergé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y Enzimologí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68360" y="404640"/>
            <a:ext cx="8675640" cy="47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jemplo de Reducción: Fotosínt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+ 12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+ 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+ 6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+ 6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jemplo de Oxidación:     Respiración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+ 6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6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+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60720" y="2060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56000" y="4869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37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65800" y="5799240"/>
            <a:ext cx="34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686 Kcal/molécula de glu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90240" y="1550880"/>
            <a:ext cx="8123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 toda la E que se libera en la hidrólisis de un enlace C-H 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útil para formar un enlace quí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na molécula de glucosa que se oxida forma 36-38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da enlace P que se hidroliza del ATP libera 7.3 K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r cada molécula de glucosa que se oxida se producen 280 K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5% rend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48000" y="4508640"/>
            <a:ext cx="0" cy="576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23840" y="2629080"/>
            <a:ext cx="477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=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– T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1480" y="5119560"/>
            <a:ext cx="367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libre     Entalpía     Entrop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47640" y="572940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1820880"/>
            <a:ext cx="7848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de enlace contenida en reactantes debe ser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que E contenida en l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menta el desorden del sistema (2ª Ley de la T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32000" y="4468680"/>
            <a:ext cx="485640" cy="615960"/>
          </a:xfrm>
          <a:prstGeom prst="downArrow">
            <a:avLst>
              <a:gd name="adj1" fmla="val 50000"/>
              <a:gd name="adj2" fmla="val 31709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57280" y="4468680"/>
            <a:ext cx="486000" cy="615960"/>
          </a:xfrm>
          <a:prstGeom prst="downArrow">
            <a:avLst>
              <a:gd name="adj1" fmla="val 50000"/>
              <a:gd name="adj2" fmla="val 31685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08360" y="4468680"/>
            <a:ext cx="485640" cy="615960"/>
          </a:xfrm>
          <a:prstGeom prst="downArrow">
            <a:avLst>
              <a:gd name="adj1" fmla="val 50000"/>
              <a:gd name="adj2" fmla="val 31709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6480" y="907920"/>
            <a:ext cx="92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ómo se puede predecir que una reacción ocurra en forma espontánea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4360" y="692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4005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76720" y="62064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48360" y="393372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-504360" y="230940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vel de Ener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3816360" y="209376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vel de Ener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70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7080" y="78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9800" y="366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69280" y="56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35733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2720" y="2276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981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32360" y="335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03640" y="765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32360" y="17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32360" y="306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00000" y="2637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84360" y="1341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9272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77080" y="3141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96920" y="2198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81640" y="903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65800" y="54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50520" y="2755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50920" y="1989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050920" y="1341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9240" y="177336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adminis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380360" y="126972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83600" y="198288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libe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12000" y="476280"/>
            <a:ext cx="1584360" cy="97632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885080" y="90792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7885080" y="4759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815600" y="376200"/>
            <a:ext cx="122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80360" y="2060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124000" y="1989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200" y="4340160"/>
            <a:ext cx="3335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acciones de Re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dergón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ínt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nabol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84720" y="4400640"/>
            <a:ext cx="385128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acciones de Oxid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xergón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grad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tabol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so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556000" y="1987560"/>
            <a:ext cx="3311280" cy="1297080"/>
          </a:xfrm>
          <a:prstGeom prst="rect">
            <a:avLst/>
          </a:prstGeom>
          <a:solidFill>
            <a:srgbClr val="f114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3480" y="2786040"/>
            <a:ext cx="7869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0360" y="907920"/>
            <a:ext cx="6802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la célula 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n la Energía de Activ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3640" y="2276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Z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67280" y="3573360"/>
            <a:ext cx="0" cy="647640"/>
          </a:xfrm>
          <a:prstGeom prst="line">
            <a:avLst/>
          </a:prstGeom>
          <a:ln w="66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992" t="40641" r="53994" b="10017"/>
          <a:stretch/>
        </p:blipFill>
        <p:spPr>
          <a:xfrm>
            <a:off x="1598760" y="1125360"/>
            <a:ext cx="548784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62120" y="1000080"/>
            <a:ext cx="7619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62120" y="1000080"/>
            <a:ext cx="7619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1000080"/>
            <a:ext cx="7619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2120" y="1000080"/>
            <a:ext cx="7619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7464" t="24822" r="51916" b="19637"/>
          <a:stretch/>
        </p:blipFill>
        <p:spPr>
          <a:xfrm>
            <a:off x="900000" y="44280"/>
            <a:ext cx="7128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51117" t="32697" r="15315" b="16456"/>
          <a:stretch/>
        </p:blipFill>
        <p:spPr>
          <a:xfrm>
            <a:off x="1905120" y="533520"/>
            <a:ext cx="4495680" cy="51051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62720" y="5772240"/>
            <a:ext cx="824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La Km y la Vmax para una reacción catalizada por una enzima está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das desde  los gráficos de velocidad inicial versus concentr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l sustrat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74960" y="803160"/>
            <a:ext cx="8841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SIGNIFICADO de Km y Vma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n dos parámetros que definen el comportamiento cin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 una enzima como una función de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Km representa la concentración de sustrato que se requi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ara alcanzar  la mitad de la velocidad máxima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Km es una concentración. Se expresa como moles/litro (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Vmax es una medida de velo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 expresa en moles/minu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468360" y="0"/>
          <a:ext cx="8136000" cy="659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0"/>
                    <a:ext cx="813600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468360" y="476280"/>
          <a:ext cx="7991280" cy="58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76280"/>
                    <a:ext cx="799128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1000080"/>
            <a:ext cx="7619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99120" y="1125360"/>
            <a:ext cx="44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hibición competitiva y no compet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58480" y="1989000"/>
            <a:ext cx="68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bcs.whfreeman.com/thelifewire/content/chp06/060200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32464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wiley.com/college/pratt/0471393878/student/animations/enzyme_inhibition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924360" y="2781360"/>
            <a:ext cx="1512720" cy="865080"/>
          </a:xfrm>
          <a:prstGeom prst="ellipse">
            <a:avLst/>
          </a:prstGeom>
          <a:solidFill>
            <a:srgbClr val="f6f6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1268280"/>
            <a:ext cx="78692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enzimas acoplan la combustión espontánea de los alimentos a reacciones que produc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16360" y="3933720"/>
            <a:ext cx="0" cy="1081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56000" y="5300640"/>
            <a:ext cx="42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ciones acopl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150280" y="495360"/>
            <a:ext cx="34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cciones Acopl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4360" y="1557360"/>
            <a:ext cx="8675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8920" y="84312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la célula fabrica ATP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620640"/>
            <a:ext cx="889308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) Directa: fosforilación a nivel de sustrato: cuando un sustrato (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 dona su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l ADP para hacer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rcRect l="37711" t="59170" r="29000" b="8669"/>
          <a:stretch/>
        </p:blipFill>
        <p:spPr>
          <a:xfrm>
            <a:off x="3635280" y="2276640"/>
            <a:ext cx="2536920" cy="1838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976320" y="5603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rcRect l="992" t="51345" r="53002" b="10017"/>
          <a:stretch/>
        </p:blipFill>
        <p:spPr>
          <a:xfrm>
            <a:off x="1792440" y="1228680"/>
            <a:ext cx="5732280" cy="3610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rcRect l="4015" t="32697" r="59993" b="50022"/>
          <a:stretch/>
        </p:blipFill>
        <p:spPr>
          <a:xfrm>
            <a:off x="2054160" y="4680000"/>
            <a:ext cx="5326200" cy="19177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624320" y="299880"/>
            <a:ext cx="56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sforilación a nivel de sustr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708360" y="1413000"/>
            <a:ext cx="485640" cy="401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5040" y="955800"/>
            <a:ext cx="3274560" cy="459720"/>
          </a:xfrm>
          <a:prstGeom prst="rect">
            <a:avLst/>
          </a:prstGeom>
          <a:solidFill>
            <a:srgbClr val="f6f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RONUTR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rot="10800000">
            <a:off x="3923280" y="1555920"/>
            <a:ext cx="3600360" cy="720720"/>
          </a:xfrm>
          <a:custGeom>
            <a:avLst/>
            <a:gdLst>
              <a:gd name="textAreaLeft" fmla="*/ 1199880 w 3600360"/>
              <a:gd name="textAreaRight" fmla="*/ 3083400 w 3600360"/>
              <a:gd name="textAreaTop" fmla="*/ 34380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3400"/>
                </a:moveTo>
                <a:lnTo>
                  <a:pt x="10300" y="13400"/>
                </a:lnTo>
                <a:lnTo>
                  <a:pt x="10300" y="7200"/>
                </a:lnTo>
                <a:lnTo>
                  <a:pt x="7200" y="7200"/>
                </a:lnTo>
                <a:lnTo>
                  <a:pt x="1440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26000" y="549360"/>
            <a:ext cx="485640" cy="401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0480" y="115920"/>
            <a:ext cx="1872360" cy="459720"/>
          </a:xfrm>
          <a:prstGeom prst="rect">
            <a:avLst/>
          </a:prstGeom>
          <a:gradFill rotWithShape="0">
            <a:gsLst>
              <a:gs pos="0">
                <a:srgbClr val="ca040d"/>
              </a:gs>
              <a:gs pos="100000">
                <a:srgbClr val="5d010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NUTR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611640" y="1542960"/>
            <a:ext cx="3311640" cy="733680"/>
          </a:xfrm>
          <a:custGeom>
            <a:avLst/>
            <a:gdLst>
              <a:gd name="textAreaLeft" fmla="*/ 1103760 w 3311640"/>
              <a:gd name="textAreaRight" fmla="*/ 2836440 w 3311640"/>
              <a:gd name="textAreaTop" fmla="*/ 349920 h 733680"/>
              <a:gd name="textAreaBottom" fmla="*/ 628560 h 733680"/>
            </a:gdLst>
            <a:ahLst/>
            <a:rect l="textAreaLeft" t="textAreaTop" r="textAreaRight" b="textAreaBottom"/>
            <a:pathLst>
              <a:path w="21600" h="21600">
                <a:moveTo>
                  <a:pt x="0" y="13400"/>
                </a:moveTo>
                <a:lnTo>
                  <a:pt x="10300" y="13400"/>
                </a:lnTo>
                <a:lnTo>
                  <a:pt x="10300" y="7200"/>
                </a:lnTo>
                <a:lnTo>
                  <a:pt x="7200" y="7200"/>
                </a:lnTo>
                <a:lnTo>
                  <a:pt x="1440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80000" y="2637000"/>
            <a:ext cx="24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3284640"/>
            <a:ext cx="2159280" cy="720720"/>
          </a:xfrm>
          <a:prstGeom prst="rect">
            <a:avLst/>
          </a:prstGeom>
          <a:solidFill>
            <a:srgbClr val="f0005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ÍNT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00720" y="3141720"/>
            <a:ext cx="4176720" cy="504720"/>
          </a:xfrm>
          <a:prstGeom prst="rect">
            <a:avLst/>
          </a:prstGeom>
          <a:solidFill>
            <a:srgbClr val="f0005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403704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76360" y="4653000"/>
            <a:ext cx="3600360" cy="485640"/>
          </a:xfrm>
          <a:prstGeom prst="leftArrow">
            <a:avLst>
              <a:gd name="adj1" fmla="val 50000"/>
              <a:gd name="adj2" fmla="val 185341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73640" y="3645000"/>
            <a:ext cx="486000" cy="718920"/>
          </a:xfrm>
          <a:prstGeom prst="downArrow">
            <a:avLst>
              <a:gd name="adj1" fmla="val 50000"/>
              <a:gd name="adj2" fmla="val 36981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19640" y="4365720"/>
            <a:ext cx="2303640" cy="1152360"/>
          </a:xfrm>
          <a:prstGeom prst="ellipse">
            <a:avLst/>
          </a:prstGeom>
          <a:solidFill>
            <a:srgbClr val="f114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ER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93440" y="2311560"/>
            <a:ext cx="204768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US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84720" y="2709720"/>
            <a:ext cx="48600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8680" y="3159000"/>
            <a:ext cx="38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IRACION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080" y="2349360"/>
            <a:ext cx="223056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 PR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2781360"/>
            <a:ext cx="486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21440" y="5516640"/>
            <a:ext cx="1726920" cy="1123920"/>
          </a:xfrm>
          <a:custGeom>
            <a:avLst/>
            <a:gdLst>
              <a:gd name="textAreaLeft" fmla="*/ 231120 w 1726920"/>
              <a:gd name="textAreaRight" fmla="*/ 1495800 w 1726920"/>
              <a:gd name="textAreaTop" fmla="*/ 196560 h 1123920"/>
              <a:gd name="textAreaBottom" fmla="*/ 815040 h 112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5373720"/>
            <a:ext cx="3384720" cy="1341360"/>
          </a:xfrm>
          <a:prstGeom prst="rect">
            <a:avLst/>
          </a:prstGeom>
          <a:solidFill>
            <a:srgbClr val="f6f6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bajo 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mpulso nervi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tracción mus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ovimiento organe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39640" y="1049400"/>
            <a:ext cx="770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Indirecta: Mecanismo: Quimiosmo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os sustratos de los alimentos donan su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 moléculas aceptoras: NAD+, NADP+ , FA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para producción de moléculas reducid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AD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ADP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ADH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protón difunde a través de la membrana plasmática (bacterias) o mitocondrial o tilacoide (eucariontes) e ingresa nuevamente activando ATPa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DP + Pi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95640" y="530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214720" y="952560"/>
            <a:ext cx="4714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rcRect l="992" t="18018" r="30989" b="13986"/>
          <a:stretch/>
        </p:blipFill>
        <p:spPr>
          <a:xfrm>
            <a:off x="838080" y="1504800"/>
            <a:ext cx="6632640" cy="4972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143000" y="53352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838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533520"/>
            <a:ext cx="193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4360" y="234936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highered.mcgraw-hill.com/sites/0072437316/student_view0/chapter9/animations.html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71640" y="162864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sforilación oxid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422748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brookscole.com/chemistry_d/templates/student_resources/shared_resources/animations/oxidative/oxidativephosphorylati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6920" y="36655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nz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841400" y="260280"/>
            <a:ext cx="4602240" cy="620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rcRect l="1001" t="19335" r="28003" b="11334"/>
          <a:stretch/>
        </p:blipFill>
        <p:spPr>
          <a:xfrm>
            <a:off x="838080" y="0"/>
            <a:ext cx="5410440" cy="3962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rcRect l="1001" t="51339" r="28003" b="11334"/>
          <a:stretch/>
        </p:blipFill>
        <p:spPr>
          <a:xfrm>
            <a:off x="838080" y="3962520"/>
            <a:ext cx="5410440" cy="2133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rcRect l="1001" t="59340" r="14998" b="30001"/>
          <a:stretch/>
        </p:blipFill>
        <p:spPr>
          <a:xfrm>
            <a:off x="838080" y="6095880"/>
            <a:ext cx="64008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76720" y="2133720"/>
            <a:ext cx="525600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981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6000" y="692280"/>
            <a:ext cx="2627280" cy="936360"/>
          </a:xfrm>
          <a:prstGeom prst="rect">
            <a:avLst/>
          </a:prstGeom>
          <a:solidFill>
            <a:srgbClr val="f114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923760"/>
            <a:ext cx="806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ERGÍ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Capacidad de realizar un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4360" y="4549680"/>
            <a:ext cx="7572240" cy="947160"/>
          </a:xfrm>
          <a:prstGeom prst="rect">
            <a:avLst/>
          </a:prstGeom>
          <a:solidFill>
            <a:srgbClr val="f6f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acidad de realizar una reacción quí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2090880"/>
            <a:ext cx="486000" cy="1985760"/>
          </a:xfrm>
          <a:prstGeom prst="downArrow">
            <a:avLst>
              <a:gd name="adj1" fmla="val 50000"/>
              <a:gd name="adj2" fmla="val 102148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4527720"/>
            <a:ext cx="84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4815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63840" y="630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19280" y="2349360"/>
            <a:ext cx="1407960" cy="486000"/>
          </a:xfrm>
          <a:prstGeom prst="rightArrow">
            <a:avLst>
              <a:gd name="adj1" fmla="val 50000"/>
              <a:gd name="adj2" fmla="val 72426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27480" y="2276640"/>
            <a:ext cx="527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ida en los enlaces químicos entre átomos que forman las molécu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 constituyen de los alimentos (C-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80000" y="684360"/>
            <a:ext cx="20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ER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124000" y="404640"/>
            <a:ext cx="719280" cy="43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24000" y="1197000"/>
            <a:ext cx="935280" cy="287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87920" y="255600"/>
            <a:ext cx="606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nética: comprometida directamente en re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54680" y="1236600"/>
            <a:ext cx="41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encial: energía de almacen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10360" y="2532240"/>
            <a:ext cx="729324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s de ENERGIA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cá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dráu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érmi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11403"/>
                </a:solidFill>
                <a:latin typeface="Arial"/>
              </a:rPr>
              <a:t>Electromagn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1140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1140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1140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1140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1140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11403"/>
                </a:solidFill>
                <a:latin typeface="Arial"/>
              </a:rPr>
              <a:t>Quí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24920" y="4836960"/>
            <a:ext cx="556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ODINÁM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udia las transferencias de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18480" y="733320"/>
            <a:ext cx="8000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YES DE LA TERMODINÁ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ª Ley: la energía no se crea ni se destru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ólo se trans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ª Ley: toda transferencia de energía produ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 aumento en el des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24479" t="31116" r="16916" b="28583"/>
          <a:stretch/>
        </p:blipFill>
        <p:spPr>
          <a:xfrm>
            <a:off x="468360" y="476280"/>
            <a:ext cx="8172360" cy="4897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527120" y="604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9880" y="5661000"/>
            <a:ext cx="826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r qué los organismos vivos no ocupan el calor como forma de E útil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rque calor produce T cuando hay gradientes de t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981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energía se transfiere en pequeñas cantidades 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imiento  de electr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08360" y="1916280"/>
            <a:ext cx="485640" cy="720720"/>
          </a:xfrm>
          <a:prstGeom prst="downArrow">
            <a:avLst>
              <a:gd name="adj1" fmla="val 50000"/>
              <a:gd name="adj2" fmla="val 37102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16400" y="3043080"/>
            <a:ext cx="5825520" cy="398880"/>
          </a:xfrm>
          <a:prstGeom prst="rect">
            <a:avLst/>
          </a:prstGeom>
          <a:solidFill>
            <a:srgbClr val="f114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CCIONES de OXIDO-REDUCCIÓN: RED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3882960"/>
            <a:ext cx="79930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lécula que gana electrón: se red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lécula que pierde electrón: se ox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90520" y="5799240"/>
            <a:ext cx="63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cat.cc.md.us/~gkaiser/biotutorials/energy/et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1814" t="39917" r="32042" b="15971"/>
          <a:stretch/>
        </p:blipFill>
        <p:spPr>
          <a:xfrm>
            <a:off x="395280" y="620640"/>
            <a:ext cx="8064360" cy="4897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15400" y="5608800"/>
            <a:ext cx="69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ones viajan acompañados de un 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transferencias de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6T14:40:59Z</dcterms:created>
  <dc:creator>Ana Maria Ronco</dc:creator>
  <dc:description/>
  <dc:language>en-US</dc:language>
  <cp:lastModifiedBy>Ana Maria Ronco</cp:lastModifiedBy>
  <dcterms:modified xsi:type="dcterms:W3CDTF">2008-01-07T21:03:29Z</dcterms:modified>
  <cp:revision>58</cp:revision>
  <dc:subject/>
  <dc:title>Diapositiva 1</dc:title>
</cp:coreProperties>
</file>