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6F7-8DE2-43D3-9D3E-89C4D296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DEC-8D8C-4699-9337-9A6938F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9D7-4DCE-40F7-8B7B-03D12B56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CB-0580-4E2F-A491-4F934087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33A-D404-4DEB-AA39-9006CDEE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FC3-ECB5-4424-8F46-1DC882C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0E3-3ADB-4C7B-8C89-AB9DE418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90E-8717-4B44-9CEB-5A561E8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14C-B4C2-415E-8B12-9FDC4C6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110-1EEA-44E9-983E-FBB2D12A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0FF-7CF6-4398-9FD3-6B6CEF8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E66-DEA6-4C97-A6C6-D0CA86F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5E2C-5636-47E1-9CF7-4774982EB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727360"/>
            <a:ext cx="625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iomolécula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1621" t="10636" r="50002" b="7683"/>
          <a:stretch/>
        </p:blipFill>
        <p:spPr>
          <a:xfrm>
            <a:off x="1116000" y="549360"/>
            <a:ext cx="3743280" cy="5975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3280" y="189000"/>
            <a:ext cx="4105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EREOISO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39640" y="193680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lécula “quiral”: molécula que al rotar 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superponerse con su image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4543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lécula “aquiral”: molécula que al rotar sí puede superponerse con su image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3645000"/>
            <a:ext cx="93672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1512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ul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olécula orig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22560" y="89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71756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284652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écul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5080" y="4780080"/>
            <a:ext cx="502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629160"/>
            <a:ext cx="647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611352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es propiedades químicas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 biológica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0" y="25131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NTIO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620640"/>
            <a:ext cx="865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con 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20960" y="5146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90040" y="54388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0872" t="23419" r="8660" b="22439"/>
          <a:stretch/>
        </p:blipFill>
        <p:spPr>
          <a:xfrm>
            <a:off x="0" y="333360"/>
            <a:ext cx="9144000" cy="5111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32360" y="4437000"/>
            <a:ext cx="4211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45000"/>
            <a:ext cx="89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elementos y la proporción en la cual están combinados es la misma; cor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nde a 2 moléculas de ácido tartárico con la misma estructura pero el or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o de los  átomos es diferente, los átomos de c/ estructura está en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ues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637000"/>
            <a:ext cx="35640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2213" t="44101" r="9391" b="21465"/>
          <a:stretch/>
        </p:blipFill>
        <p:spPr>
          <a:xfrm>
            <a:off x="755640" y="231840"/>
            <a:ext cx="7704000" cy="506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03640" y="5445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dextrorrotatorio: D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levorrotatorio: L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465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9391" t="20466" r="6445" b="18492"/>
          <a:stretch/>
        </p:blipFill>
        <p:spPr>
          <a:xfrm>
            <a:off x="0" y="765000"/>
            <a:ext cx="8820000" cy="53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620640"/>
            <a:ext cx="367164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eoisómeros: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erencian entre sí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abor y 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887560"/>
            <a:ext cx="1079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2852640"/>
            <a:ext cx="93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62120" y="286848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caravea: sem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661000"/>
            <a:ext cx="151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48160" y="56847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partamo: dul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5624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2492280"/>
            <a:ext cx="6480360" cy="1152720"/>
          </a:xfrm>
          <a:prstGeom prst="rect">
            <a:avLst/>
          </a:prstGeom>
          <a:solidFill>
            <a:srgbClr val="dc62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9480" y="1504800"/>
            <a:ext cx="68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organismos vivos po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REO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566640"/>
            <a:ext cx="1219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denamiento espacial de los sustituyentes sin rup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en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libre rotación para sumir distintas posi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aciales debido a la libertad de rotación de los en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 los distintas conformaciones son transie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difíciles de ais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356" t="27366" r="47787" b="14564"/>
          <a:stretch/>
        </p:blipFill>
        <p:spPr>
          <a:xfrm>
            <a:off x="504720" y="260280"/>
            <a:ext cx="6589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0141" t="12586" r="7176" b="23419"/>
          <a:stretch/>
        </p:blipFill>
        <p:spPr>
          <a:xfrm>
            <a:off x="0" y="69228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3357720"/>
            <a:ext cx="2160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H  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71500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SÓMEROS ESPACIALES O ESTEREOISOMEROS: EPI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85280" y="33051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960" y="423720"/>
            <a:ext cx="86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una molécula posee + de un centro quiral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menclatur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la más adec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ste sistema cada grupo unido a un CQ tiene prior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540160"/>
            <a:ext cx="87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O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CH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52213" t="33273" r="7926" b="49028"/>
          <a:stretch/>
        </p:blipFill>
        <p:spPr>
          <a:xfrm>
            <a:off x="250920" y="1150920"/>
            <a:ext cx="8424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1606" t="48029" r="47056" b="27366"/>
          <a:stretch/>
        </p:blipFill>
        <p:spPr>
          <a:xfrm>
            <a:off x="250920" y="115920"/>
            <a:ext cx="8929440" cy="3986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3640" y="3284640"/>
            <a:ext cx="20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vor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eros del re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3357720"/>
            <a:ext cx="2808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eros del re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280" y="4888080"/>
            <a:ext cx="82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grupo de menor prioridad se coloca lo más lej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orden de prioridad de los grupos es a favor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eros del reloj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48522" t="12586" r="6445" b="16538"/>
          <a:stretch/>
        </p:blipFill>
        <p:spPr>
          <a:xfrm>
            <a:off x="34920" y="115920"/>
            <a:ext cx="5224320" cy="6165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636360" y="78408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ción de las 2 formas cíclicas de la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16360" y="2636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7080" y="2492280"/>
            <a:ext cx="512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lace hemiacetal: su formación conduc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reoisómeros, los anómeros: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interconversión se llama muta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50197" t="17512" r="7730" b="34267"/>
          <a:stretch/>
        </p:blipFill>
        <p:spPr>
          <a:xfrm>
            <a:off x="108000" y="379440"/>
            <a:ext cx="5976720" cy="513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020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97360"/>
            <a:ext cx="29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8160" y="524844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s enlaces puede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1606" t="13585" r="9391" b="10686"/>
          <a:stretch/>
        </p:blipFill>
        <p:spPr>
          <a:xfrm>
            <a:off x="108000" y="307800"/>
            <a:ext cx="87487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260280"/>
            <a:ext cx="86407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enlaces covalentes de una biomoléculas y los grupos funcionales son ESENCIALES para su función. Esto de alguna forma define su ordenamiento tri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finida por la presenci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bles enlaces (no hay libertad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ntros Quiral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entros con actividad óptica, en los cuales los grupos sustituyentes se ordenan de una manera específ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MEROS: compuestos que tienen el mismo Nº de átomos pero diferente CONFIGUR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isómero configuracional solo se puede interconvertir con gasto de Energía, es decir con ruptura de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8660" t="19486" r="48001" b="48029"/>
          <a:stretch/>
        </p:blipFill>
        <p:spPr>
          <a:xfrm>
            <a:off x="1042920" y="266760"/>
            <a:ext cx="7201080" cy="404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1160" y="4575240"/>
            <a:ext cx="891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figuración de los Isómeros geométricos cis y trans. Sólo se pu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convertir si se hidrolizan los enlaces covalentes, lo que requ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l latin: “del mismo la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“lado opue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os isómeros tienen propiedades química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0872" t="12586" r="7176" b="42122"/>
          <a:stretch/>
        </p:blipFill>
        <p:spPr>
          <a:xfrm>
            <a:off x="0" y="69228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692600"/>
            <a:ext cx="833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retina de vertebrados, la luz visible es absorbida por el compues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i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250 kJ/mol) que convierte a la molécul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o gatilla cambios eléctricos en las células de la retina que conduce al impulso nerv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CRISTOBAL NOSEDA R</cp:lastModifiedBy>
  <dcterms:modified xsi:type="dcterms:W3CDTF">2008-01-04T12:27:42Z</dcterms:modified>
  <cp:revision>52</cp:revision>
  <dc:subject/>
  <dc:title>Diapositiva 1</dc:title>
</cp:coreProperties>
</file>