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2A66-39B9-4704-8024-9B3660EE0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DF1-7974-44B4-9AF0-F9255F0A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310-E5C2-4BA9-8D0A-9A10548D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FB4D-7B01-4A81-A2F2-F9C1B257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B868-F137-4610-877F-9BB6894F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C1BE-F59B-4650-B37C-CA2140A4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D315-DAC1-4A43-AE8E-48B5F686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8891-CB6D-47E4-A0CA-B960030E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1BAE-135D-4A99-951B-340984C2C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434-EF30-47ED-905F-72ABC339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8E55-8F90-4806-99A7-1FF72E45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E3D-A0CC-4241-8723-69C813D5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42A5-1E48-4ECF-9570-91AB47510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2727360"/>
            <a:ext cx="6254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Biomoléculas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11621" t="10636" r="50002" b="7683"/>
          <a:stretch/>
        </p:blipFill>
        <p:spPr>
          <a:xfrm>
            <a:off x="1116000" y="549360"/>
            <a:ext cx="3743280" cy="5975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43280" y="189000"/>
            <a:ext cx="41054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EREOISOM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39640" y="1936800"/>
            <a:ext cx="49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lécula “quiral”: molécula que al rotar 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uede superponerse con su imagen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79840" y="45435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olécula “aquiral”: molécula que al rotar sí puede superponerse con su imagen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5280" y="3645000"/>
            <a:ext cx="936720" cy="115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333360"/>
            <a:ext cx="151272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ecular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olécula origi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22560" y="89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1717560"/>
            <a:ext cx="8636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640" y="2846520"/>
            <a:ext cx="20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lécula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05080" y="4780080"/>
            <a:ext cx="5029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3629160"/>
            <a:ext cx="64764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6113520"/>
            <a:ext cx="756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ilares propiedades químicas, pe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ión  biológica dif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8000" y="251316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ANTIOM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5280" y="620640"/>
            <a:ext cx="86544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41080" y="1023840"/>
            <a:ext cx="79851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Enantiómeros (con actividad óptic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xtrógiro: desvía el plano de la luz polarizad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derecha: d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vógiro: desvía el plano de la luz polarizada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izquierda: l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20960" y="51465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32160" y="157968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432160" y="157968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2340000" y="907920"/>
            <a:ext cx="5256360" cy="5834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904920" y="208080"/>
            <a:ext cx="187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íme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6916" t="33611" r="19751" b="39917"/>
          <a:stretch/>
        </p:blipFill>
        <p:spPr>
          <a:xfrm>
            <a:off x="0" y="1779480"/>
            <a:ext cx="9144000" cy="2936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490040" y="5438880"/>
            <a:ext cx="616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scholar.hw.ac.uk/site/chemistry/activity5.asp?outline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10872" t="23419" r="8660" b="22439"/>
          <a:stretch/>
        </p:blipFill>
        <p:spPr>
          <a:xfrm>
            <a:off x="0" y="333360"/>
            <a:ext cx="9144000" cy="5111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932360" y="4437000"/>
            <a:ext cx="421164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45000"/>
            <a:ext cx="898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elementos y la proporción en la cual están combinados es la misma; cor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nde a 2 moléculas de ácido tartárico con la misma estructura pero el ord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ento de los  átomos es diferente, los átomos de c/ estructura está en 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pues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2637000"/>
            <a:ext cx="356400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rcRect l="52213" t="44101" r="9391" b="21465"/>
          <a:stretch/>
        </p:blipFill>
        <p:spPr>
          <a:xfrm>
            <a:off x="755640" y="231840"/>
            <a:ext cx="7704000" cy="5068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003640" y="5445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+) dextrorrotatorio: D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-) levorrotatorio: L,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54658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menclatu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y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 y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9391" t="20466" r="6445" b="18492"/>
          <a:stretch/>
        </p:blipFill>
        <p:spPr>
          <a:xfrm>
            <a:off x="0" y="765000"/>
            <a:ext cx="8820000" cy="5301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4000" y="620640"/>
            <a:ext cx="3671640" cy="27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tereoisómeros: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iferencian entre sí p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sabor y o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2887560"/>
            <a:ext cx="10792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2852640"/>
            <a:ext cx="936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62120" y="2868480"/>
            <a:ext cx="191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caravea: semi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5661000"/>
            <a:ext cx="1513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48160" y="568476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spartamo: dul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48360" y="5624640"/>
            <a:ext cx="79236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ar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9640" y="2492280"/>
            <a:ext cx="6480360" cy="1152720"/>
          </a:xfrm>
          <a:prstGeom prst="rect">
            <a:avLst/>
          </a:prstGeom>
          <a:solidFill>
            <a:srgbClr val="dc62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79480" y="1504800"/>
            <a:ext cx="68612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organismos vivos pos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EREOESPECIFIC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0920" y="566640"/>
            <a:ext cx="12198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FORM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rdenamiento espacial de los sustituyentes sin rup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enl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Hay libre rotación para sumir distintas posi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paciales debido a la libertad de rotación de los enl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i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o los distintas conformaciones son transient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on difíciles de ais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5920" y="457200"/>
            <a:ext cx="7841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OLECULAS ORGÁNICAS: POSEEN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ORE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GRUPO FU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599840" y="990720"/>
            <a:ext cx="1143000" cy="1371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066680"/>
            <a:ext cx="1295280" cy="1295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19920" y="3124080"/>
            <a:ext cx="0" cy="1067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27560" y="4419720"/>
            <a:ext cx="44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fine las características químicas de las moléc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3267000" y="47242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00" y="449568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yor rea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495288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8560" y="5638680"/>
            <a:ext cx="62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.-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ransferencia de grupo 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-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uptura enlaces C-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24000" y="115920"/>
            <a:ext cx="8402400" cy="67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HIDRATOS DE CARBONO O CARBOHIDR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ONTIENEN C,H,O  (1:2: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FÓRMULA EMPÍRICA: (CH</a:t>
            </a:r>
            <a:r>
              <a:rPr b="1" lang="es-ES" sz="24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O)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FUNCIÓN: ALMACENAN ENERGÍA: ENLACES C-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CARBOHIDRATOS MÁS SIMPLES: MONOSACÁRIDOS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AZÚCARE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L AZÚCAR MÁS SIMPLE: 3 ÁTOMOS D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LOS QUE TIENEN UN ROL ENERGÉTIC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6 ÁTOMOS DE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nlace C-H: 3.9 Kcal /mol apr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rcRect l="992" t="20664" r="28013" b="19341"/>
          <a:stretch/>
        </p:blipFill>
        <p:spPr>
          <a:xfrm>
            <a:off x="254160" y="152280"/>
            <a:ext cx="8813520" cy="55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171360"/>
            <a:ext cx="8353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rupo funcional : Carbonilo: C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dehído: al extremo de la molécula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 =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etona: al centro de la molécula        C =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77080" y="4149720"/>
            <a:ext cx="0" cy="358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12356" t="27366" r="47787" b="14564"/>
          <a:stretch/>
        </p:blipFill>
        <p:spPr>
          <a:xfrm>
            <a:off x="504720" y="260280"/>
            <a:ext cx="65898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rcRect l="10141" t="12586" r="7176" b="23419"/>
          <a:stretch/>
        </p:blipFill>
        <p:spPr>
          <a:xfrm>
            <a:off x="0" y="692280"/>
            <a:ext cx="914400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36920" y="1859040"/>
            <a:ext cx="3990600" cy="36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O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órmula empí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372360" y="3357720"/>
            <a:ext cx="2160360" cy="431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25440"/>
            <a:ext cx="8353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GLUCO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FRUCTOSA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GALACT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H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     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      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=O                                H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         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OH                                  C =O                          H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|                                            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                       HO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                      HO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 |                                            |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 H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HO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H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H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C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    H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                      H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C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                                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                                           H                                           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1600200"/>
            <a:ext cx="121932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209680"/>
            <a:ext cx="9907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10280" y="1600200"/>
            <a:ext cx="1295640" cy="3808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 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715000"/>
            <a:ext cx="9144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LUCOSA-FRUCTOSA: ISÓMEROS ESTRUC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GLUCOSA-GALACTOSA: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ISÓMEROS ESPACIALES O ESTEREOISOMEROS: EPIM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585280" y="330516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2286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STEREOISÓ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NANTIÓMEROS - ISÓMEROS ÓPTICOS: IMAGEN ESPE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143000"/>
            <a:ext cx="25146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C*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 C* —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C*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C*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—  C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6920" y="1219320"/>
            <a:ext cx="2666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C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C*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 —   C* —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 C* 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 — C* 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O— C —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943600"/>
            <a:ext cx="601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D-Glucosa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-Gluc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2971800"/>
            <a:ext cx="22100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H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C=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H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C 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H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C </a:t>
            </a:r>
            <a:r>
              <a:rPr b="1" lang="es-ES" sz="2000" spc="-1" strike="noStrike">
                <a:solidFill>
                  <a:srgbClr val="006600"/>
                </a:solidFill>
                <a:latin typeface="Symbol"/>
                <a:ea typeface="Symbol"/>
              </a:rPr>
              <a:t>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Times New Roman"/>
              </a:rPr>
              <a:t>D-gliceraldehí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3581280"/>
            <a:ext cx="457200" cy="381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C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17880" y="64008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*: centro qui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2960" y="423720"/>
            <a:ext cx="868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uando una molécula posee + de un centro quiral,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menclatura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R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 la más adecu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 este sistema cada grupo unido a un CQ tiene prior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2540160"/>
            <a:ext cx="874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O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COO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CH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17480" y="762120"/>
            <a:ext cx="499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RUPOS FUN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43000" y="1905120"/>
          <a:ext cx="6024600" cy="4495680"/>
        </p:xfrm>
        <a:graphic>
          <a:graphicData uri="http://schemas.openxmlformats.org/drawingml/2006/table">
            <a:tbl>
              <a:tblPr/>
              <a:tblGrid>
                <a:gridCol w="2976480"/>
                <a:gridCol w="30481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HIDROX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RBON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  <a:ea typeface="Arial"/>
                        </a:rPr>
                        <a:t>=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RBOX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M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H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ULFHIDRI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FOSFA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O</a:t>
                      </a:r>
                      <a:r>
                        <a:rPr b="1" lang="en-US" sz="28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8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52213" t="33273" r="7926" b="49028"/>
          <a:stretch/>
        </p:blipFill>
        <p:spPr>
          <a:xfrm>
            <a:off x="250920" y="1150920"/>
            <a:ext cx="84247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11606" t="48029" r="47056" b="27366"/>
          <a:stretch/>
        </p:blipFill>
        <p:spPr>
          <a:xfrm>
            <a:off x="250920" y="115920"/>
            <a:ext cx="8929440" cy="3986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763640" y="3284640"/>
            <a:ext cx="2016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avor de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eros del rel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76720" y="3357720"/>
            <a:ext cx="2808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a 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nteros del rel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4280" y="4888080"/>
            <a:ext cx="823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grupo de menor prioridad se coloca lo más lejos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el orden de prioridad de los grupos es a favor de 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nteros del reloj: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8600" y="-1681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1880" y="598320"/>
            <a:ext cx="82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rganismos vivos sólo metabolizan D-azúc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905120"/>
            <a:ext cx="0" cy="15238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19520" y="34290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roductos Dietétic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L-azúc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48522" t="12586" r="6445" b="16538"/>
          <a:stretch/>
        </p:blipFill>
        <p:spPr>
          <a:xfrm>
            <a:off x="34920" y="115920"/>
            <a:ext cx="5224320" cy="6165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636360" y="784080"/>
            <a:ext cx="547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ción de las 2 formas cíclicas de la gluc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16360" y="2636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97080" y="2492280"/>
            <a:ext cx="512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lace hemiacetal: su formación conduce 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ereoisómeros, los anómeros: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 interconversión se llama mutaro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804320" y="1233360"/>
            <a:ext cx="528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olímeros de H de C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polisacár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50197" t="17512" r="7730" b="34267"/>
          <a:stretch/>
        </p:blipFill>
        <p:spPr>
          <a:xfrm>
            <a:off x="108000" y="379440"/>
            <a:ext cx="5976720" cy="51372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04020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6720" y="4797360"/>
            <a:ext cx="29509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8160" y="5248440"/>
            <a:ext cx="30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os enlaces pueden 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2674" t="30358" r="27984" b="18611"/>
          <a:stretch/>
        </p:blipFill>
        <p:spPr>
          <a:xfrm>
            <a:off x="971640" y="115920"/>
            <a:ext cx="6840360" cy="4753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rcRect l="1814" t="51369" r="27314" b="25185"/>
          <a:stretch/>
        </p:blipFill>
        <p:spPr>
          <a:xfrm>
            <a:off x="324000" y="4724280"/>
            <a:ext cx="8569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4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ÍMEROS: MACROMOLÉCULAS DE CADENA LARGA FORM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 SUBUNIDADES O MONÓ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rcRect l="5999" t="50356" r="25981" b="18648"/>
          <a:stretch/>
        </p:blipFill>
        <p:spPr>
          <a:xfrm>
            <a:off x="457200" y="2997360"/>
            <a:ext cx="8172360" cy="27939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68360" y="907920"/>
            <a:ext cx="83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licóg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zúcar de almacenamiento en anim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11606" t="13585" r="9391" b="10686"/>
          <a:stretch/>
        </p:blipFill>
        <p:spPr>
          <a:xfrm>
            <a:off x="108000" y="307800"/>
            <a:ext cx="8748720" cy="628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762120"/>
            <a:ext cx="886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RMACIÓN  DE POLÍMEROS Y RUPTURA DE UN EN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VALENTE  ENTRE SUB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3640" y="2438280"/>
            <a:ext cx="352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SHIDRA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H + 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52480" y="3124080"/>
            <a:ext cx="1219320" cy="6098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 +  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3733920"/>
            <a:ext cx="990360" cy="30456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97760" y="3773520"/>
            <a:ext cx="73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3809880"/>
            <a:ext cx="0" cy="121932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5360" y="53341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30680" y="240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2240" y="3083040"/>
            <a:ext cx="32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8320" y="186840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MACIÓ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RUP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23623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IDRÓ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933960" y="3581280"/>
            <a:ext cx="609480" cy="53352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51840" y="4114800"/>
            <a:ext cx="1369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+ H</a:t>
            </a:r>
            <a:r>
              <a:rPr b="1" lang="en-US" sz="2400" spc="-1" strike="noStrike" baseline="30000">
                <a:solidFill>
                  <a:srgbClr val="ff33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3581280"/>
            <a:ext cx="0" cy="1600200"/>
          </a:xfrm>
          <a:prstGeom prst="line">
            <a:avLst/>
          </a:prstGeom>
          <a:ln w="44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24240" y="5410080"/>
            <a:ext cx="32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H + OH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-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2971800"/>
            <a:ext cx="685800" cy="609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-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012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94120" y="531720"/>
            <a:ext cx="842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LÍMEROS: MACROMOLÉCULAS DE CADENA LAR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ORMADAS POR SUBUNIDADES O MONÓMER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80880" y="2336760"/>
          <a:ext cx="8305920" cy="3936960"/>
        </p:xfrm>
        <a:graphic>
          <a:graphicData uri="http://schemas.openxmlformats.org/drawingml/2006/table">
            <a:tbl>
              <a:tblPr/>
              <a:tblGrid>
                <a:gridCol w="2514600"/>
                <a:gridCol w="2133720"/>
                <a:gridCol w="1143000"/>
                <a:gridCol w="251460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RBOHIDRA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ZÚCAR SI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=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LMACENA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STRUCT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LÍP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CIDO GRA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LMACENA 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STRUCTU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ROTEÍ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AMINOÁC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OO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H</a:t>
                      </a:r>
                      <a:r>
                        <a:rPr b="1" lang="en-US" sz="20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CATÁLI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ÁCIDOS NUCLEI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NUCLEOTI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PO</a:t>
                      </a:r>
                      <a:r>
                        <a:rPr b="1" lang="en-US" sz="2000" spc="-1" strike="noStrike" baseline="-25000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r>
                        <a:rPr b="1" lang="en-US" sz="2000" spc="-1" strike="noStrike" baseline="30000">
                          <a:solidFill>
                            <a:srgbClr val="0066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EXPRESIÓN GÉ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00"/>
                      </a:solidFill>
                    </a:lnL>
                    <a:lnR w="18720">
                      <a:solidFill>
                        <a:srgbClr val="ff3300"/>
                      </a:solidFill>
                    </a:lnR>
                    <a:lnT w="18720">
                      <a:solidFill>
                        <a:srgbClr val="ff3300"/>
                      </a:solidFill>
                    </a:lnT>
                    <a:lnB w="1872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762120" y="18288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Macromolécula    Subunidad    G.Funcional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     Fu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00" y="260280"/>
            <a:ext cx="8640720" cy="63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os enlaces covalentes de una biomoléculas y los grupos funcionales son ESENCIALES para su función. Esto de alguna forma define su ordenamiento tri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finida por la presencia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obles enlaces (no hay libertad de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ot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entros Quirale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centros con actividad óptica, en los cuales los grupos sustituyentes se ordenan de una manera específic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SOMEROS: compuestos que tienen el mismo Nº de átomos pero diferente CONFIGUR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Un isómero configuracional solo se puede interconvertir con gasto de Energía, es decir con ruptura de enlaces coval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8660" t="19486" r="48001" b="48029"/>
          <a:stretch/>
        </p:blipFill>
        <p:spPr>
          <a:xfrm>
            <a:off x="1042920" y="266760"/>
            <a:ext cx="7201080" cy="4048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01160" y="4575240"/>
            <a:ext cx="8913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figuración de los Isómeros geométricos cis y trans. Sólo se pue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convertir si se hidrolizan los enlaces covalentes, lo que requi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del latin: “del mismo la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“lado opuest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os isómeros tienen propiedades químicas di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10872" t="12586" r="7176" b="42122"/>
          <a:stretch/>
        </p:blipFill>
        <p:spPr>
          <a:xfrm>
            <a:off x="0" y="692280"/>
            <a:ext cx="9144000" cy="37893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24000" y="4692600"/>
            <a:ext cx="8335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la retina de vertebrados, la luz visible es absorbida por el compuesto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ci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 250 kJ/mol) que convierte a la molécula en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tr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o gatilla cambios eléctricos en las células de la retina que conduce al impulso nervi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6:53:35Z</dcterms:created>
  <dc:creator>Ana Maria Ronco</dc:creator>
  <dc:description/>
  <dc:language>en-US</dc:language>
  <cp:lastModifiedBy>CRISTOBAL NOSEDA R</cp:lastModifiedBy>
  <dcterms:modified xsi:type="dcterms:W3CDTF">2008-01-04T12:27:42Z</dcterms:modified>
  <cp:revision>52</cp:revision>
  <dc:subject/>
  <dc:title>Diapositiva 1</dc:title>
</cp:coreProperties>
</file>