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622-CEF1-49C5-84C3-CFE07699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112E-7F57-4A56-810F-1654F2D1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A87-2D4C-4A0C-B442-A7EDD2EB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8D68-BB6D-4D7E-AA54-2984E163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EEB5-8D82-4442-AD9D-284294C1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4E1-D018-4A86-8C3F-B5CC6822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ECD-EE74-436D-8662-8DE20BC4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8B7-54C2-4980-B3C7-7DCB3FB1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FF2-25D1-45E8-972A-C9B21160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ED0-4029-48DA-9FE5-897C0507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71F-5FC0-4D10-9174-5E4ACD9C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5ED-1B76-4722-964C-A015A772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460F-555D-41D0-B8A4-9F6F72FC7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UDIO DIGITAL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n qué consiste el audio digit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n representar en forma de números la curva de variación de presión del son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3573360"/>
            <a:ext cx="21600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65160" y="50641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44640" y="4711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0480" y="434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65160" y="39895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80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308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Numerización de una o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OJO: las muestras (o “samples”) se toman a intervalo regular de tiempo, es decir a una determinada frecu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Ésta se ll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cc"/>
                </a:solidFill>
                <a:latin typeface="Arial"/>
              </a:rPr>
              <a:t>frecuencia de muestreo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y se representa por </a:t>
            </a:r>
            <a:r>
              <a:rPr b="0" i="1" lang="es-CL" sz="2400" spc="-1" strike="noStrike">
                <a:solidFill>
                  <a:srgbClr val="ffffcc"/>
                </a:solidFill>
                <a:latin typeface="Arial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3573360"/>
            <a:ext cx="21600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65160" y="50641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44640" y="4711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60480" y="434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65160" y="39895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160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436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6108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308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i se quiere tener mayor resolución (o, en la regla del dibujo, más decimales), es posible cambiar la regla por una con más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3573360"/>
            <a:ext cx="29052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38320" y="510048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51577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44640" y="501660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223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5092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8436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9564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6108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1964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3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2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87280" y="54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84400" y="53388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6240" y="526248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90520" y="5195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93760" y="51260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90520" y="5027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90520" y="49546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90520" y="48830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41560" y="475452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90520" y="4811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498780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49320" y="48117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47880" y="46702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90520" y="50626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9928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49480" y="49165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93760" y="48499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97000" y="4780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90520" y="4691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90520" y="4618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90520" y="4546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1560" y="441792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90520" y="4475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8120" y="533088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44640" y="44830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47880" y="433404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90520" y="4726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46562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9480" y="45799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93760" y="45133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97000" y="44434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87280" y="43578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280" y="4284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87280" y="4213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38320" y="408456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87280" y="41418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55800" y="414180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44640" y="4000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87280" y="4392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84400" y="43228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6240" y="424656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90520" y="4179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93760" y="41101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87280" y="4017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87280" y="3944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7280" y="38736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38320" y="374508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3801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49320" y="380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44640" y="366084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87280" y="4052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84400" y="39830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6240" y="39067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90520" y="38401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93760" y="3770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042920" y="155736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 resolución, o cantidad de números de la regla, es definida por la </a:t>
            </a:r>
            <a:r>
              <a:rPr b="0" i="1" lang="es-CL" sz="2000" spc="-1" strike="noStrike">
                <a:solidFill>
                  <a:srgbClr val="ffffcc"/>
                </a:solidFill>
                <a:latin typeface="Arial"/>
              </a:rPr>
              <a:t>cantidad de bits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el audio digital, cada número es representado en base 2, es decir con sólo dos dígitos: “0” y “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to se hace de la siguiente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n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……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1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n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….      </a:t>
            </a:r>
            <a:r>
              <a:rPr b="0" lang="es-CL" sz="2800" spc="-1" strike="noStrike" baseline="30000">
                <a:solidFill>
                  <a:srgbClr val="009999"/>
                </a:solidFill>
                <a:latin typeface="Arial"/>
              </a:rPr>
              <a:t>8       4         2       1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6 = 2+4 =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8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4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2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                   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        1        1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este caso, n es la cantidad de bits. Para representar números mayores, se requiere un número de bits mayor. De esta forma, se puede representar cualquier número como una serie de “1” y “0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08000" y="1916280"/>
            <a:ext cx="552240" cy="3673440"/>
            <a:chOff x="108000" y="1916280"/>
            <a:chExt cx="552240" cy="3673440"/>
          </a:xfrm>
        </p:grpSpPr>
        <p:sp>
          <p:nvSpPr>
            <p:cNvPr id="328" name=""/>
            <p:cNvSpPr/>
            <p:nvPr/>
          </p:nvSpPr>
          <p:spPr>
            <a:xfrm>
              <a:off x="438120" y="533088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280" y="1916280"/>
              <a:ext cx="476280" cy="3673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6520" y="5195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6520" y="50626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6520" y="49323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5520" y="469908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520" y="480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8800" y="532620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9280" y="5229360"/>
              <a:ext cx="30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2280" y="4802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8000" y="454500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6520" y="5259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1480" y="513252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8120" y="49942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1200" y="4871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7680" y="4745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1200" y="45655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1200" y="44323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1200" y="43020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1640" y="40687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1200" y="417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5920" y="4172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680" y="39146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1200" y="4629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520" y="4502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4600" y="43624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7680" y="4241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2360" y="41148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1200" y="39528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1200" y="38196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1200" y="3689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1640" y="345456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1200" y="35593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8000" y="357336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2680" y="330192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1200" y="40165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520" y="38894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4600" y="37497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7680" y="3629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2360" y="3500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6520" y="33447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6520" y="32115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6520" y="3081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5520" y="28479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6520" y="2951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5280" y="2951280"/>
              <a:ext cx="509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8000" y="269388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6520" y="34084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1480" y="328140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8120" y="31431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200" y="30211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7680" y="2894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6520" y="27255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6520" y="25923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6520" y="246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5520" y="22287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6520" y="23320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5920" y="233208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8000" y="2075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6520" y="2789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1480" y="266220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8120" y="252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200" y="24019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7680" y="22748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148360" y="4508640"/>
            <a:ext cx="251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42920" y="3284640"/>
            <a:ext cx="7345440" cy="194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Número de Bi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la música grabada en un CD, la frecuencia de muestreo (</a:t>
            </a:r>
            <a:r>
              <a:rPr b="0" i="1" lang="es-CL" sz="20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0" i="1" lang="es-CL" sz="2000" spc="-1" strike="noStrike" baseline="-25000">
                <a:solidFill>
                  <a:srgbClr val="ffffcc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) es 44.1 KHz  y el número de bits es 16. Esto quiere decir que “la regla” en un CD tiene 65536 valores posibles, y se toman muestras 44.100 veces por segundo, es decir, cada 0.00002 segun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3716280"/>
            <a:ext cx="719280" cy="20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1280" y="4581360"/>
            <a:ext cx="43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2.76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716280"/>
            <a:ext cx="525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65.5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4360" y="537372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428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32000" y="5805360"/>
            <a:ext cx="28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47640" y="5661000"/>
            <a:ext cx="64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4.5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79640" y="5805360"/>
            <a:ext cx="50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6.32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11280" y="5661000"/>
            <a:ext cx="50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5.8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43280" y="580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28.26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03640" y="5661000"/>
            <a:ext cx="50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35.97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64000" y="5805360"/>
            <a:ext cx="50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63.3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573408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7.50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00720" y="5805360"/>
            <a:ext cx="431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32000" y="6381720"/>
            <a:ext cx="2519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.00002 seg entre cada muest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Arial"/>
              </a:rPr>
              <a:t>Frecuencia de muestreo y Bits en un CD de Audi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e esta forma, es posible registrar en un CD la forma de onda de un álbum completo, guardando cada número como una serie de dieciséis “0”s y “1”s con los que se representa las variaciones de presión del sonido grabado. En el CD, los “1” y “0” son marcados como “baches” en la superficie de alumnio del disco. El disco va siendo leído en forma de espiral, con un número siendo representado por cada 16 b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Arial"/>
              </a:rPr>
              <a:t>El CD de AUDI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7155000" y="114480"/>
            <a:ext cx="1401480" cy="13316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932360" y="3645000"/>
            <a:ext cx="3733920" cy="12571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1332000" y="3789360"/>
            <a:ext cx="1904760" cy="20192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3857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6-01-10T21:04:15Z</dcterms:modified>
  <cp:revision>36</cp:revision>
  <dc:subject/>
  <dc:title>Taller de Ciencias en la Música </dc:title>
</cp:coreProperties>
</file>