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4E54-B9A2-44FC-B530-C3CFBBE931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FA9B-17A9-4884-AEE0-5219FD8A05E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B902-DB2F-4DDC-877B-23B64DEF75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3941-A62C-4D0B-B5ED-248FB30D9C6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C69D-7379-4D52-A64F-E62F46008F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5EA4-AE47-49A2-87A0-DD0B9F9183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365D-5488-4CB8-B42D-CA8D0E28B8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8FEB-777B-4E72-9492-DC997EB985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C08C-FDEB-4156-A895-3C9EDF32AE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6F2E-567D-4C59-B942-E85A537EDB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3110-67A4-4514-840D-FF6E0F59AF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0126-0A64-4C92-83DE-DB9D147B0C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BCD2-8FB9-4FCD-9EB8-FE98E93A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A014-387F-46FB-87DB-5481862B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D9B-7E90-426A-AC98-D2428B95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228-80D3-4A1F-98AF-00C9F525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ABD-41B6-4806-A9E3-67385CB2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F629-DE48-4C47-B7D9-FF2BDADA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C40-FDA8-415A-B1C8-F97F63AA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E69-E68F-4F59-8226-0094A4AC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D14-23F8-4546-BE2D-669D8E4B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815-A33C-44FA-85EC-F02C42CE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AA8-F8BA-4FE6-BCDD-A3C85B5A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BD4-1EAF-4963-81AA-1226BC12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0B17-7352-455C-891D-857442139E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och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548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De esta forma, se construye la afinación Bien –Temperada o Igualmente-Temperada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re una nota y su octava:     2: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ay 12 notas entre las dos. Por lo tanto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re cada nota hay 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3203640" y="3716280"/>
                <a:ext cx="143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7" name="Text Box 6"/>
          <p:cNvSpPr/>
          <p:nvPr/>
        </p:nvSpPr>
        <p:spPr>
          <a:xfrm>
            <a:off x="539640" y="5300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ublicado en 1584 por el Príncipe Chu Tsai-yu, quién le da el crédito a un antiguo maestro, Huai Nan Tzu, de la dinastía Han en 122 A.C. En occidente, quien ayudó a establecer la manera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físicamente posible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de implementar esta afinación fue el Vincenzo Galilei, utilizando la proporción 18/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SCUCHEM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9" name="Picture 4" descr="Circulo-quint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916280"/>
            <a:ext cx="4392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Afinaciones y Escal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" name="Picture 5" descr="escalera escher"/>
          <p:cNvPicPr/>
          <p:nvPr/>
        </p:nvPicPr>
        <p:blipFill>
          <a:blip r:embed="rId1"/>
          <a:stretch/>
        </p:blipFill>
        <p:spPr>
          <a:xfrm>
            <a:off x="4859280" y="3046320"/>
            <a:ext cx="3618000" cy="3183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tuning pipe"/>
          <p:cNvPicPr/>
          <p:nvPr/>
        </p:nvPicPr>
        <p:blipFill>
          <a:blip r:embed="rId2"/>
          <a:stretch/>
        </p:blipFill>
        <p:spPr>
          <a:xfrm>
            <a:off x="1258920" y="256536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548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Define una primera nota fundamental o I grado con una cuerda de cierta longitud ( Ej:  DO 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Pitágoras notó que hay dos intervalos que suenan particularmente “bien” o agradables al oído, que son la VIII y la V. Notó, también que la proporción de longitud de las cuerdas que daban estos intervalos eran exactas:  1/2  y  2/3 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onces: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(SOL) = DO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del V grado  ( RE )  = SOL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      ( LA )    = RE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de la 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( MI )    = LA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e construyen así todas las notas según un círculo de quint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4" descr="pitagoras monocordio"/>
          <p:cNvPicPr/>
          <p:nvPr/>
        </p:nvPicPr>
        <p:blipFill>
          <a:blip r:embed="rId1"/>
          <a:stretch/>
        </p:blipFill>
        <p:spPr>
          <a:xfrm>
            <a:off x="5864400" y="1628640"/>
            <a:ext cx="2970000" cy="3443400"/>
          </a:xfrm>
          <a:prstGeom prst="rect">
            <a:avLst/>
          </a:prstGeom>
          <a:ln w="0">
            <a:noFill/>
          </a:ln>
        </p:spPr>
      </p:pic>
      <p:sp>
        <p:nvSpPr>
          <p:cNvPr id="58" name="6 CuadroTexto"/>
          <p:cNvSpPr/>
          <p:nvPr/>
        </p:nvSpPr>
        <p:spPr>
          <a:xfrm>
            <a:off x="285840" y="6000840"/>
            <a:ext cx="8643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Sol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Re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La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Mi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Si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Fa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o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Sol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Re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La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Fa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Ventaja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s relaciones entre las quintas suenan agradablemente afinad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ay una diferencia en el VIII grado de la fundamental (el DO en la octava siguiente) entre la que se encuentra cerrando el círculo de quintas y la que se encuentra como la mitad de la longitud de la cuerda ( 2:1 ). Esta diferencia se llama: COMMA SINTONICA o  COMMA DIDYMIC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III no es pura (no es 5:4, que resulta la más agradable al oído occidental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La relación “agradable” sólo se da para el tono en que fue construida la escala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Picture 6" descr="Circulo-quint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700280"/>
            <a:ext cx="3024000" cy="3024000"/>
          </a:xfrm>
          <a:prstGeom prst="rect">
            <a:avLst/>
          </a:prstGeom>
          <a:ln w="0">
            <a:noFill/>
          </a:ln>
        </p:spPr>
      </p:pic>
      <p:sp>
        <p:nvSpPr>
          <p:cNvPr id="62" name="Oval 8"/>
          <p:cNvSpPr/>
          <p:nvPr/>
        </p:nvSpPr>
        <p:spPr>
          <a:xfrm>
            <a:off x="6837480" y="2674800"/>
            <a:ext cx="718920" cy="719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Aparece cuando la música d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I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(principalmente inglesa) comienza a utilizar armonías que incluyen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900" spc="-1" strike="noStrike">
                <a:solidFill>
                  <a:srgbClr val="ffffcc"/>
                </a:solidFill>
                <a:latin typeface="Arial"/>
              </a:rPr>
              <a:t>ras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 Pese a gran oposición y críticas iniciales, ya era usada en todo el continente europeo hacia 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Para el siguiente ejemplo usaremos DO como la fundamental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Se construye de la siguiente forma: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VIII (Do’)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 está en relación  1:2    con la fundamental 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OL)    está en relación  2:3    con la fundamental  = 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2/3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FA)     está en relación   3:4    con la fundamental = 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3/4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MI)      está en relación   4:5    con la fundamental = 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m (Mi</a:t>
            </a:r>
            <a:r>
              <a:rPr b="0" lang="es-CL" sz="1000" spc="-1" strike="noStrike">
                <a:solidFill>
                  <a:srgbClr val="ffffcc"/>
                </a:solidFill>
                <a:latin typeface="Arial"/>
              </a:rPr>
              <a:t>b)  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está en relación   5:6    con la fundamental  =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 Do </a:t>
            </a:r>
            <a:r>
              <a:rPr b="0" lang="es-CL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5/6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RE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bajo la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 (una IV bajo Sol ) = I </a:t>
            </a: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2/3 </a:t>
            </a: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4/3 = I </a:t>
            </a: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8/9 = DO </a:t>
            </a: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8/9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I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 de la 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  = SOL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LA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 de la IV = 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 FA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cc"/>
                </a:solidFill>
                <a:latin typeface="Arial"/>
              </a:rPr>
              <a:t>¿Es la distancia entre Do y Re igual a la distancia entre Re y Mi?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Así entonce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I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2:1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3:2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4: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5:4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 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IV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bajo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menor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6:5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Ventajas: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ara una escala afinada Justa, todas las notas suenan agradablemente afinadas, particularmente las 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ras que en la afinación Pitagórica no funcionaban bien al oído occidental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Distancia entre Do y Re distinta a distancia entre Re y Mi, etc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or lo tanto, si el músico desea tocar en otro tono que aquel en que se ajustaron las notas, comienzan a aparecer problemas de afinación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MEAN T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justar la afinación Pitagórica o Justa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Quitar ¼ de Comma a cada bloque constructor del círculo de 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ta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istancia Do-Re es igual a distancia Re-M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Pero Do-Do# distinta a Re-Re#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LEGARON LAS TECL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olucione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1" name="Picture 4" descr="teclados"/>
          <p:cNvPicPr/>
          <p:nvPr/>
        </p:nvPicPr>
        <p:blipFill>
          <a:blip r:embed="rId1"/>
          <a:stretch/>
        </p:blipFill>
        <p:spPr>
          <a:xfrm>
            <a:off x="2700360" y="1700280"/>
            <a:ext cx="619272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n la aparición de instrumentos de teclas termina (que no pueden ser fácilmente re-afinables) se empieza a requerir en forma urgente que puedan tocarse piezas en cualquier tono sin problemas. Así, se necesita que la distancia entre</a:t>
            </a: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 Do-Do# sea la misma que entre Re-Re#, etc. pero que a la vez no se pierda la relación de 2:1 entre las octavas (el intervalo más crítico al oído).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Randall Ledermann</cp:lastModifiedBy>
  <dcterms:modified xsi:type="dcterms:W3CDTF">2008-01-06T16:20:35Z</dcterms:modified>
  <cp:revision>34</cp:revision>
  <dc:subject/>
  <dc:title>Taller de Ciencias en la Música </dc:title>
</cp:coreProperties>
</file>