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6D49-26F4-4157-B5D3-ADFD7FD117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92B0-0AE7-4A18-9C11-837035C4E4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065A-FE03-4ED6-A5CD-3A895E1494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AD7D-37CD-4264-BED2-57D7F70989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F9EB-A9D8-4EC1-B9BB-D335B9F498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859D-DBFE-4CDC-91FF-AD1AA3E0A3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8102-2D51-486A-B78A-C37585DDD0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95FC-93B4-45D1-9B40-FDF25F0FFE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CCE-E132-48DE-8CE0-A9B3620F3D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97AB-7DEE-4EC0-BF0A-8D7E07E97B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7894-FA0E-4185-B99C-731E4B4066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DC51-6D49-4809-9904-0088F2A1F0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320-F26F-49E6-B8A0-D1631B3D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5E9-468F-4020-8609-3C7696AD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9E3-F248-41D0-98F5-933D1E1F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815-8DA3-43B1-A6CC-E5EEBCDB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1FB-F89E-48A6-92CF-B0E2065C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E9B-417A-49EE-8A5F-52F7543A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226-73D4-45CE-92AB-1A0F01DC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836-9697-431B-BF01-221E4325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C7C-03F3-4E98-93BE-6C7F14AA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0B1-0DAB-4412-A9E8-F8BAD30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D4F-739D-40F0-968E-21EE77F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D81-0797-401C-AD99-B6754A8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35A6-DE8C-467F-A550-C40ACBD8CA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Text Box 6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Picture 4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Picture 5" descr="escalera escher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tuning pipe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efine una primera nota fundamental o I grado con una cuerda de cierta longitud ( Ej:  DO 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Pitágoras notó que hay dos intervalos que suenan particularmente “bien” o agradables al oído, que son la VIII y la V. Notó, también que la proporción de longitud de las cuerdas que daban estos intervalos eran exactas:  1/2  y  2/3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pitagoras monocordio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3443400"/>
          </a:xfrm>
          <a:prstGeom prst="rect">
            <a:avLst/>
          </a:prstGeom>
          <a:ln w="0">
            <a:noFill/>
          </a:ln>
        </p:spPr>
      </p:pic>
      <p:sp>
        <p:nvSpPr>
          <p:cNvPr id="58" name="6 CuadroTexto"/>
          <p:cNvSpPr/>
          <p:nvPr/>
        </p:nvSpPr>
        <p:spPr>
          <a:xfrm>
            <a:off x="285840" y="6000840"/>
            <a:ext cx="864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M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La relación “agradable” sólo se da para el tono en que fue construida la escal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6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62" name="Oval 8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Para el siguiente ejemplo usaremos DO como la fundamental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VIII (Do’)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está en relación  1:2    con la fundamental 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   está en relación  2:3    con la fundamental 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    está en relación   3:4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3/4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     está en relación   4:5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m (Mi</a:t>
            </a:r>
            <a:r>
              <a:rPr b="0" lang="es-CL" sz="1000" spc="-1" strike="noStrike">
                <a:solidFill>
                  <a:srgbClr val="ffffcc"/>
                </a:solidFill>
                <a:latin typeface="Arial"/>
              </a:rPr>
              <a:t>b) 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está en relación   5:6    con la fundamental  =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bajo la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 (una IV bajo Sol )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2/3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4/3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 = DO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=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IV =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¿Es la distancia entre Do y Re igual a la distancia entre Re y Mi?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Picture 4" descr="teclados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6T16:20:35Z</dcterms:modified>
  <cp:revision>34</cp:revision>
  <dc:subject/>
  <dc:title>Taller de Ciencias en la Música </dc:title>
</cp:coreProperties>
</file>