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C34-9BAC-4017-87C8-262BD932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D0A-3E11-4FB5-9489-C0444EF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381-9C14-4C94-80FA-86FFA487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03B-5D5F-44E6-859E-FB5224EE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DF3-E477-498F-8EBC-7EAB6813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A63-51BE-4302-ABBC-B82DAF20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089-0E71-4F18-89E8-A054AC36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0E8-6DDD-4152-89A1-C5542A68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453-55C9-4CA6-BC2C-46EEC299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708-16AF-4EDA-BCE2-64A6BE7F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948-D5AD-443E-8C5C-D12711D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2E6-8A69-421B-81F5-4FF156D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4460-63D4-4337-9E9D-DF2901D384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02:30:28Z</dcterms:modified>
  <cp:revision>29</cp:revision>
  <dc:subject/>
  <dc:title>Taller de Ciencias en la Música </dc:title>
</cp:coreProperties>
</file>