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A69-627F-47AC-ACB1-8CFE9FF1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242-40BA-4DA6-829A-5C28CB23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12E-5219-4145-9C64-2D4AB556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268-8AE3-44F8-920C-9B5886C4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4EA-9F02-4604-AACC-35FA615C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1947-CFC5-4A97-9319-DD1B5A2F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FED-7801-4444-86EF-8E1FBE58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75C-EB59-44AC-A74D-1CAEAEA7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93B-2228-42EA-8D95-5006DE90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FCAC-B0E0-4173-BC8B-EE42BD50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4A35-EB27-44B5-A32C-6E16FD84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971-8C2C-45D9-B66E-DE875D28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F691-5BD5-4C7B-B392-1C96E9E72A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hyperlink" Target="C:\Documents and Settings\Darren\Desktop\Escuela de Verano\Escuela de Verano\Fotos para Clases\kepler earth-short.mp3" TargetMode="External"/><Relationship Id="rId3" Type="http://schemas.openxmlformats.org/officeDocument/2006/relationships/hyperlink" Target="C:\Documents and Settings\Darren\Desktop\Escuela de Verano\Escuela de Verano\Fotos para Clases\kepler earth venus mars.mid" TargetMode="External"/><Relationship Id="rId4" Type="http://schemas.openxmlformats.org/officeDocument/2006/relationships/hyperlink" Target="C:\Documents and Settings\Darren\Desktop\Escuela de Verano\Escuela de Verano\Fotos para Clases\kepler-scale.mp3" TargetMode="External"/><Relationship Id="rId5" Type="http://schemas.openxmlformats.org/officeDocument/2006/relationships/hyperlink" Target="C:\Documents and Settings\Darren\Desktop\Escuela de Verano\Escuela de Verano\Fotos para Clases\kepler-stereo All six.mp3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och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Al poco andar, se le atribuían poderes proféticos, curaciones milagrosas, viajar más allá de los confines del cuerpo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Evidentemente, fue corrido de la ciudad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9" name="Picture 6" descr="Gandalf"/>
          <p:cNvPicPr/>
          <p:nvPr/>
        </p:nvPicPr>
        <p:blipFill>
          <a:blip r:embed="rId1"/>
          <a:stretch/>
        </p:blipFill>
        <p:spPr>
          <a:xfrm>
            <a:off x="4211640" y="1628640"/>
            <a:ext cx="46530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00000" y="1628640"/>
            <a:ext cx="70567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Muchos pensadores antes que él buscaron definir la esencia básica del univers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Tales de Mileto : agua, dadora de vi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Anaximandro: consideraba que debía ser algo intangible y sin límite: algo sin nomb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Anaximenes: concluyó que era el Ai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Heraclito: el agente transformador Fuego (ojo de nuev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Pitágoras: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203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Los Egipcios ya habían encontrado belleza en las formulaciones matemáticas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Triángulo Dorado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Relaciones matemáticas en la gran Pirámide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6" name="Picture 6" descr="Piramides"/>
          <p:cNvPicPr/>
          <p:nvPr/>
        </p:nvPicPr>
        <p:blipFill>
          <a:blip r:embed="rId1"/>
          <a:stretch/>
        </p:blipFill>
        <p:spPr>
          <a:xfrm>
            <a:off x="4643280" y="1557360"/>
            <a:ext cx="4110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Piramides 02"/>
          <p:cNvPicPr/>
          <p:nvPr/>
        </p:nvPicPr>
        <p:blipFill>
          <a:blip r:embed="rId1"/>
          <a:stretch/>
        </p:blipFill>
        <p:spPr>
          <a:xfrm>
            <a:off x="755640" y="1601640"/>
            <a:ext cx="7704000" cy="525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3548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En Egipto, Tales aprendió el arte de estimar la altura de una pirámide con solo observar la sombra proyectada…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1000 AC, un sacerdote Egipcio llamado Ahmes había producido el papiro de RHIND: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 “</a:t>
            </a: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Direcciones para Conocer Toda Cosa Oculta y Oscura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itágoras, el Númer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2" name="Picture 6" descr="Pythagoras_Campanas"/>
          <p:cNvPicPr/>
          <p:nvPr/>
        </p:nvPicPr>
        <p:blipFill>
          <a:blip r:embed="rId1"/>
          <a:stretch/>
        </p:blipFill>
        <p:spPr>
          <a:xfrm>
            <a:off x="5435640" y="1628640"/>
            <a:ext cx="3471840" cy="4924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684360" y="2060640"/>
            <a:ext cx="453528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6 =1 + 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8 = 1 + 2 + 4 + 7 +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eorema de Pitág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latón y la Ciu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Número Ideal de ciudadanos: 50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3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4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5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6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7 = 5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MÚSICA, expresión del orden matemático del Unive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itágoras, el Númer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4360" y="2060640"/>
            <a:ext cx="374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itágoras investigó la relación numérica entre las longitudes de cuerdas, el peso (o tensión) a la que están sometidas, y el tono que producen al hacerlas vib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pitagoras monocordio"/>
          <p:cNvPicPr/>
          <p:nvPr/>
        </p:nvPicPr>
        <p:blipFill>
          <a:blip r:embed="rId1"/>
          <a:stretch/>
        </p:blipFill>
        <p:spPr>
          <a:xfrm>
            <a:off x="4572000" y="1700280"/>
            <a:ext cx="4307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mbio de V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Tanto con la imposición de panteones patriarcales, como con las filosofías similares a las de Pitágoras, cada vez más iban perdiendo su carácter de sagrado la naturaleza, y se va pavimentando el camino para la Reforma Protestante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testantes buscaban purificar la religión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obedece inmutablemente a las leyes de Dios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epara el camino para la visión mecanicista del mundo.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como la  gran máquina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izo parecer el dominio tecnológico de la naturaleza como la recuperación de poder dado al Hombre por Dio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ferenció el conocimiento “natural” del mundo del conocimiento “moral”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Considerado por muchos como el fundador de la Ciencia moderna, inspiró la creación de la Royal Society of Lond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2" name="Picture 4" descr="Royal Society gresham"/>
          <p:cNvPicPr/>
          <p:nvPr/>
        </p:nvPicPr>
        <p:blipFill>
          <a:blip r:embed="rId1"/>
          <a:stretch/>
        </p:blipFill>
        <p:spPr>
          <a:xfrm>
            <a:off x="928800" y="4714920"/>
            <a:ext cx="3182760" cy="2001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Francis bacon"/>
          <p:cNvPicPr/>
          <p:nvPr/>
        </p:nvPicPr>
        <p:blipFill>
          <a:blip r:embed="rId2"/>
          <a:stretch/>
        </p:blipFill>
        <p:spPr>
          <a:xfrm>
            <a:off x="7072200" y="214200"/>
            <a:ext cx="1625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ne Descar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imero en articular la nueva visón mecanicista del univers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“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odo el universo funciona en forma mecánica de acuerdo a necesidades matemática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UNIVERSO MECANIC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l Universo mecánico abrió puertas a un Dios mecánico. Esto influye fuertemente en todo ámbito de cosas, incluida la Mús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ticularmente, la AFIN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úsica y el Hombre y la Cienci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de Johannes Kepler (157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4" descr="jkepler"/>
          <p:cNvPicPr/>
          <p:nvPr/>
        </p:nvPicPr>
        <p:blipFill>
          <a:blip r:embed="rId1"/>
          <a:stretch/>
        </p:blipFill>
        <p:spPr>
          <a:xfrm>
            <a:off x="755640" y="3213000"/>
            <a:ext cx="202104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kepler solids"/>
          <p:cNvPicPr/>
          <p:nvPr/>
        </p:nvPicPr>
        <p:blipFill>
          <a:blip r:embed="rId2"/>
          <a:stretch/>
        </p:blipFill>
        <p:spPr>
          <a:xfrm>
            <a:off x="4932360" y="1773360"/>
            <a:ext cx="3656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ación numérica entre los semiejes de las elipses descritas por los planet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úsica de las Esferas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Picture 4" descr="kepler solar"/>
          <p:cNvPicPr/>
          <p:nvPr/>
        </p:nvPicPr>
        <p:blipFill>
          <a:blip r:embed="rId1"/>
          <a:stretch/>
        </p:blipFill>
        <p:spPr>
          <a:xfrm>
            <a:off x="3780000" y="620640"/>
            <a:ext cx="5003640" cy="37450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>
            <a:hlinkClick r:id="rId2"/>
          </p:cNvPr>
          <p:cNvSpPr/>
          <p:nvPr/>
        </p:nvSpPr>
        <p:spPr>
          <a:xfrm>
            <a:off x="248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>
            <a:hlinkClick r:id="rId3"/>
          </p:cNvPr>
          <p:cNvSpPr/>
          <p:nvPr/>
        </p:nvSpPr>
        <p:spPr>
          <a:xfrm>
            <a:off x="3708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268360" y="59482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348000" y="594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Venus 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>
            <a:hlinkClick r:id="rId4"/>
          </p:cNvPr>
          <p:cNvSpPr/>
          <p:nvPr/>
        </p:nvSpPr>
        <p:spPr>
          <a:xfrm>
            <a:off x="543564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07528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2">
            <a:hlinkClick r:id="rId5"/>
          </p:cNvPr>
          <p:cNvSpPr/>
          <p:nvPr/>
        </p:nvSpPr>
        <p:spPr>
          <a:xfrm>
            <a:off x="716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680400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Plan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rofesor de Matemáticas en Trinity, Cambridg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Incansable experimentador, se encierra durante horas en su estudio a investigar distintos fenómenos de la naturalez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Matemáticas (disputa con Liebnitz el título de creador del Cálculo diferencial), mecánica, química, alquimia, se pincha la córnea con agujas para estudiar la deformación de la imagen, 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u mayor fascinación en algún momento fue la descomposición de la luz blanca en sus distintos componentes al pasar por un prisma (efecto de refracción de la luz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sputado por los líderes religiosos de la época, por considerar la luz blanca, “el más limpio vapor de iluminación, y símbolo de la pureza del Paraíso” como una amalgama de colores del arcoiri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Newton notó que la separación que existe entre los distintos colores que componen la luz siguen una secuencia similar a la tradicional escala mayor en la músic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Larga – Larga – Corta – Larga - Larga - Larga – Cort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(Tono – Tono – SemiT – Tono –Tono –Tono –SemiTono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lanteaba nuevamente una antigua pregunt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496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abía creado la Naturaleza una ley para la Melodía y la Armonía similares a la de la mezcla de colores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Picture 4" descr="prism"/>
          <p:cNvPicPr/>
          <p:nvPr/>
        </p:nvPicPr>
        <p:blipFill>
          <a:blip r:embed="rId1"/>
          <a:stretch/>
        </p:blipFill>
        <p:spPr>
          <a:xfrm>
            <a:off x="4932360" y="1628640"/>
            <a:ext cx="3816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s universidades medievales, trazando el asunto hasta los antiguos griegos, afirmaban que así era…enseñaban Música como una arquitectura invisible, un espejo de los ciel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Sin música, no puede haber conocimiento perfecto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scribiría el enciclopedista medieval Isidoro de Sevilla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, “…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pues incluso el Universo se dice fue ensamblado con una cierta armonía de sonidos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28760" y="192888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Contraposición entre Naturaleza y Mecánica define profundamente qué tipo de música se puede hacer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afinación DEBÍA estar regida por las leyes naturales (afinación Pitagórica, Justa, etc.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hora, el hombre tiene dominio sobre la naturaleza (permite la afinación Temperad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batalla duró tan sólo 2000 años, desde Pitágoras a Bach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71680" y="571680"/>
            <a:ext cx="8001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 RELIGIÓN VS LA CI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po de Batalla de la Af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lación Hombre-Mús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sibles primeras manifestaciones musicales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ocimiento limitado, posterior a 200 D.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Uso de la música com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nsaje so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igio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1. Madre Naturalez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Relación del Hombre antiguo con los fenómenos de la naturalez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Sentimientos ambivalentes: bella, creativa, fértil, generosa y por otro lado, salvaje, destructiva, caprichos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Europa, por ejemplo, se han encontrado indicios de vida agraria establecida desde 7000 A.C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Religiones juegan rol importante, donde se veneran una serie de dioses o espíritus para cada manifestación natural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Visión primariamente femenina de las divinidades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2. Inicios de la Cienc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No es Ciencias como se entiende ho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 “Ciencia” (como observación sistemática de fenómenos naturales) y la Tecnología ayudan a utilizar en su provecho (o a defenderse y prepararse) las fuerzas natural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Hacia el 3500 A.C. las tribus nómades pastorales (cazadores) (y por tanto guerreras) invaden. Panteón previamente femenino y matriarcal se convierte en Patriarca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Mito Reiterativo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vinidad Matriarcal es destronada por dioses masculino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elknam (kloketé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India (invasiones Arya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Grecia (Apollo usurpa el altar de Gai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Babylonia (Marduk que mata a Tiama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4" descr="Selknam chico"/>
          <p:cNvPicPr/>
          <p:nvPr/>
        </p:nvPicPr>
        <p:blipFill>
          <a:blip r:embed="rId1"/>
          <a:stretch/>
        </p:blipFill>
        <p:spPr>
          <a:xfrm>
            <a:off x="5076720" y="1628640"/>
            <a:ext cx="2016360" cy="280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dioses Hindues"/>
          <p:cNvPicPr/>
          <p:nvPr/>
        </p:nvPicPr>
        <p:blipFill>
          <a:blip r:embed="rId2"/>
          <a:stretch/>
        </p:blipFill>
        <p:spPr>
          <a:xfrm>
            <a:off x="5651640" y="4581360"/>
            <a:ext cx="324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or qué es importante esto?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música, que juega un rol primordial en las religiones, queda sujeta también a qué tipo de religión o creencia o filosofía está imperand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8" name="Picture 6" descr="dioses Hindues"/>
          <p:cNvPicPr/>
          <p:nvPr/>
        </p:nvPicPr>
        <p:blipFill>
          <a:blip r:embed="rId1"/>
          <a:stretch/>
        </p:blipFill>
        <p:spPr>
          <a:xfrm>
            <a:off x="5572080" y="2000160"/>
            <a:ext cx="324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" name="Picture 6" descr="Columnas griegas"/>
          <p:cNvPicPr/>
          <p:nvPr/>
        </p:nvPicPr>
        <p:blipFill>
          <a:blip r:embed="rId1"/>
          <a:stretch/>
        </p:blipFill>
        <p:spPr>
          <a:xfrm>
            <a:off x="0" y="0"/>
            <a:ext cx="4530600" cy="694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Grecia"/>
          <p:cNvPicPr/>
          <p:nvPr/>
        </p:nvPicPr>
        <p:blipFill>
          <a:blip r:embed="rId2"/>
          <a:stretch/>
        </p:blipFill>
        <p:spPr>
          <a:xfrm>
            <a:off x="4500720" y="0"/>
            <a:ext cx="4709880" cy="6970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grecia de noch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recia, 500 A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Líder espiritual,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Brujo matemático,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Místico,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Caminaba por Crotón en túnica blanca, corona de oro, atrayendo seguidores con la promesa de alcanzar “la serenidad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Su culto, y status, se convirtieron en fuerza dominante en la región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" name="Picture 8" descr="Pythagoras_6"/>
          <p:cNvPicPr/>
          <p:nvPr/>
        </p:nvPicPr>
        <p:blipFill>
          <a:blip r:embed="rId1"/>
          <a:stretch/>
        </p:blipFill>
        <p:spPr>
          <a:xfrm>
            <a:off x="4591080" y="1600200"/>
            <a:ext cx="38750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Randall Ledermann</cp:lastModifiedBy>
  <dcterms:modified xsi:type="dcterms:W3CDTF">2008-01-07T02:29:48Z</dcterms:modified>
  <cp:revision>28</cp:revision>
  <dc:subject/>
  <dc:title>Taller de Ciencias en la Música </dc:title>
</cp:coreProperties>
</file>