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214D-DA74-4051-A9EC-62F7744A307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0F3F-AA22-4B28-AF5F-5DF994027F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7309-3F69-4087-AB83-4A234CEAF7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7DD6-C328-4D62-A2BA-208FB09017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50BF-BEE5-42D0-9FF0-D1749A7F8C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D93-5DEB-4202-B7C0-0A703248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89F-30A5-4F1A-81ED-0E29B1D6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B73-D154-4298-A4A3-8931437D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791-8AAA-40AE-9EA8-F240192A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236-E401-4544-9E9A-372C7FA4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7ED-0FD6-4AFC-A243-06804402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3D8-8CF6-4746-9E62-B8EE5518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D7C-754C-4A9F-B54C-5B601B72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AB9-D1B6-411F-A887-9BFF9179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59F-747D-40C5-9F10-B5CF9CD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7F4-9356-4542-9B30-6C69C10C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C62-5451-4CF6-8502-8444462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B1CD-3CAE-4844-8268-B675BF0DF3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el soni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071720" y="3071880"/>
            <a:ext cx="712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al son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Frecuencia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la Músic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071720" y="3071880"/>
            <a:ext cx="7127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los aspectos de la mús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i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“Inten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7T02:14:20Z</dcterms:modified>
  <cp:revision>47</cp:revision>
  <dc:subject/>
  <dc:title>Taller de Ciencias en la Música </dc:title>
</cp:coreProperties>
</file>