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B47-3DDF-45C9-80F6-5632DEC3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D82-5D9E-40ED-9169-BABC5E5A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F6E-9B6A-4B8A-8655-208C4E70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F0F-5A7B-4D40-B219-25578F8C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0E0-9304-4F35-B7C0-69D3B519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F20-3D02-413F-8034-4CE46CC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955-F8AF-4C90-B3EE-0A1CFAB5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8CC-BE17-45D6-847F-E97E426A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4E3-EC4A-4668-AF97-DF73BC7E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105-3E66-418E-9E07-F42A99F1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6FB-9C29-48E0-8500-FA5FEED8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08D-29A6-43C4-BA36-FDB8CFC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DAC2-1C21-4AF7-A4CB-677D909E75A6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udio"/>
          <p:cNvPicPr/>
          <p:nvPr/>
        </p:nvPicPr>
        <p:blipFill>
          <a:blip r:embed="rId1"/>
          <a:stretch/>
        </p:blipFill>
        <p:spPr>
          <a:xfrm>
            <a:off x="1116000" y="98100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3640" y="63072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relación hay entre la Música y la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es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es que escucham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distinguimos un violín de una flau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Por qué hay sonidos “más musicales” que otr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lo hacen para sonar los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todo esto sirve al fabricar instrumentos musical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292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grabar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representar sonido con número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“comprimir”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manipular digitalmente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ómo va a ser este cuent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Ver el rol de la música en la historia human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32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Trabajar con el sonido en forma similar a cómo el  hombre lo fue entendien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Relación entre la Música y la Ciencia en la histor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Historia de los instrumentos music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Aparición de herramientas tecnológica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close_up clarinet"/>
          <p:cNvPicPr/>
          <p:nvPr/>
        </p:nvPicPr>
        <p:blipFill>
          <a:blip r:embed="rId1"/>
          <a:stretch/>
        </p:blipFill>
        <p:spPr>
          <a:xfrm>
            <a:off x="5454720" y="1701720"/>
            <a:ext cx="2425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grafico ondas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Sonido, Música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" name="Picture 4" descr="Flautas"/>
          <p:cNvPicPr/>
          <p:nvPr/>
        </p:nvPicPr>
        <p:blipFill>
          <a:blip r:embed="rId1"/>
          <a:stretch/>
        </p:blipFill>
        <p:spPr>
          <a:xfrm>
            <a:off x="5275440" y="549360"/>
            <a:ext cx="3429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" name="Picture 6" descr="Sitar"/>
          <p:cNvPicPr/>
          <p:nvPr/>
        </p:nvPicPr>
        <p:blipFill>
          <a:blip r:embed="rId1"/>
          <a:stretch/>
        </p:blipFill>
        <p:spPr>
          <a:xfrm>
            <a:off x="3995640" y="2046240"/>
            <a:ext cx="1606680" cy="481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Pipa"/>
          <p:cNvPicPr/>
          <p:nvPr/>
        </p:nvPicPr>
        <p:blipFill>
          <a:blip r:embed="rId2"/>
          <a:stretch/>
        </p:blipFill>
        <p:spPr>
          <a:xfrm>
            <a:off x="5724360" y="692280"/>
            <a:ext cx="1824120" cy="48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axo-Soprano"/>
          <p:cNvPicPr/>
          <p:nvPr/>
        </p:nvPicPr>
        <p:blipFill>
          <a:blip r:embed="rId3"/>
          <a:stretch/>
        </p:blipFill>
        <p:spPr>
          <a:xfrm>
            <a:off x="7667640" y="333360"/>
            <a:ext cx="12445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4038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.   Física d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4" descr="Membrana"/>
          <p:cNvPicPr/>
          <p:nvPr/>
        </p:nvPicPr>
        <p:blipFill>
          <a:blip r:embed="rId1"/>
          <a:stretch/>
        </p:blipFill>
        <p:spPr>
          <a:xfrm>
            <a:off x="2665440" y="4221000"/>
            <a:ext cx="3024000" cy="237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Ondas"/>
          <p:cNvPicPr/>
          <p:nvPr/>
        </p:nvPicPr>
        <p:blipFill>
          <a:blip r:embed="rId2"/>
          <a:stretch/>
        </p:blipFill>
        <p:spPr>
          <a:xfrm>
            <a:off x="5219640" y="1125360"/>
            <a:ext cx="2808360" cy="227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250920" y="26028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V.   Patrones y Relaciones en la Música y el 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artitura"/>
          <p:cNvPicPr/>
          <p:nvPr/>
        </p:nvPicPr>
        <p:blipFill>
          <a:blip r:embed="rId3"/>
          <a:stretch/>
        </p:blipFill>
        <p:spPr>
          <a:xfrm>
            <a:off x="468360" y="1700280"/>
            <a:ext cx="2808360" cy="1415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763640" y="36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I.   Música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19:11:20Z</dcterms:modified>
  <cp:revision>17</cp:revision>
  <dc:subject/>
  <dc:title>Taller de Ciencias en la Música </dc:title>
</cp:coreProperties>
</file>