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B36-96FD-4724-9D50-E123651D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91F-76CE-4ADD-920D-C2A26183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2A3-02AA-42C2-90E5-EF93AE2C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BA0-0E38-43BE-820C-64B7F6A2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E15-834B-4735-8733-01180485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13E-859D-419F-B905-22664D17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F8B-128D-4399-8326-210F4C05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CBE-48F3-4292-BEA2-A8F8EE22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D75-6952-4E23-B380-CAE93B31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707-29B4-4B4D-BAC3-CD6C1A68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97B-A52B-4BB1-965F-B298D2A1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30F-2FF1-4389-84AC-57D8B8A3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F1BB-5835-4AAE-9D9D-788798731F45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udio"/>
          <p:cNvPicPr/>
          <p:nvPr/>
        </p:nvPicPr>
        <p:blipFill>
          <a:blip r:embed="rId1"/>
          <a:stretch/>
        </p:blipFill>
        <p:spPr>
          <a:xfrm>
            <a:off x="1116000" y="981000"/>
            <a:ext cx="72723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63640" y="63072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rte 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Qué relación hay entre la Música y la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Qué es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es que escucham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distinguimos un violín de una flau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Por qué hay sonidos “más musicales” que otr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lo hacen para sonar los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todo esto sirve al fabricar instrumentos musical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úales son las pregunta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292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rte I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grabar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representar sonido con número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“comprimir”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manipular digitalmente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úales son las pregunta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ómo va a ser este cuent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Ver el rol de la música en la historia human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32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Trabajar con el sonido en forma similar a cómo el  hombre lo fue entendien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Relación entre la Música y la Ciencia en la histor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Historia de los instrumentos music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Aparición de herramientas tecnológica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close_up clarinet"/>
          <p:cNvPicPr/>
          <p:nvPr/>
        </p:nvPicPr>
        <p:blipFill>
          <a:blip r:embed="rId1"/>
          <a:stretch/>
        </p:blipFill>
        <p:spPr>
          <a:xfrm>
            <a:off x="5454720" y="1701720"/>
            <a:ext cx="2425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grafico ondas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Sonido, Música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" name="Picture 4" descr="Flautas"/>
          <p:cNvPicPr/>
          <p:nvPr/>
        </p:nvPicPr>
        <p:blipFill>
          <a:blip r:embed="rId1"/>
          <a:stretch/>
        </p:blipFill>
        <p:spPr>
          <a:xfrm>
            <a:off x="5275440" y="549360"/>
            <a:ext cx="3429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" name="Picture 6" descr="Sitar"/>
          <p:cNvPicPr/>
          <p:nvPr/>
        </p:nvPicPr>
        <p:blipFill>
          <a:blip r:embed="rId1"/>
          <a:stretch/>
        </p:blipFill>
        <p:spPr>
          <a:xfrm>
            <a:off x="3995640" y="2046240"/>
            <a:ext cx="1606680" cy="481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Pipa"/>
          <p:cNvPicPr/>
          <p:nvPr/>
        </p:nvPicPr>
        <p:blipFill>
          <a:blip r:embed="rId2"/>
          <a:stretch/>
        </p:blipFill>
        <p:spPr>
          <a:xfrm>
            <a:off x="5724360" y="692280"/>
            <a:ext cx="1824120" cy="48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Saxo-Soprano"/>
          <p:cNvPicPr/>
          <p:nvPr/>
        </p:nvPicPr>
        <p:blipFill>
          <a:blip r:embed="rId3"/>
          <a:stretch/>
        </p:blipFill>
        <p:spPr>
          <a:xfrm>
            <a:off x="7667640" y="333360"/>
            <a:ext cx="12445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4038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.   Física d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4" descr="Membrana"/>
          <p:cNvPicPr/>
          <p:nvPr/>
        </p:nvPicPr>
        <p:blipFill>
          <a:blip r:embed="rId1"/>
          <a:stretch/>
        </p:blipFill>
        <p:spPr>
          <a:xfrm>
            <a:off x="2665440" y="4221000"/>
            <a:ext cx="3024000" cy="237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Ondas"/>
          <p:cNvPicPr/>
          <p:nvPr/>
        </p:nvPicPr>
        <p:blipFill>
          <a:blip r:embed="rId2"/>
          <a:stretch/>
        </p:blipFill>
        <p:spPr>
          <a:xfrm>
            <a:off x="5219640" y="1125360"/>
            <a:ext cx="2808360" cy="227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250920" y="26028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V.   Patrones y Relaciones en la Música y el 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artitura"/>
          <p:cNvPicPr/>
          <p:nvPr/>
        </p:nvPicPr>
        <p:blipFill>
          <a:blip r:embed="rId3"/>
          <a:stretch/>
        </p:blipFill>
        <p:spPr>
          <a:xfrm>
            <a:off x="468360" y="1700280"/>
            <a:ext cx="2808360" cy="1415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763640" y="36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I.   Música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19:11:20Z</dcterms:modified>
  <cp:revision>17</cp:revision>
  <dc:subject/>
  <dc:title>Taller de Ciencias en la Música </dc:title>
</cp:coreProperties>
</file>