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png" ContentType="image/png"/>
  <Override PartName="/ppt/media/image27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BFB8-24DF-4693-9F08-817B0FCAA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CBEB-A010-4DED-B935-82AEC85A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141C-C0CE-4EF7-A38E-9DFF19310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1BD-3696-40B0-B5F5-95C3A795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B744-B9C8-4D66-8530-84F7DC0B2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8300-447C-4500-ADC4-C8E61D2D4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2CE5-1AD2-4290-9E50-065D83BA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4155-983C-4830-B527-CEAE06B2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0349-B515-4686-B948-3B729DF3D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C55C-A986-4DFE-AEF1-45562596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A60E-DEA1-4A54-9275-F71FF0D2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4B3B-E02E-42B7-AA56-64FEE8ED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C4A4-3B7B-462C-B2E4-BEBFE4B2ECFC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jpeg"/><Relationship Id="rId3" Type="http://schemas.openxmlformats.org/officeDocument/2006/relationships/image" Target="../media/image2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2.jpeg"/><Relationship Id="rId3" Type="http://schemas.openxmlformats.org/officeDocument/2006/relationships/image" Target="../media/image5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29.jpeg"/><Relationship Id="rId4" Type="http://schemas.openxmlformats.org/officeDocument/2006/relationships/image" Target="../media/image29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91480" y="2514600"/>
            <a:ext cx="347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Ecolog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Courier New"/>
              </a:rPr>
              <a:t>Bag</a:t>
            </a:r>
            <a:r>
              <a:rPr b="0" lang="es-MX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model_paper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038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4556160"/>
            <a:ext cx="3581640" cy="19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5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propiedades físicas (porosidad, fibrosa, etc) que la hacen especialmente atractiva para productos orgán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565440"/>
            <a:ext cx="70102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4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implícita una conciencia ecológica y medioambiental, dada su condición deproducto recicla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95280" y="2362320"/>
            <a:ext cx="693432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3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Es visualmente y sensorialmente más agradable y elegante, sin incurrir en un costo demasiado elevado (como por ejemplo una bolsa de género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1143000"/>
            <a:ext cx="70106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2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Tiene mayor elaboración que una bolsa de plástico tradicional, asociada a un mayor “status” o nivel de calida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49480" y="514440"/>
            <a:ext cx="55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9900"/>
                </a:solidFill>
                <a:latin typeface="Trebuchet MS"/>
              </a:rPr>
              <a:t>1</a:t>
            </a:r>
            <a:r>
              <a:rPr b="0" lang="es-CL" sz="2000" spc="-1" strike="noStrike">
                <a:solidFill>
                  <a:srgbClr val="3333cc"/>
                </a:solidFill>
                <a:latin typeface="Trebuchet MS"/>
              </a:rPr>
              <a:t>Se trata de un producto de valor agreg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model_paper" descr=""/>
          <p:cNvPicPr/>
          <p:nvPr/>
        </p:nvPicPr>
        <p:blipFill>
          <a:blip r:embed="rId1"/>
          <a:stretch/>
        </p:blipFill>
        <p:spPr>
          <a:xfrm>
            <a:off x="228600" y="76320"/>
            <a:ext cx="1108080" cy="3314520"/>
          </a:xfrm>
          <a:prstGeom prst="rect">
            <a:avLst/>
          </a:prstGeom>
          <a:ln w="0">
            <a:noFill/>
          </a:ln>
        </p:spPr>
      </p:pic>
      <p:pic>
        <p:nvPicPr>
          <p:cNvPr id="111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-1475280" y="4523400"/>
            <a:ext cx="3806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45560" y="1066680"/>
            <a:ext cx="48196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86000"/>
            <a:ext cx="5596200" cy="94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eam MT"/>
              </a:rPr>
              <a:t>¿Quién compraría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-228600" y="3352680"/>
            <a:ext cx="9601200" cy="1160280"/>
            <a:chOff x="-228600" y="3352680"/>
            <a:chExt cx="9601200" cy="1160280"/>
          </a:xfrm>
        </p:grpSpPr>
        <p:sp>
          <p:nvSpPr>
            <p:cNvPr id="117" name=""/>
            <p:cNvSpPr/>
            <p:nvPr/>
          </p:nvSpPr>
          <p:spPr>
            <a:xfrm>
              <a:off x="-228600" y="3352680"/>
              <a:ext cx="960120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cliente </a:t>
              </a:r>
              <a:r>
                <a:rPr b="1" lang="es-CL" sz="7000" spc="-1" strike="noStrike">
                  <a:solidFill>
                    <a:srgbClr val="99cc00"/>
                  </a:solidFill>
                  <a:latin typeface="Trebuchet MS"/>
                </a:rPr>
                <a:t>=</a:t>
              </a:r>
              <a:r>
                <a:rPr b="1" lang="es-CL" sz="7000" spc="-1" strike="noStrike">
                  <a:solidFill>
                    <a:srgbClr val="ff9900"/>
                  </a:solidFill>
                  <a:latin typeface="Trebuchet MS"/>
                </a:rPr>
                <a:t> 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3581280" y="3657600"/>
              <a:ext cx="76320" cy="609480"/>
            </a:xfrm>
            <a:prstGeom prst="line">
              <a:avLst/>
            </a:prstGeom>
            <a:ln w="763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bag8" descr=""/>
          <p:cNvPicPr/>
          <p:nvPr/>
        </p:nvPicPr>
        <p:blipFill>
          <a:blip r:embed="rId1"/>
          <a:stretch/>
        </p:blipFill>
        <p:spPr>
          <a:xfrm>
            <a:off x="6477120" y="304920"/>
            <a:ext cx="22446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304920" y="1295280"/>
            <a:ext cx="9601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nuestra empresa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liente </a:t>
            </a:r>
            <a:r>
              <a:rPr b="1" lang="es-CL" sz="3400" spc="-1" strike="noStrike">
                <a:solidFill>
                  <a:srgbClr val="99cc00"/>
                </a:solidFill>
                <a:latin typeface="Wingdings"/>
                <a:ea typeface="Wingdings"/>
              </a:rPr>
              <a:t></a:t>
            </a:r>
            <a:r>
              <a:rPr b="1" lang="es-CL" sz="3400" spc="-1" strike="noStrike">
                <a:solidFill>
                  <a:srgbClr val="ff9900"/>
                </a:solidFill>
                <a:latin typeface="Trebuchet MS"/>
              </a:rPr>
              <a:t> consumid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2080" y="-168120"/>
            <a:ext cx="48441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0" spc="-1" strike="noStrike">
                <a:solidFill>
                  <a:srgbClr val="99cc00"/>
                </a:solidFill>
                <a:latin typeface="Team MT"/>
              </a:rPr>
              <a:t>El mercado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33480" y="669960"/>
            <a:ext cx="559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669900"/>
                </a:solidFill>
                <a:latin typeface="Team MT"/>
              </a:rPr>
              <a:t>¿quién compraría nuestro produc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120" y="2590920"/>
            <a:ext cx="3439440" cy="3522600"/>
            <a:chOff x="510120" y="2590920"/>
            <a:chExt cx="3439440" cy="3522600"/>
          </a:xfrm>
        </p:grpSpPr>
        <p:pic>
          <p:nvPicPr>
            <p:cNvPr id="124" name="bag8" descr=""/>
            <p:cNvPicPr/>
            <p:nvPr/>
          </p:nvPicPr>
          <p:blipFill>
            <a:blip r:embed="rId1"/>
            <a:stretch/>
          </p:blipFill>
          <p:spPr>
            <a:xfrm>
              <a:off x="1295280" y="2590920"/>
              <a:ext cx="2654280" cy="27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510120" y="5257800"/>
              <a:ext cx="215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5000" spc="-1" strike="noStrike">
                  <a:solidFill>
                    <a:srgbClr val="ffcc99"/>
                  </a:solidFill>
                  <a:latin typeface="Swis721 BlkEx BT"/>
                </a:rPr>
                <a:t>cliente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863440" y="2133720"/>
            <a:ext cx="5179320" cy="4725720"/>
            <a:chOff x="2863440" y="2133720"/>
            <a:chExt cx="5179320" cy="4725720"/>
          </a:xfrm>
        </p:grpSpPr>
        <p:pic>
          <p:nvPicPr>
            <p:cNvPr id="127" name="Shopping%2520Bag1" descr=""/>
            <p:cNvPicPr/>
            <p:nvPr/>
          </p:nvPicPr>
          <p:blipFill>
            <a:blip r:embed="rId2"/>
            <a:stretch/>
          </p:blipFill>
          <p:spPr>
            <a:xfrm>
              <a:off x="4800600" y="2133720"/>
              <a:ext cx="2797200" cy="40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863440" y="5699160"/>
              <a:ext cx="5179320" cy="11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0" spc="-1" strike="noStrike">
                  <a:solidFill>
                    <a:srgbClr val="ffcc99"/>
                  </a:solidFill>
                  <a:latin typeface="Swis721 BlkEx BT"/>
                </a:rPr>
                <a:t>consumidor</a:t>
              </a:r>
              <a:endParaRPr b="0" lang="en-US" sz="7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343400" y="0"/>
            <a:ext cx="4800600" cy="990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876920" y="1905120"/>
            <a:ext cx="396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0520" indent="-290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A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selectivo en lo que consume (exige mayor calid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498920" y="2986200"/>
            <a:ext cx="388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 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B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conciencia ecológ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373392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   </a:t>
            </a:r>
            <a:r>
              <a:rPr b="0" lang="es-CL" sz="2200" spc="-1" strike="noStrike">
                <a:solidFill>
                  <a:srgbClr val="99cc00"/>
                </a:solidFill>
                <a:latin typeface="Antigoni Med"/>
                <a:ea typeface="Times New Roman"/>
              </a:rPr>
              <a:t>C.</a:t>
            </a:r>
            <a:r>
              <a:rPr b="0" lang="es-CL" sz="2200" spc="-1" strike="noStrike">
                <a:solidFill>
                  <a:srgbClr val="d60093"/>
                </a:solidFill>
                <a:latin typeface="Antigoni Med"/>
                <a:ea typeface="Times New Roman"/>
              </a:rPr>
              <a:t> con gustos mas refinados y que aprecia y valora los detalles</a:t>
            </a:r>
            <a:r>
              <a:rPr b="0" lang="es-ES" sz="2200" spc="-1" strike="noStrike">
                <a:solidFill>
                  <a:srgbClr val="d60093"/>
                </a:solidFill>
                <a:latin typeface="Antigoni Med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niñas" descr=""/>
          <p:cNvPicPr/>
          <p:nvPr/>
        </p:nvPicPr>
        <p:blipFill>
          <a:blip r:embed="rId1"/>
          <a:stretch/>
        </p:blipFill>
        <p:spPr>
          <a:xfrm>
            <a:off x="0" y="1752480"/>
            <a:ext cx="4508640" cy="51055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800600" y="5181480"/>
            <a:ext cx="435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99cc00"/>
                </a:solidFill>
                <a:latin typeface="Antigoni Med"/>
              </a:rPr>
              <a:t>D.</a:t>
            </a:r>
            <a:r>
              <a:rPr b="0" lang="es-ES_tradnl" sz="2200" spc="-1" strike="noStrike">
                <a:solidFill>
                  <a:srgbClr val="d60093"/>
                </a:solidFill>
                <a:latin typeface="Antigoni Med"/>
              </a:rPr>
              <a:t> le interesan las marcas y los nomb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-308160" y="163440"/>
            <a:ext cx="893160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300" spc="-1" strike="noStrike">
                <a:solidFill>
                  <a:srgbClr val="ff9900"/>
                </a:solidFill>
                <a:latin typeface="Team MT"/>
              </a:rPr>
              <a:t>Segmentación del   </a:t>
            </a:r>
            <a:r>
              <a:rPr b="0" lang="es-ES_tradnl" sz="4300" spc="-1" strike="noStrike">
                <a:solidFill>
                  <a:srgbClr val="ffffff"/>
                </a:solidFill>
                <a:latin typeface="Team MT"/>
              </a:rPr>
              <a:t>CONSUMID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80880" y="1295280"/>
            <a:ext cx="67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tipo de neces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3581280"/>
            <a:ext cx="487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Pueden utilizar tanto bolsas de papel o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2362320"/>
            <a:ext cx="46483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A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lá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38480" y="4724280"/>
            <a:ext cx="4800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500" spc="-1" strike="noStrike">
                <a:solidFill>
                  <a:srgbClr val="d60093"/>
                </a:solidFill>
                <a:latin typeface="Trebuchet MS"/>
              </a:rPr>
              <a:t>C.</a:t>
            </a:r>
            <a:r>
              <a:rPr b="0" lang="es-CL" sz="25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</a:rPr>
              <a:t>Utilizan bolsas exclusivamente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bag" descr=""/>
          <p:cNvPicPr/>
          <p:nvPr/>
        </p:nvPicPr>
        <p:blipFill>
          <a:blip r:embed="rId1"/>
          <a:stretch/>
        </p:blipFill>
        <p:spPr>
          <a:xfrm>
            <a:off x="152280" y="2514600"/>
            <a:ext cx="3444840" cy="4292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80880" y="12952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 </a:t>
            </a:r>
            <a:r>
              <a:rPr b="0" lang="es-CL" sz="3200" spc="-1" strike="noStrike">
                <a:solidFill>
                  <a:srgbClr val="3333cc"/>
                </a:solidFill>
                <a:latin typeface="Trebuchet MS"/>
                <a:ea typeface="Times New Roman"/>
              </a:rPr>
              <a:t>&gt;&gt; según relación volumen-calid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299520" y="128520"/>
            <a:ext cx="73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Team MT"/>
              </a:rPr>
              <a:t>Segmentación del </a:t>
            </a:r>
            <a:r>
              <a:rPr b="0" lang="es-ES_tradnl" sz="4800" spc="-1" strike="noStrike">
                <a:solidFill>
                  <a:srgbClr val="99cc00"/>
                </a:solidFill>
                <a:latin typeface="Team MT"/>
              </a:rPr>
              <a:t>clie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33920" y="2117880"/>
            <a:ext cx="4952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A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interesados en hacer notar su calidad, exclusividad y nivel, para potenciar su imagen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33920" y="3260880"/>
            <a:ext cx="5029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d60093"/>
                </a:solidFill>
                <a:latin typeface="Trebuchet MS"/>
                <a:ea typeface="Times New Roman"/>
              </a:rPr>
              <a:t>B.</a:t>
            </a: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Swis721 Ex BT"/>
                <a:ea typeface="Times New Roman"/>
              </a:rPr>
              <a:t>ventas de artículos de alta calidad y cuyo volumen puede ser alto o bajo.</a:t>
            </a:r>
            <a:r>
              <a:rPr b="0" lang="es-ES" sz="2000" spc="-1" strike="noStrike">
                <a:solidFill>
                  <a:srgbClr val="000000"/>
                </a:solidFill>
                <a:latin typeface="Swis721 Ex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4432320"/>
            <a:ext cx="474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60093"/>
                </a:solidFill>
                <a:latin typeface="Trebuchet MS"/>
              </a:rPr>
              <a:t>C. </a:t>
            </a:r>
            <a:r>
              <a:rPr b="0" lang="es-ES_tradnl" sz="2000" spc="-1" strike="noStrike">
                <a:solidFill>
                  <a:srgbClr val="000000"/>
                </a:solidFill>
                <a:latin typeface="Swis721 Ex BT"/>
              </a:rPr>
              <a:t>ventas de un volumen particularmente alto de artículos que requieren bolsas de pap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_1496147_eu-shopping-bag-ap-300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2395440"/>
          </a:xfrm>
          <a:prstGeom prst="rect">
            <a:avLst/>
          </a:prstGeom>
          <a:ln w="0">
            <a:noFill/>
          </a:ln>
        </p:spPr>
      </p:pic>
      <p:pic>
        <p:nvPicPr>
          <p:cNvPr id="149" name="bag76" descr=""/>
          <p:cNvPicPr/>
          <p:nvPr/>
        </p:nvPicPr>
        <p:blipFill>
          <a:blip r:embed="rId2"/>
          <a:stretch/>
        </p:blipFill>
        <p:spPr>
          <a:xfrm>
            <a:off x="6651720" y="3809880"/>
            <a:ext cx="2415960" cy="28386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33520" y="274320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55080" y="2424240"/>
            <a:ext cx="860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1</a:t>
            </a:r>
            <a:r>
              <a:rPr b="1" lang="es-CL" sz="2000" spc="-1" strike="noStrike">
                <a:solidFill>
                  <a:srgbClr val="000000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supermercados que apunten a calidad y no cantidad (ej. Jumb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176760" y="2824200"/>
            <a:ext cx="955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2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grandes tiendas interesadas en dar una imagen de distinción ( ej. Za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78476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6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estaciones de servicio interesadas en dar un imagen mas “limpia” (ej. Shel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800" y="4343400"/>
            <a:ext cx="77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5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cadenas de panaderías (ej. San Camilo, Cast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3920" y="3205080"/>
            <a:ext cx="59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3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cadenas de comida rápida (ej. Mc Donal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3581280"/>
            <a:ext cx="632484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d60093"/>
                </a:solidFill>
                <a:latin typeface="Swis721 Blk BT"/>
                <a:ea typeface="Times New Roman"/>
              </a:rPr>
              <a:t>4</a:t>
            </a:r>
            <a:r>
              <a:rPr b="1" lang="es-CL" sz="4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 </a:t>
            </a:r>
            <a:r>
              <a:rPr b="1" lang="es-CL" sz="2000" spc="-1" strike="noStrike">
                <a:solidFill>
                  <a:srgbClr val="d60093"/>
                </a:solidFill>
                <a:latin typeface="Swis721 Lt BT"/>
                <a:ea typeface="Times New Roman"/>
              </a:rPr>
              <a:t>grandes ferias artesanales interesadas en dar una  imagen corporativa (ej. Aldea Vitacur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20" y="5643720"/>
            <a:ext cx="463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3333cc"/>
                </a:solidFill>
                <a:latin typeface="Swis721 Blk BT"/>
                <a:ea typeface="Times New Roman"/>
              </a:rPr>
              <a:t>7</a:t>
            </a:r>
            <a:r>
              <a:rPr b="1" lang="es-CL" sz="2000" spc="-1" strike="noStrike">
                <a:solidFill>
                  <a:srgbClr val="3333cc"/>
                </a:solidFill>
                <a:latin typeface="Swis721 Lt BT"/>
                <a:ea typeface="Times New Roman"/>
              </a:rPr>
              <a:t> grandes librerías (ej. Antártica).</a:t>
            </a:r>
            <a:r>
              <a:rPr b="1" lang="es-ES" sz="2000" spc="-1" strike="noStrike">
                <a:solidFill>
                  <a:srgbClr val="3333cc"/>
                </a:solidFill>
                <a:latin typeface="Swis721 Lt B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46320" y="457200"/>
            <a:ext cx="3437640" cy="1617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MERCADO 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00099"/>
                </a:solidFill>
                <a:latin typeface="Team MT"/>
              </a:rPr>
              <a:t>MET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653560" y="152280"/>
            <a:ext cx="3986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6600"/>
                </a:solidFill>
                <a:latin typeface="Team MT"/>
              </a:rPr>
              <a:t>PRODUCTOS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1" descr=""/>
          <p:cNvPicPr/>
          <p:nvPr/>
        </p:nvPicPr>
        <p:blipFill>
          <a:blip r:embed="rId1"/>
          <a:stretch/>
        </p:blipFill>
        <p:spPr>
          <a:xfrm>
            <a:off x="0" y="838080"/>
            <a:ext cx="4572000" cy="2965680"/>
          </a:xfrm>
          <a:prstGeom prst="rect">
            <a:avLst/>
          </a:prstGeom>
          <a:ln w="0">
            <a:noFill/>
          </a:ln>
        </p:spPr>
      </p:pic>
      <p:pic>
        <p:nvPicPr>
          <p:cNvPr id="161" name="2" descr=""/>
          <p:cNvPicPr/>
          <p:nvPr/>
        </p:nvPicPr>
        <p:blipFill>
          <a:blip r:embed="rId2"/>
          <a:stretch/>
        </p:blipFill>
        <p:spPr>
          <a:xfrm>
            <a:off x="4572000" y="863640"/>
            <a:ext cx="4495680" cy="2946240"/>
          </a:xfrm>
          <a:prstGeom prst="rect">
            <a:avLst/>
          </a:prstGeom>
          <a:ln w="0">
            <a:noFill/>
          </a:ln>
        </p:spPr>
      </p:pic>
      <p:pic>
        <p:nvPicPr>
          <p:cNvPr id="162" name="3" descr=""/>
          <p:cNvPicPr/>
          <p:nvPr/>
        </p:nvPicPr>
        <p:blipFill>
          <a:blip r:embed="rId3"/>
          <a:stretch/>
        </p:blipFill>
        <p:spPr>
          <a:xfrm>
            <a:off x="76320" y="3749760"/>
            <a:ext cx="4419360" cy="3108240"/>
          </a:xfrm>
          <a:prstGeom prst="rect">
            <a:avLst/>
          </a:prstGeom>
          <a:ln w="0">
            <a:noFill/>
          </a:ln>
        </p:spPr>
      </p:pic>
      <p:pic>
        <p:nvPicPr>
          <p:cNvPr id="163" name="4" descr=""/>
          <p:cNvPicPr/>
          <p:nvPr/>
        </p:nvPicPr>
        <p:blipFill>
          <a:blip r:embed="rId4"/>
          <a:stretch/>
        </p:blipFill>
        <p:spPr>
          <a:xfrm>
            <a:off x="4648320" y="3733920"/>
            <a:ext cx="44193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 rot="16200000">
            <a:off x="-3092040" y="1780560"/>
            <a:ext cx="7923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0000"/>
                </a:solidFill>
                <a:latin typeface="Team MT"/>
              </a:rPr>
              <a:t>POSIBILIDAD DE PRODUCTO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aperbagpicture" descr=""/>
          <p:cNvPicPr/>
          <p:nvPr/>
        </p:nvPicPr>
        <p:blipFill>
          <a:blip r:embed="rId1"/>
          <a:stretch/>
        </p:blipFill>
        <p:spPr>
          <a:xfrm>
            <a:off x="3711600" y="0"/>
            <a:ext cx="543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banco%20y%20negro" descr=""/>
          <p:cNvPicPr/>
          <p:nvPr/>
        </p:nvPicPr>
        <p:blipFill>
          <a:blip r:embed="rId1"/>
          <a:srcRect l="3598" t="4400" r="2003" b="4400"/>
          <a:stretch/>
        </p:blipFill>
        <p:spPr>
          <a:xfrm>
            <a:off x="0" y="0"/>
            <a:ext cx="4495680" cy="2895480"/>
          </a:xfrm>
          <a:prstGeom prst="rect">
            <a:avLst/>
          </a:prstGeom>
          <a:ln w="0">
            <a:noFill/>
          </a:ln>
        </p:spPr>
      </p:pic>
      <p:pic>
        <p:nvPicPr>
          <p:cNvPr id="167" name="bag" descr=""/>
          <p:cNvPicPr/>
          <p:nvPr/>
        </p:nvPicPr>
        <p:blipFill>
          <a:blip r:embed="rId2"/>
          <a:stretch/>
        </p:blipFill>
        <p:spPr>
          <a:xfrm>
            <a:off x="6373800" y="3809880"/>
            <a:ext cx="2430360" cy="2617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495680" y="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330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495680" y="38088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7c80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95680" y="762120"/>
            <a:ext cx="464832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900" spc="-1" strike="noStrike">
                <a:solidFill>
                  <a:srgbClr val="ffcccc"/>
                </a:solidFill>
                <a:latin typeface="Team MT"/>
              </a:rPr>
              <a:t>posicionamiento</a:t>
            </a:r>
            <a:endParaRPr b="0" lang="en-US" sz="3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80880" y="3200400"/>
            <a:ext cx="861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Swis721 BT"/>
              </a:rPr>
              <a:t>Posicionar el producto dentro de </a:t>
            </a:r>
            <a:r>
              <a:rPr b="0" lang="es-ES_tradnl" sz="2400" spc="-1" strike="noStrike">
                <a:solidFill>
                  <a:srgbClr val="ff3300"/>
                </a:solidFill>
                <a:latin typeface="Swis721 Blk BT"/>
              </a:rPr>
              <a:t>&lt;&lt; quienes van a tomar las decisiones de compra 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472428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wis721 Blk BT"/>
              </a:rPr>
              <a:t>Áreas de marketing</a:t>
            </a:r>
            <a:r>
              <a:rPr b="0" lang="es-ES_tradnl" sz="24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ES_tradnl" sz="2400" spc="-1" strike="noStrike">
                <a:solidFill>
                  <a:srgbClr val="3399ff"/>
                </a:solidFill>
                <a:latin typeface="Swis721 BT"/>
              </a:rPr>
              <a:t>de empresas que utilizan bol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4191120"/>
            <a:ext cx="0" cy="457200"/>
          </a:xfrm>
          <a:prstGeom prst="line">
            <a:avLst/>
          </a:prstGeom>
          <a:ln w="76320">
            <a:solidFill>
              <a:srgbClr val="3333cc"/>
            </a:solidFill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" y="5943600"/>
            <a:ext cx="59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¿cuál es la </a:t>
            </a:r>
            <a:r>
              <a:rPr b="0" lang="es-ES_tradnl" sz="2400" spc="-1" strike="noStrike">
                <a:solidFill>
                  <a:srgbClr val="669900"/>
                </a:solidFill>
                <a:latin typeface="Swis721 BlkEx BT"/>
              </a:rPr>
              <a:t>imagen</a:t>
            </a:r>
            <a:r>
              <a:rPr b="0" lang="es-ES_tradnl" sz="2400" spc="-1" strike="noStrike">
                <a:solidFill>
                  <a:srgbClr val="99cc00"/>
                </a:solidFill>
                <a:latin typeface="Swis721 BlkCn BT"/>
              </a:rPr>
              <a:t> que se pretende d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36080" y="304920"/>
            <a:ext cx="5895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3333cc"/>
                </a:solidFill>
                <a:latin typeface="Team MT"/>
              </a:rPr>
              <a:t>Necesidad - Client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0120" y="1905120"/>
            <a:ext cx="764820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Courier New"/>
              </a:rPr>
              <a:t>Entorno Sens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Conciencia Ecologic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Responsabilidad Social Empresa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urier New"/>
              </a:rPr>
              <a:t>Anhelo de ser dist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47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371600" y="54864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</a:rPr>
              <a:t>muy preocupada de la calidad de sus produc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2895480"/>
            <a:ext cx="5181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una empresa innovadora, vanguardista, preocupada constantemente de detectar nuevas necesidades de clientes y consumidores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Empresa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4327560"/>
            <a:ext cx="413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a empresa eficiente, rápida y cumplidora en horarios y metas propue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371600" y="1752480"/>
            <a:ext cx="6527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99ff"/>
                </a:solidFill>
                <a:latin typeface="Trebuchet MS"/>
              </a:rPr>
              <a:t>un sólido y capacitado equipo a cargo, con los mejores profesionales que respaldan un producto y un servicio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91560" y="175248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8400" y="30481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5320" y="541008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1280" y="434340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ahouse" descr=""/>
          <p:cNvPicPr/>
          <p:nvPr/>
        </p:nvPicPr>
        <p:blipFill>
          <a:blip r:embed="rId1"/>
          <a:stretch/>
        </p:blipFill>
        <p:spPr>
          <a:xfrm>
            <a:off x="6248520" y="3048120"/>
            <a:ext cx="2665440" cy="36068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371600" y="5089680"/>
            <a:ext cx="5105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permitirá mejorar sustancialmente la imagen de la empresa-cliente, aludiendo a una preocupación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71600" y="2727360"/>
            <a:ext cx="5791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rebuchet MS"/>
              </a:rPr>
              <a:t>un producto que dará un sello de refinamiento y distinción a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441360"/>
            <a:ext cx="9144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00"/>
                </a:solidFill>
                <a:latin typeface="Team MT"/>
              </a:rPr>
              <a:t>Posicionamiento: </a:t>
            </a:r>
            <a:r>
              <a:rPr b="0" lang="es-ES_tradnl" sz="5000" spc="-1" strike="noStrike">
                <a:solidFill>
                  <a:srgbClr val="669900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3718080"/>
            <a:ext cx="502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un producto diseñado </a:t>
            </a: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e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specialmente y por tanto adaptado fielmente a las necesidades de la empresa-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1752480"/>
            <a:ext cx="731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ff"/>
                </a:solidFill>
                <a:latin typeface="Trebuchet MS"/>
              </a:rPr>
              <a:t>u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n producto de calidad </a:t>
            </a:r>
            <a:r>
              <a:rPr b="0" lang="es-MX" sz="2000" spc="-1" strike="noStrike">
                <a:solidFill>
                  <a:srgbClr val="0099ff"/>
                </a:solidFill>
                <a:latin typeface="Trebuchet MS"/>
              </a:rPr>
              <a:t>cumplidor con </a:t>
            </a:r>
            <a:r>
              <a:rPr b="0" lang="es-ES" sz="2000" spc="-1" strike="noStrike">
                <a:solidFill>
                  <a:srgbClr val="0099ff"/>
                </a:solidFill>
                <a:latin typeface="Trebuchet MS"/>
              </a:rPr>
              <a:t>estándare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1560" y="1600200"/>
            <a:ext cx="79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8400" y="266688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b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1640" y="5334120"/>
            <a:ext cx="72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c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1280" y="3733920"/>
            <a:ext cx="81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99cc00"/>
                </a:solidFill>
                <a:latin typeface="Trebuchet MS"/>
              </a:rPr>
              <a:t>d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Proveer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soluciones de 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nvases</a:t>
            </a:r>
            <a:r>
              <a:rPr b="0" lang="es-ES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0" lang="es-MX" sz="3200" spc="-1" strike="noStrike">
                <a:solidFill>
                  <a:srgbClr val="669900"/>
                </a:solidFill>
                <a:latin typeface="Arial"/>
                <a:ea typeface="Times New Roman"/>
              </a:rPr>
              <a:t>ecologicos que permiten dar valor agregado al producto comercializado por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198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199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 rot="16200000">
            <a:off x="3910680" y="870840"/>
            <a:ext cx="1384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m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12120" y="45720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ff9933"/>
                </a:solidFill>
                <a:latin typeface="Team MT"/>
              </a:rPr>
              <a:t>m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10800000">
            <a:off x="400680" y="515520"/>
            <a:ext cx="33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m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shopping%2520bag" descr=""/>
          <p:cNvPicPr/>
          <p:nvPr/>
        </p:nvPicPr>
        <p:blipFill>
          <a:blip r:embed="rId1"/>
          <a:stretch/>
        </p:blipFill>
        <p:spPr>
          <a:xfrm>
            <a:off x="228600" y="3886200"/>
            <a:ext cx="1414440" cy="2743200"/>
          </a:xfrm>
          <a:prstGeom prst="rect">
            <a:avLst/>
          </a:prstGeom>
          <a:ln w="0">
            <a:noFill/>
          </a:ln>
        </p:spPr>
      </p:pic>
      <p:pic>
        <p:nvPicPr>
          <p:cNvPr id="204" name="bag8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2244960" cy="2362320"/>
          </a:xfrm>
          <a:prstGeom prst="rect">
            <a:avLst/>
          </a:prstGeom>
          <a:ln w="0">
            <a:noFill/>
          </a:ln>
        </p:spPr>
      </p:pic>
      <p:pic>
        <p:nvPicPr>
          <p:cNvPr id="205" name="bag65" descr=""/>
          <p:cNvPicPr/>
          <p:nvPr/>
        </p:nvPicPr>
        <p:blipFill>
          <a:blip r:embed="rId3"/>
          <a:srcRect l="11905" t="33461" r="15711" b="0"/>
          <a:stretch/>
        </p:blipFill>
        <p:spPr>
          <a:xfrm>
            <a:off x="3990960" y="3962520"/>
            <a:ext cx="2486160" cy="2895480"/>
          </a:xfrm>
          <a:prstGeom prst="rect">
            <a:avLst/>
          </a:prstGeom>
          <a:ln w="0">
            <a:noFill/>
          </a:ln>
        </p:spPr>
      </p:pic>
      <p:pic>
        <p:nvPicPr>
          <p:cNvPr id="206" name="151853x" descr=""/>
          <p:cNvPicPr/>
          <p:nvPr/>
        </p:nvPicPr>
        <p:blipFill>
          <a:blip r:embed="rId4"/>
          <a:stretch/>
        </p:blipFill>
        <p:spPr>
          <a:xfrm>
            <a:off x="6629400" y="4267080"/>
            <a:ext cx="2311560" cy="231156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rot="16200000">
            <a:off x="3931560" y="828360"/>
            <a:ext cx="122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777777"/>
                </a:solidFill>
                <a:latin typeface="Team MT"/>
              </a:rPr>
              <a:t>vis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266080" y="457200"/>
            <a:ext cx="304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99cc00"/>
                </a:solidFill>
                <a:latin typeface="Team MT"/>
              </a:rPr>
              <a:t>V</a:t>
            </a:r>
            <a:r>
              <a:rPr b="0" lang="es-ES_tradnl" sz="8000" spc="-1" strike="noStrike">
                <a:solidFill>
                  <a:srgbClr val="000000"/>
                </a:solidFill>
                <a:latin typeface="Team MT"/>
              </a:rPr>
              <a:t>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0800000">
            <a:off x="1094400" y="377280"/>
            <a:ext cx="3033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0" spc="-1" strike="noStrike">
                <a:solidFill>
                  <a:srgbClr val="4d4d4d"/>
                </a:solidFill>
                <a:latin typeface="Team MT"/>
              </a:rPr>
              <a:t>vIsió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1905120"/>
            <a:ext cx="754380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e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mpresa 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comprometida con sus cliente, de carácter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innovadora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, dotada de 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una clara conciencia medioambiental</a:t>
            </a:r>
            <a:r>
              <a:rPr b="1" lang="es-ES_tradnl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y</a:t>
            </a:r>
            <a:r>
              <a:rPr b="1" lang="es-ES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 preocupada de satisfacer íntegramente al cliente con productos de alto nivel</a:t>
            </a:r>
            <a:r>
              <a:rPr b="1" lang="es-MX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animalprintpaperbags" descr=""/>
          <p:cNvPicPr/>
          <p:nvPr/>
        </p:nvPicPr>
        <p:blipFill>
          <a:blip r:embed="rId1"/>
          <a:stretch/>
        </p:blipFill>
        <p:spPr>
          <a:xfrm>
            <a:off x="304920" y="4343400"/>
            <a:ext cx="2361960" cy="2235240"/>
          </a:xfrm>
          <a:prstGeom prst="rect">
            <a:avLst/>
          </a:prstGeom>
          <a:ln w="0">
            <a:noFill/>
          </a:ln>
        </p:spPr>
      </p:pic>
      <p:pic>
        <p:nvPicPr>
          <p:cNvPr id="212" name="bag65" descr=""/>
          <p:cNvPicPr/>
          <p:nvPr/>
        </p:nvPicPr>
        <p:blipFill>
          <a:blip r:embed="rId2"/>
          <a:srcRect l="11905" t="33461" r="15711" b="0"/>
          <a:stretch/>
        </p:blipFill>
        <p:spPr>
          <a:xfrm>
            <a:off x="-25560" y="76320"/>
            <a:ext cx="1702080" cy="198108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0532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06920" y="1352520"/>
            <a:ext cx="44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1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rapidez y eficiencia en el serv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46324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4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tecnologia de avan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2193840"/>
            <a:ext cx="510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2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</a:rPr>
              <a:t>diseños innovadores y ajustados a las necesidades especificas de cada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3200400"/>
            <a:ext cx="511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</a:rPr>
              <a:t>3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</a:rPr>
              <a:t> </a:t>
            </a:r>
            <a:r>
              <a:rPr b="0" lang="es-MX" sz="2000" spc="-1" strike="noStrike">
                <a:solidFill>
                  <a:srgbClr val="ff6600"/>
                </a:solidFill>
                <a:latin typeface="Trebuchet MS"/>
              </a:rPr>
              <a:t>un equipo humano capacitado y profes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67240" y="5470560"/>
            <a:ext cx="52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0000"/>
                </a:solidFill>
                <a:latin typeface="Trebuchet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6600"/>
                </a:solidFill>
                <a:latin typeface="Trebuchet MS"/>
                <a:ea typeface="Times New Roman"/>
              </a:rPr>
              <a:t>conciencia ecológica y medio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7520" y="469800"/>
            <a:ext cx="46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Filosofí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brown_paper_bag" descr=""/>
          <p:cNvPicPr/>
          <p:nvPr/>
        </p:nvPicPr>
        <p:blipFill>
          <a:blip r:embed="rId3"/>
          <a:stretch/>
        </p:blipFill>
        <p:spPr>
          <a:xfrm>
            <a:off x="1663560" y="152280"/>
            <a:ext cx="1308240" cy="1752840"/>
          </a:xfrm>
          <a:prstGeom prst="rect">
            <a:avLst/>
          </a:prstGeom>
          <a:ln w="0">
            <a:noFill/>
          </a:ln>
        </p:spPr>
      </p:pic>
      <p:pic>
        <p:nvPicPr>
          <p:cNvPr id="221" name="paper-bag-1-zoom" descr=""/>
          <p:cNvPicPr/>
          <p:nvPr/>
        </p:nvPicPr>
        <p:blipFill>
          <a:blip r:embed="rId4"/>
          <a:stretch/>
        </p:blipFill>
        <p:spPr>
          <a:xfrm>
            <a:off x="152280" y="2133720"/>
            <a:ext cx="30481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58720" y="1600200"/>
            <a:ext cx="200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9900"/>
                </a:solidFill>
                <a:latin typeface="Team MT"/>
                <a:ea typeface="Times New Roman"/>
              </a:rPr>
              <a:t>Fortale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308600" y="2133720"/>
            <a:ext cx="389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ominio tecnológico y computa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35600" y="2482920"/>
            <a:ext cx="293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tactos con important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63960" y="2819520"/>
            <a:ext cx="7649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ersonal respons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edicación exclusiva a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sibilidades de compra de cartones y papeles a bajo costo a los cartone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72680" y="4038480"/>
            <a:ext cx="228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ff3300"/>
                </a:solidFill>
                <a:latin typeface="Team MT"/>
                <a:ea typeface="Times New Roman"/>
              </a:rPr>
              <a:t>Debil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431720" y="4672080"/>
            <a:ext cx="498240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in experiencia en el rubro del reciclaje indust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Falta capital de tra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141840" y="-304920"/>
            <a:ext cx="424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0" spc="-1" strike="noStrike">
                <a:solidFill>
                  <a:srgbClr val="ff9900"/>
                </a:solidFill>
                <a:latin typeface="Team MT"/>
              </a:rPr>
              <a:t>F</a:t>
            </a:r>
            <a:r>
              <a:rPr b="0" lang="es-ES_tradnl" sz="12000" spc="-1" strike="noStrike">
                <a:solidFill>
                  <a:srgbClr val="99cc00"/>
                </a:solidFill>
                <a:latin typeface="Team MT"/>
              </a:rPr>
              <a:t>O</a:t>
            </a:r>
            <a:r>
              <a:rPr b="0" lang="es-ES_tradnl" sz="12000" spc="-1" strike="noStrike">
                <a:solidFill>
                  <a:srgbClr val="ff0000"/>
                </a:solidFill>
                <a:latin typeface="Team MT"/>
              </a:rPr>
              <a:t>D</a:t>
            </a:r>
            <a:r>
              <a:rPr b="0" lang="es-ES_tradnl" sz="12000" spc="-1" strike="noStrike">
                <a:solidFill>
                  <a:srgbClr val="3333cc"/>
                </a:solidFill>
                <a:latin typeface="Team MT"/>
              </a:rPr>
              <a:t>A</a:t>
            </a:r>
            <a:endParaRPr b="0" lang="en-US" sz="1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2697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3680" y="16002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99cc00"/>
                </a:solidFill>
                <a:latin typeface="Team MT"/>
                <a:ea typeface="Times New Roman"/>
              </a:rPr>
              <a:t>Oportunidad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8" descr=""/>
          <p:cNvPicPr/>
          <p:nvPr/>
        </p:nvPicPr>
        <p:blipFill>
          <a:blip r:embed="rId1"/>
          <a:srcRect l="16668" t="8003" r="7332" b="20004"/>
          <a:stretch/>
        </p:blipFill>
        <p:spPr>
          <a:xfrm>
            <a:off x="5943600" y="152280"/>
            <a:ext cx="2819520" cy="1781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081440" y="3200400"/>
            <a:ext cx="266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onsumidores exi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11600" y="2819520"/>
            <a:ext cx="650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reocupación de las empresas de mejorar su imagen corpo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27160" y="2133720"/>
            <a:ext cx="275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Poca competencia direc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71720" y="2482920"/>
            <a:ext cx="50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xigencias medioambientales de los actuales TL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33000" y="4267080"/>
            <a:ext cx="202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3333cc"/>
                </a:solidFill>
                <a:latin typeface="Team MT"/>
                <a:ea typeface="Times New Roman"/>
              </a:rPr>
              <a:t>Amenaz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118520" y="5029200"/>
            <a:ext cx="416268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Cliente muy tradicional (bolsas plástic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Ingreso competidor gran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-48060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520" y="289548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s m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caro que una bolsa de plástico tradicional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pero de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mayor valor agregado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por tanto la ganancia se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asocia a diferenciación y valor de marca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965160"/>
            <a:ext cx="28958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56240" y="502920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193840"/>
            <a:ext cx="79246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un empaque m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s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select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as bols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tradicionales de carácter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masi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v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con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racterísticas de buen diseño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que lo hacen especialmente atractivo para tiendas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xclusivas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con clientes que pagan la diferencia y poseen conciencia ecológ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85640" y="1041480"/>
            <a:ext cx="264672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-990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56240" y="510552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041560"/>
            <a:ext cx="7924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l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mercado objetivo </a:t>
            </a:r>
            <a:r>
              <a:rPr b="1" lang="es-MX" sz="2500" spc="-1" strike="noStrike">
                <a:solidFill>
                  <a:srgbClr val="000000"/>
                </a:solidFill>
                <a:latin typeface="Bookman Old Style"/>
              </a:rPr>
              <a:t>son principalmente las tiendas exclusiv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concentr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d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 la ciudad de Santiago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y 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regiones (Ej: Antofagasta alto nivel de ingreso), a lo cual se suma un cliente diferenciador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5840" y="4876920"/>
            <a:ext cx="158904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56240" y="4952880"/>
            <a:ext cx="31114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p4_2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2209680"/>
            <a:ext cx="335304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s empresas cada vez se preocupan más de extender su gráfica comercial (imagen corporativa) en cada elemento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539280" y="-30492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456840" y="5394240"/>
            <a:ext cx="7971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0" spc="-1" strike="noStrike">
                <a:solidFill>
                  <a:srgbClr val="ccecff"/>
                </a:solidFill>
                <a:latin typeface="Team MT"/>
              </a:rPr>
              <a:t>Marketing</a:t>
            </a:r>
            <a:r>
              <a:rPr b="0" lang="es-ES_tradnl" sz="9000" spc="-1" strike="noStrike">
                <a:solidFill>
                  <a:srgbClr val="000000"/>
                </a:solidFill>
                <a:latin typeface="Team MT"/>
              </a:rPr>
              <a:t> </a:t>
            </a:r>
            <a:r>
              <a:rPr b="0" lang="es-ES_tradnl" sz="9000" spc="-1" strike="noStrike">
                <a:solidFill>
                  <a:srgbClr val="99ccff"/>
                </a:solidFill>
                <a:latin typeface="Team MT"/>
              </a:rPr>
              <a:t>mix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828800"/>
            <a:ext cx="7925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Esfuerzo comercial centrado en e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l “cliente”, a través d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enfocadas directamente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a los gerentes de marketing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y a los “consumidores” con</a:t>
            </a:r>
            <a:r>
              <a:rPr b="0" lang="es-ES_tradnl" sz="2500" spc="-1" strike="noStrike">
                <a:solidFill>
                  <a:srgbClr val="000000"/>
                </a:solidFill>
                <a:latin typeface="Bookman Old Style"/>
              </a:rPr>
              <a:t> apoyo a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500" spc="-1" strike="noStrike">
                <a:solidFill>
                  <a:srgbClr val="000000"/>
                </a:solidFill>
                <a:latin typeface="Bookman Old Style"/>
              </a:rPr>
              <a:t>campañas que incentiven la conciencia ecológica</a:t>
            </a:r>
            <a:r>
              <a:rPr b="0" lang="es-MX" sz="2500" spc="-1" strike="noStrike">
                <a:solidFill>
                  <a:srgbClr val="000000"/>
                </a:solidFill>
                <a:latin typeface="Bookman Old Style"/>
              </a:rPr>
              <a:t>, generando una venta personalizada apoyada con un sitio transaccional en la red</a:t>
            </a:r>
            <a:r>
              <a:rPr b="0" lang="es-ES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27800" y="746280"/>
            <a:ext cx="18601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eci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87040" y="762120"/>
            <a:ext cx="26467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roducto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200" y="4952880"/>
            <a:ext cx="1589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ffcccc"/>
                </a:solidFill>
                <a:latin typeface="Team MT"/>
              </a:rPr>
              <a:t>plaza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0920" y="4800600"/>
            <a:ext cx="3111480" cy="779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500" spc="-1" strike="noStrike">
                <a:solidFill>
                  <a:srgbClr val="d60093"/>
                </a:solidFill>
                <a:latin typeface="Team MT"/>
              </a:rPr>
              <a:t>Promoció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Bolsas" descr=""/>
          <p:cNvPicPr/>
          <p:nvPr/>
        </p:nvPicPr>
        <p:blipFill>
          <a:blip r:embed="rId1"/>
          <a:stretch/>
        </p:blipFill>
        <p:spPr>
          <a:xfrm>
            <a:off x="5478480" y="2438280"/>
            <a:ext cx="3457440" cy="381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9720" y="2879640"/>
            <a:ext cx="435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a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de alto nivel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20" y="4435560"/>
            <a:ext cx="401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d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gran refinamiento esté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5440" y="3276720"/>
            <a:ext cx="459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b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mayor eficacia práctica (ej. pan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8800" y="5486400"/>
            <a:ext cx="47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f.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producto ecológico y biodegradabl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365760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c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de diseño ajustado específicamente a las necesidades partic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04920" y="4800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9900"/>
                </a:solidFill>
                <a:latin typeface="Swis721 BlkEx BT"/>
              </a:rPr>
              <a:t>e.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wis721 LtEx BT"/>
              </a:rPr>
              <a:t>que ayuda a mejorar la imagen </a:t>
            </a:r>
            <a:r>
              <a:rPr b="0" lang="es-MX" sz="2000" spc="-1" strike="noStrike">
                <a:solidFill>
                  <a:srgbClr val="000000"/>
                </a:solidFill>
                <a:latin typeface="Swis721 LtEx BT"/>
              </a:rPr>
              <a:t>corpo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739680" y="1600200"/>
            <a:ext cx="48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Blk BT"/>
              </a:rPr>
              <a:t>educar al cliente y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97720" y="1039680"/>
            <a:ext cx="555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Se trata de un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Ex BT"/>
              </a:rPr>
              <a:t>producto nuevo de sustit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72080" y="129528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wis721 LtEx BT"/>
              </a:rPr>
              <a:t>por lo que es impor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457200"/>
            <a:ext cx="914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32600" y="2235240"/>
            <a:ext cx="3833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cc9900"/>
                </a:solidFill>
                <a:latin typeface="Mistral AV"/>
              </a:rPr>
              <a:t>DIFERENCIAC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Bolsas" descr=""/>
          <p:cNvPicPr/>
          <p:nvPr/>
        </p:nvPicPr>
        <p:blipFill>
          <a:blip r:embed="rId1"/>
          <a:stretch/>
        </p:blipFill>
        <p:spPr>
          <a:xfrm>
            <a:off x="3200400" y="3809880"/>
            <a:ext cx="2558880" cy="28195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0" y="0"/>
            <a:ext cx="9144000" cy="8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100" spc="-1" strike="noStrike">
                <a:solidFill>
                  <a:srgbClr val="cc9900"/>
                </a:solidFill>
                <a:latin typeface="Team MT"/>
              </a:rPr>
              <a:t>Estrategia institucional</a:t>
            </a:r>
            <a:endParaRPr b="0" lang="en-US" sz="5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419360"/>
            <a:ext cx="58672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15320" y="1066680"/>
            <a:ext cx="632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669900"/>
                </a:solidFill>
                <a:latin typeface="Swis721 Blk BT"/>
              </a:rPr>
              <a:t>&gt;&gt;&gt;estrategia de crecimiento y proyec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600" y="1828800"/>
            <a:ext cx="8610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primer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dar un crecimiento intensivo dentro del mercado de las bolsas y empaques de papel reciclado, posicionándose como marca reconoci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86040" y="457200"/>
            <a:ext cx="7349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cc9900"/>
                </a:solidFill>
                <a:latin typeface="Team MT"/>
              </a:rPr>
              <a:t>··········································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" y="2971800"/>
            <a:ext cx="861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En una </a:t>
            </a:r>
            <a:r>
              <a:rPr b="0" lang="es-ES_tradnl" sz="2000" spc="-1" strike="noStrike">
                <a:solidFill>
                  <a:srgbClr val="000000"/>
                </a:solidFill>
                <a:latin typeface="Swis721 Blk BT"/>
              </a:rPr>
              <a:t>segunda etapa</a:t>
            </a:r>
            <a:r>
              <a:rPr b="0" lang="es-ES_tradnl" sz="2000" spc="-1" strike="noStrike">
                <a:solidFill>
                  <a:srgbClr val="000000"/>
                </a:solidFill>
                <a:latin typeface="Swis721 LtEx BT"/>
              </a:rPr>
              <a:t> se pretende expandir el rubro al campo de packaging de papel y cartón reciclado po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aper_bags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 rot="16200000">
            <a:off x="-2513520" y="3557160"/>
            <a:ext cx="608004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500" spc="-1" strike="noStrike">
                <a:solidFill>
                  <a:srgbClr val="000000"/>
                </a:solidFill>
                <a:latin typeface="Team MT"/>
              </a:rPr>
              <a:t>Competencia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o empaques de papel reciclado y que distribuyen dentro de nuestro mercado objetivo.</a:t>
            </a: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2971800"/>
            <a:ext cx="73915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son todas aquellas empresas que actualmente están fabricando bolsas de plástico o empaques de papel y cartón tradicional y que distribuyen dentro de nuestro mercado objetiv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84400" y="2286000"/>
            <a:ext cx="668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In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142640" y="289080"/>
            <a:ext cx="620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&gt;&gt;</a:t>
            </a: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 Competencia Direc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6019920"/>
            <a:ext cx="36576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ff9933"/>
                </a:solidFill>
                <a:latin typeface="Team MT"/>
              </a:rPr>
              <a:t>competencia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filmpla" descr=""/>
          <p:cNvPicPr/>
          <p:nvPr/>
        </p:nvPicPr>
        <p:blipFill>
          <a:blip r:embed="rId2"/>
          <a:stretch/>
        </p:blipFill>
        <p:spPr>
          <a:xfrm>
            <a:off x="917640" y="4038480"/>
            <a:ext cx="18255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aper_bags" descr=""/>
          <p:cNvPicPr/>
          <p:nvPr/>
        </p:nvPicPr>
        <p:blipFill>
          <a:blip r:embed="rId1"/>
          <a:stretch/>
        </p:blipFill>
        <p:spPr>
          <a:xfrm>
            <a:off x="5005440" y="4130640"/>
            <a:ext cx="4138560" cy="272736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4400" y="304812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ocimiento y Acceso al Cliente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d de Contactos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apacidad de Innovación</a:t>
            </a:r>
            <a:br>
              <a:rPr sz="3200"/>
            </a:b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Flexibilidad Técnica</a:t>
            </a:r>
            <a:br>
              <a:rPr sz="2000"/>
            </a:br>
            <a:r>
              <a:rPr b="0" lang="es-MX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164600" y="289080"/>
            <a:ext cx="654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9933"/>
                </a:solidFill>
                <a:latin typeface="Trebuchet MS"/>
                <a:ea typeface="Times New Roman"/>
              </a:rPr>
              <a:t>Factores Críticos de Exi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04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8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9" name=""/>
          <p:cNvSpPr/>
          <p:nvPr/>
        </p:nvSpPr>
        <p:spPr>
          <a:xfrm>
            <a:off x="275760" y="-9216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0" y="-9216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914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1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idea es comercializar bolsas y empaques de papel y cartón reciclado con diseños exclusivos según las necesidades de cada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2280" y="36576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3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mercado objetivo (cliente) son empresas de venta de gran volumen y/o de alto standar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280" y="1905120"/>
            <a:ext cx="87631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2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principales características del producto son: de alta calidad, refinado y exclusivo, de diseño único, que mejora la imagen corporativa, biodegradable, con propiedades especiales para productos orgánicos. Tiene por tanto, un mayor valor agregado que su competenc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52280" y="449568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4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El posicionamiento del producto se dará fundamentalmente dentro del segmento “gerentes de marketing de empresas mercado meta”, dado que son ellos quienes toman las decisiones de compr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16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8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1" name=""/>
          <p:cNvSpPr/>
          <p:nvPr/>
        </p:nvSpPr>
        <p:spPr>
          <a:xfrm>
            <a:off x="19944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cc9900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847760" y="0"/>
            <a:ext cx="35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d60093"/>
                </a:solidFill>
                <a:latin typeface="Team MT"/>
              </a:rPr>
              <a:t>Resume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52280" y="914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5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de posicionamiento intentará destacar las cualidades diferenciales de este producto por sobre la mayoría de la competencia, especialmente la calidad, exclusividad, buena imagen (ecológico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20040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7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mpresa será fuertemente tecnológica y de capital humano joven: innovación y calidad.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216540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6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competencia (bolsas de plástico) ha penetrado profundamente todos los segmentos, por lo que es necesario un marketing orientado a educar al client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3962520"/>
            <a:ext cx="87631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8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 estrategia comercial apunta a conseguir un nicho de clientes fidelizados, los cuales sean rentables y permitan lograr utilidades a la empresa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280" y="4876920"/>
            <a:ext cx="87631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d60093"/>
                </a:solidFill>
                <a:latin typeface="Swis721 Blk BT"/>
              </a:rPr>
              <a:t>9.</a:t>
            </a:r>
            <a:r>
              <a:rPr b="0" lang="es-ES_tradnl" sz="1900" spc="-1" strike="noStrike">
                <a:solidFill>
                  <a:srgbClr val="000000"/>
                </a:solidFill>
                <a:latin typeface="Swis721 LtEx BT"/>
              </a:rPr>
              <a:t> Las estrategias de crecimiento, están centradas en crecer junto a las necesidades de sus clientes y el mercado en general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"/>
          <p:cNvGrpSpPr/>
          <p:nvPr/>
        </p:nvGrpSpPr>
        <p:grpSpPr>
          <a:xfrm>
            <a:off x="0" y="5486400"/>
            <a:ext cx="9144000" cy="1371600"/>
            <a:chOff x="0" y="5486400"/>
            <a:chExt cx="9144000" cy="1371600"/>
          </a:xfrm>
        </p:grpSpPr>
        <p:pic>
          <p:nvPicPr>
            <p:cNvPr id="329" name="01_photo_02" descr=""/>
            <p:cNvPicPr/>
            <p:nvPr/>
          </p:nvPicPr>
          <p:blipFill>
            <a:blip r:embed="rId1"/>
            <a:srcRect l="3129" t="12785" r="6247" b="10480"/>
            <a:stretch/>
          </p:blipFill>
          <p:spPr>
            <a:xfrm>
              <a:off x="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01_photo_02" descr=""/>
            <p:cNvPicPr/>
            <p:nvPr/>
          </p:nvPicPr>
          <p:blipFill>
            <a:blip r:embed="rId2"/>
            <a:srcRect l="3129" t="12785" r="6247" b="10480"/>
            <a:stretch/>
          </p:blipFill>
          <p:spPr>
            <a:xfrm>
              <a:off x="213372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01_photo_02" descr=""/>
            <p:cNvPicPr/>
            <p:nvPr/>
          </p:nvPicPr>
          <p:blipFill>
            <a:blip r:embed="rId3"/>
            <a:srcRect l="3129" t="12785" r="6247" b="10480"/>
            <a:stretch/>
          </p:blipFill>
          <p:spPr>
            <a:xfrm>
              <a:off x="4267080" y="5486400"/>
              <a:ext cx="22100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01_photo_02" descr=""/>
            <p:cNvPicPr/>
            <p:nvPr/>
          </p:nvPicPr>
          <p:blipFill>
            <a:blip r:embed="rId4"/>
            <a:srcRect l="3129" t="12785" r="6247" b="10480"/>
            <a:stretch/>
          </p:blipFill>
          <p:spPr>
            <a:xfrm>
              <a:off x="6400800" y="5486400"/>
              <a:ext cx="220968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01_photo_02" descr=""/>
            <p:cNvPicPr/>
            <p:nvPr/>
          </p:nvPicPr>
          <p:blipFill>
            <a:blip r:embed="rId5"/>
            <a:srcRect l="3129" t="12785" r="71885" b="10480"/>
            <a:stretch/>
          </p:blipFill>
          <p:spPr>
            <a:xfrm>
              <a:off x="8534520" y="5486400"/>
              <a:ext cx="609480" cy="137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4" name=""/>
          <p:cNvSpPr/>
          <p:nvPr/>
        </p:nvSpPr>
        <p:spPr>
          <a:xfrm>
            <a:off x="2203920" y="304920"/>
            <a:ext cx="412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cc9900"/>
                </a:solidFill>
                <a:latin typeface="Team MT"/>
              </a:rPr>
              <a:t>Conclus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261080" y="1600200"/>
            <a:ext cx="6532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¡Una buena idea qu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Implementada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adecuadament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Se tranasforma en u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d60093"/>
                </a:solidFill>
                <a:latin typeface="Lucida Blackletter"/>
              </a:rPr>
              <a:t>excelente negocio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2286000"/>
            <a:ext cx="335268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En muchas tiendas es importante mantener un sello de alta calidad y exclusividad, de distinción en los detall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bag76" descr=""/>
          <p:cNvPicPr/>
          <p:nvPr/>
        </p:nvPicPr>
        <p:blipFill>
          <a:blip r:embed="rId1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362320"/>
            <a:ext cx="3733920" cy="2379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Muchos productos requieren condiciones especiales de packaging para obtener el óptimo de calidad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151853x" descr=""/>
          <p:cNvPicPr/>
          <p:nvPr/>
        </p:nvPicPr>
        <p:blipFill>
          <a:blip r:embed="rId2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0" name="ap4_2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74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010280" y="3657600"/>
            <a:ext cx="1649520" cy="2209680"/>
            <a:chOff x="7010280" y="3657600"/>
            <a:chExt cx="1649520" cy="2209680"/>
          </a:xfrm>
        </p:grpSpPr>
        <p:pic>
          <p:nvPicPr>
            <p:cNvPr id="80" name="brown_paper_bag" descr=""/>
            <p:cNvPicPr/>
            <p:nvPr/>
          </p:nvPicPr>
          <p:blipFill>
            <a:blip r:embed="rId4"/>
            <a:stretch/>
          </p:blipFill>
          <p:spPr>
            <a:xfrm>
              <a:off x="7010280" y="3657600"/>
              <a:ext cx="164952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recycle_symbol" descr=""/>
            <p:cNvPicPr/>
            <p:nvPr/>
          </p:nvPicPr>
          <p:blipFill>
            <a:blip r:embed="rId5"/>
            <a:stretch/>
          </p:blipFill>
          <p:spPr>
            <a:xfrm>
              <a:off x="7162920" y="4653000"/>
              <a:ext cx="76176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2590920" y="2590920"/>
            <a:ext cx="3886200" cy="27601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Swis721 Lt BT"/>
              </a:rPr>
              <a:t>La educación de los consumidores y las exigencias internacionales obligan cada vez más una preocupación medioambienta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151853x" descr=""/>
          <p:cNvPicPr/>
          <p:nvPr/>
        </p:nvPicPr>
        <p:blipFill>
          <a:blip r:embed="rId1"/>
          <a:stretch/>
        </p:blipFill>
        <p:spPr>
          <a:xfrm>
            <a:off x="6781680" y="12952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ap4_2" descr=""/>
          <p:cNvPicPr/>
          <p:nvPr/>
        </p:nvPicPr>
        <p:blipFill>
          <a:blip r:embed="rId2"/>
          <a:stretch/>
        </p:blipFill>
        <p:spPr>
          <a:xfrm>
            <a:off x="457200" y="1295280"/>
            <a:ext cx="176220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bag76" descr=""/>
          <p:cNvPicPr/>
          <p:nvPr/>
        </p:nvPicPr>
        <p:blipFill>
          <a:blip r:embed="rId3"/>
          <a:stretch/>
        </p:blipFill>
        <p:spPr>
          <a:xfrm>
            <a:off x="380880" y="3657600"/>
            <a:ext cx="1792440" cy="2104920"/>
          </a:xfrm>
          <a:prstGeom prst="rect">
            <a:avLst/>
          </a:prstGeom>
          <a:ln w="0">
            <a:noFill/>
          </a:ln>
        </p:spPr>
      </p:pic>
      <p:pic>
        <p:nvPicPr>
          <p:cNvPr id="87" name="brown_paper_bag" descr=""/>
          <p:cNvPicPr/>
          <p:nvPr/>
        </p:nvPicPr>
        <p:blipFill>
          <a:blip r:embed="rId4"/>
          <a:stretch/>
        </p:blipFill>
        <p:spPr>
          <a:xfrm>
            <a:off x="7010280" y="3657600"/>
            <a:ext cx="164952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294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358128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1219320"/>
            <a:ext cx="22860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recycle_symbol" descr=""/>
          <p:cNvPicPr/>
          <p:nvPr/>
        </p:nvPicPr>
        <p:blipFill>
          <a:blip r:embed="rId5"/>
          <a:stretch/>
        </p:blipFill>
        <p:spPr>
          <a:xfrm>
            <a:off x="7162920" y="4653000"/>
            <a:ext cx="761760" cy="757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2590920"/>
            <a:ext cx="3962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d60093"/>
                </a:solidFill>
                <a:latin typeface="Swis721 BlkEx BT"/>
              </a:rPr>
              <a:t>¿Cómo responder a estas necesidade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520" y="106200"/>
            <a:ext cx="845820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700" spc="-1" strike="noStrike">
                <a:solidFill>
                  <a:srgbClr val="99cc00"/>
                </a:solidFill>
                <a:latin typeface="Team MT"/>
              </a:rPr>
              <a:t>Detección de Necesidad</a:t>
            </a:r>
            <a:endParaRPr b="0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apppbic" descr=""/>
          <p:cNvPicPr/>
          <p:nvPr/>
        </p:nvPicPr>
        <p:blipFill>
          <a:blip r:embed="rId1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2617560" y="2616120"/>
            <a:ext cx="6852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OTENCIAL ECONOMIC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371600"/>
            <a:ext cx="70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Número 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sposición a Pa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Diferencial de Util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99ff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 </a:t>
            </a:r>
            <a:r>
              <a:rPr b="0" lang="es-MX" sz="3600" spc="-1" strike="noStrike">
                <a:solidFill>
                  <a:srgbClr val="3399ff"/>
                </a:solidFill>
                <a:latin typeface="Trebuchet MS"/>
              </a:rPr>
              <a:t>Sustentabilidad Fu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model_paper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968400" cy="2895840"/>
          </a:xfrm>
          <a:prstGeom prst="rect">
            <a:avLst/>
          </a:prstGeom>
          <a:ln w="0">
            <a:noFill/>
          </a:ln>
        </p:spPr>
      </p:pic>
      <p:pic>
        <p:nvPicPr>
          <p:cNvPr id="100" name="papppbic" descr=""/>
          <p:cNvPicPr/>
          <p:nvPr/>
        </p:nvPicPr>
        <p:blipFill>
          <a:blip r:embed="rId2"/>
          <a:stretch/>
        </p:blipFill>
        <p:spPr>
          <a:xfrm>
            <a:off x="5029200" y="4648320"/>
            <a:ext cx="3714840" cy="1939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17680" y="446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1513440" y="4485240"/>
            <a:ext cx="3882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3333cc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371600"/>
            <a:ext cx="708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99ff"/>
                </a:solidFill>
                <a:latin typeface="Trebuchet MS"/>
              </a:rPr>
              <a:t>Bolsas y empaques especiales de papel y cartón reciclado, con diseños exclusivos de alto estándar según las necesidades de cada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-1095840" y="4372560"/>
            <a:ext cx="4114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99ccff"/>
                </a:solidFill>
                <a:latin typeface="Team MT"/>
              </a:rPr>
              <a:t>PRODUCTO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21:32:44Z</dcterms:created>
  <dc:creator>Loyola Vergara</dc:creator>
  <dc:description/>
  <dc:language>en-US</dc:language>
  <cp:lastModifiedBy>OEM</cp:lastModifiedBy>
  <dcterms:modified xsi:type="dcterms:W3CDTF">2004-12-31T12:46:16Z</dcterms:modified>
  <cp:revision>38</cp:revision>
  <dc:subject/>
  <dc:title>Presentación de PowerPoint</dc:title>
</cp:coreProperties>
</file>