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34D-6CDE-4D98-AB1F-82994568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B47-9C7F-4118-BBEA-452FDA16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2C0-E059-43E6-8D91-8F47F58F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81F-4733-4541-B5F2-1A240E68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AE3-1D81-4368-9B3C-611F08C3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D37-6E0D-4A7B-9823-D2A74B71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5F5-DF3D-4141-A8DA-34D20E47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4B9-E969-49A9-AC91-43267CE1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C57-152A-494C-9AFB-120D37F3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CE9-8D19-4619-9DD8-52CD466F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459-BF70-46B5-91FD-5F02AA75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1C8-4B00-4A96-A98A-ABF36475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800A-D085-4FBF-B19D-BE8ADAC9C50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1480" y="2514600"/>
            <a:ext cx="347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ourier New"/>
              </a:rPr>
              <a:t>Ecolog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ourier New"/>
              </a:rPr>
              <a:t>Bag</a:t>
            </a:r>
            <a:r>
              <a:rPr b="0" lang="es-MX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odel_paper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38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4556160"/>
            <a:ext cx="35816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5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Tiene propiedades físicas (porosidad, fibrosa, etc) que la hacen especialmente atractiva para productos orgán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565440"/>
            <a:ext cx="70102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4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Tiene implícita una conciencia ecológica y medioambiental, dada su condición deproducto recicl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362320"/>
            <a:ext cx="69343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Es visualmente y sensorialmente más agradable y elegante, sin incurrir en un costo demasiado elevado (como por ejemplo una bolsa de géne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143000"/>
            <a:ext cx="70106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Tiene mayor elaboración que una bolsa de plástico tradicional, asociada a un mayor “status” o nivel de ca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9480" y="514440"/>
            <a:ext cx="55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1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Se trata de un producto de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model_paper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1108080" cy="3314520"/>
          </a:xfrm>
          <a:prstGeom prst="rect">
            <a:avLst/>
          </a:prstGeom>
          <a:ln w="0">
            <a:noFill/>
          </a:ln>
        </p:spPr>
      </p:pic>
      <p:pic>
        <p:nvPicPr>
          <p:cNvPr id="111" name="papppbic" descr=""/>
          <p:cNvPicPr/>
          <p:nvPr/>
        </p:nvPicPr>
        <p:blipFill>
          <a:blip r:embed="rId2"/>
          <a:stretch/>
        </p:blipFill>
        <p:spPr>
          <a:xfrm>
            <a:off x="5029200" y="4648320"/>
            <a:ext cx="3714840" cy="193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76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1475280" y="4523400"/>
            <a:ext cx="3806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45560" y="1066680"/>
            <a:ext cx="4819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0" spc="-1" strike="noStrike">
                <a:solidFill>
                  <a:srgbClr val="99cc00"/>
                </a:solidFill>
                <a:latin typeface="Team MT"/>
              </a:rPr>
              <a:t>El Mercad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286000"/>
            <a:ext cx="5596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eam MT"/>
              </a:rPr>
              <a:t>¿Quién compraría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228600" y="3352680"/>
            <a:ext cx="9601200" cy="1160280"/>
            <a:chOff x="-228600" y="3352680"/>
            <a:chExt cx="9601200" cy="1160280"/>
          </a:xfrm>
        </p:grpSpPr>
        <p:sp>
          <p:nvSpPr>
            <p:cNvPr id="117" name=""/>
            <p:cNvSpPr/>
            <p:nvPr/>
          </p:nvSpPr>
          <p:spPr>
            <a:xfrm>
              <a:off x="-228600" y="3352680"/>
              <a:ext cx="9601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7000" spc="-1" strike="noStrike">
                  <a:solidFill>
                    <a:srgbClr val="ff9900"/>
                  </a:solidFill>
                  <a:latin typeface="Trebuchet MS"/>
                </a:rPr>
                <a:t>cliente </a:t>
              </a:r>
              <a:r>
                <a:rPr b="1" lang="es-CL" sz="7000" spc="-1" strike="noStrike">
                  <a:solidFill>
                    <a:srgbClr val="99cc00"/>
                  </a:solidFill>
                  <a:latin typeface="Trebuchet MS"/>
                </a:rPr>
                <a:t>=</a:t>
              </a:r>
              <a:r>
                <a:rPr b="1" lang="es-CL" sz="7000" spc="-1" strike="noStrike">
                  <a:solidFill>
                    <a:srgbClr val="ff9900"/>
                  </a:solidFill>
                  <a:latin typeface="Trebuchet MS"/>
                </a:rPr>
                <a:t> consumidor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581280" y="3657600"/>
              <a:ext cx="76320" cy="60948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bag8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244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04920" y="1295280"/>
            <a:ext cx="960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ff9900"/>
                </a:solidFill>
                <a:latin typeface="Trebuchet MS"/>
              </a:rPr>
              <a:t>nuestra empresa </a:t>
            </a:r>
            <a:r>
              <a:rPr b="1" lang="es-CL" sz="3400" spc="-1" strike="noStrike">
                <a:solidFill>
                  <a:srgbClr val="99cc00"/>
                </a:solidFill>
                <a:latin typeface="Wingdings"/>
                <a:ea typeface="Wingdings"/>
              </a:rPr>
              <a:t></a:t>
            </a:r>
            <a:r>
              <a:rPr b="1" lang="es-CL" sz="3400" spc="-1" strike="noStrike">
                <a:solidFill>
                  <a:srgbClr val="ff9900"/>
                </a:solidFill>
                <a:latin typeface="Trebuchet MS"/>
              </a:rPr>
              <a:t> cliente </a:t>
            </a:r>
            <a:r>
              <a:rPr b="1" lang="es-CL" sz="3400" spc="-1" strike="noStrike">
                <a:solidFill>
                  <a:srgbClr val="99cc00"/>
                </a:solidFill>
                <a:latin typeface="Wingdings"/>
                <a:ea typeface="Wingdings"/>
              </a:rPr>
              <a:t></a:t>
            </a:r>
            <a:r>
              <a:rPr b="1" lang="es-CL" sz="3400" spc="-1" strike="noStrike">
                <a:solidFill>
                  <a:srgbClr val="ff9900"/>
                </a:solidFill>
                <a:latin typeface="Trebuchet MS"/>
              </a:rPr>
              <a:t> consumid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2080" y="-168120"/>
            <a:ext cx="4844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0" spc="-1" strike="noStrike">
                <a:solidFill>
                  <a:srgbClr val="99cc00"/>
                </a:solidFill>
                <a:latin typeface="Team MT"/>
              </a:rPr>
              <a:t>El mercad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33480" y="669960"/>
            <a:ext cx="55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00"/>
                </a:solidFill>
                <a:latin typeface="Team MT"/>
              </a:rPr>
              <a:t>¿quién compraría nuestro produc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0120" y="2590920"/>
            <a:ext cx="3439440" cy="3522600"/>
            <a:chOff x="510120" y="2590920"/>
            <a:chExt cx="3439440" cy="3522600"/>
          </a:xfrm>
        </p:grpSpPr>
        <p:pic>
          <p:nvPicPr>
            <p:cNvPr id="124" name="bag8" descr=""/>
            <p:cNvPicPr/>
            <p:nvPr/>
          </p:nvPicPr>
          <p:blipFill>
            <a:blip r:embed="rId1"/>
            <a:stretch/>
          </p:blipFill>
          <p:spPr>
            <a:xfrm>
              <a:off x="1295280" y="2590920"/>
              <a:ext cx="2654280" cy="27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10120" y="5257800"/>
              <a:ext cx="21542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000" spc="-1" strike="noStrike">
                  <a:solidFill>
                    <a:srgbClr val="ffcc99"/>
                  </a:solidFill>
                  <a:latin typeface="Swis721 BlkEx BT"/>
                </a:rPr>
                <a:t>cliente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863440" y="2133720"/>
            <a:ext cx="5179320" cy="4725720"/>
            <a:chOff x="2863440" y="2133720"/>
            <a:chExt cx="5179320" cy="4725720"/>
          </a:xfrm>
        </p:grpSpPr>
        <p:pic>
          <p:nvPicPr>
            <p:cNvPr id="127" name="Shopping%2520Bag1" descr=""/>
            <p:cNvPicPr/>
            <p:nvPr/>
          </p:nvPicPr>
          <p:blipFill>
            <a:blip r:embed="rId2"/>
            <a:stretch/>
          </p:blipFill>
          <p:spPr>
            <a:xfrm>
              <a:off x="4800600" y="2133720"/>
              <a:ext cx="2797200" cy="40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863440" y="5699160"/>
              <a:ext cx="51793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0" spc="-1" strike="noStrike">
                  <a:solidFill>
                    <a:srgbClr val="ffcc99"/>
                  </a:solidFill>
                  <a:latin typeface="Swis721 BlkEx BT"/>
                </a:rPr>
                <a:t>consumidor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43400" y="0"/>
            <a:ext cx="48006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1905120"/>
            <a:ext cx="39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A.</a:t>
            </a:r>
            <a:r>
              <a:rPr b="0" lang="es-CL" sz="2200" spc="-1" strike="noStrike">
                <a:solidFill>
                  <a:srgbClr val="d60093"/>
                </a:solidFill>
                <a:latin typeface="Antigoni Med"/>
                <a:ea typeface="Times New Roman"/>
              </a:rPr>
              <a:t> selectivo en lo que consume (exige mayor cal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8920" y="2986200"/>
            <a:ext cx="388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  </a:t>
            </a: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B.</a:t>
            </a:r>
            <a:r>
              <a:rPr b="0" lang="es-CL" sz="2200" spc="-1" strike="noStrike">
                <a:solidFill>
                  <a:srgbClr val="d60093"/>
                </a:solidFill>
                <a:latin typeface="Antigoni Med"/>
                <a:ea typeface="Times New Roman"/>
              </a:rPr>
              <a:t> con conciencia ecológ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73392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   </a:t>
            </a: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C.</a:t>
            </a:r>
            <a:r>
              <a:rPr b="0" lang="es-CL" sz="2200" spc="-1" strike="noStrike">
                <a:solidFill>
                  <a:srgbClr val="d60093"/>
                </a:solidFill>
                <a:latin typeface="Antigoni Med"/>
                <a:ea typeface="Times New Roman"/>
              </a:rPr>
              <a:t> con gustos mas refinados y que aprecia y valora los detalles</a:t>
            </a:r>
            <a:r>
              <a:rPr b="0" lang="es-ES" sz="2200" spc="-1" strike="noStrike">
                <a:solidFill>
                  <a:srgbClr val="d60093"/>
                </a:solidFill>
                <a:latin typeface="Antigoni Me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niñas" descr=""/>
          <p:cNvPicPr/>
          <p:nvPr/>
        </p:nvPicPr>
        <p:blipFill>
          <a:blip r:embed="rId1"/>
          <a:stretch/>
        </p:blipFill>
        <p:spPr>
          <a:xfrm>
            <a:off x="0" y="1752480"/>
            <a:ext cx="4508640" cy="5105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00600" y="5181480"/>
            <a:ext cx="435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9cc00"/>
                </a:solidFill>
                <a:latin typeface="Antigoni Med"/>
              </a:rPr>
              <a:t>D.</a:t>
            </a:r>
            <a:r>
              <a:rPr b="0" lang="es-ES_tradnl" sz="2200" spc="-1" strike="noStrike">
                <a:solidFill>
                  <a:srgbClr val="d60093"/>
                </a:solidFill>
                <a:latin typeface="Antigoni Med"/>
              </a:rPr>
              <a:t> le interesan las marcas y los n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308160" y="163440"/>
            <a:ext cx="8931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ff9900"/>
                </a:solidFill>
                <a:latin typeface="Team MT"/>
              </a:rPr>
              <a:t>Segmentación del   </a:t>
            </a:r>
            <a:r>
              <a:rPr b="0" lang="es-ES_tradnl" sz="4300" spc="-1" strike="noStrike">
                <a:solidFill>
                  <a:srgbClr val="ffffff"/>
                </a:solidFill>
                <a:latin typeface="Team MT"/>
              </a:rPr>
              <a:t>CONSUMIDO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bag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3444840" cy="4292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1295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 </a:t>
            </a: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&gt;&gt; según tipo de neces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299520" y="128520"/>
            <a:ext cx="73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Team MT"/>
              </a:rPr>
              <a:t>Segmentación del </a:t>
            </a:r>
            <a:r>
              <a:rPr b="0" lang="es-ES_tradnl" sz="4800" spc="-1" strike="noStrike">
                <a:solidFill>
                  <a:srgbClr val="99cc00"/>
                </a:solidFill>
                <a:latin typeface="Team MT"/>
              </a:rPr>
              <a:t>cl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3581280"/>
            <a:ext cx="4876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d60093"/>
                </a:solidFill>
                <a:latin typeface="Trebuchet MS"/>
                <a:ea typeface="Times New Roman"/>
              </a:rPr>
              <a:t>B.</a:t>
            </a:r>
            <a:r>
              <a:rPr b="0" lang="es-CL" sz="2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  <a:ea typeface="Times New Roman"/>
              </a:rPr>
              <a:t>Pueden utilizar tanto bolsas de papel o de plá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2362320"/>
            <a:ext cx="464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d60093"/>
                </a:solidFill>
                <a:latin typeface="Trebuchet MS"/>
              </a:rPr>
              <a:t>A.</a:t>
            </a:r>
            <a:r>
              <a:rPr b="0" lang="es-CL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</a:rPr>
              <a:t>Utilizan bolsas exclusivamente de plá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4724280"/>
            <a:ext cx="4800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d60093"/>
                </a:solidFill>
                <a:latin typeface="Trebuchet MS"/>
              </a:rPr>
              <a:t>C.</a:t>
            </a:r>
            <a:r>
              <a:rPr b="0" lang="es-CL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</a:rPr>
              <a:t>Utilizan bolsas exclusivamente de pa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ag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3444840" cy="4292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295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 </a:t>
            </a: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&gt;&gt; según relación volumen-cal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299520" y="128520"/>
            <a:ext cx="73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Team MT"/>
              </a:rPr>
              <a:t>Segmentación del </a:t>
            </a:r>
            <a:r>
              <a:rPr b="0" lang="es-ES_tradnl" sz="4800" spc="-1" strike="noStrike">
                <a:solidFill>
                  <a:srgbClr val="99cc00"/>
                </a:solidFill>
                <a:latin typeface="Team MT"/>
              </a:rPr>
              <a:t>cl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21178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60093"/>
                </a:solidFill>
                <a:latin typeface="Trebuchet MS"/>
                <a:ea typeface="Times New Roman"/>
              </a:rPr>
              <a:t>A.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  <a:ea typeface="Times New Roman"/>
              </a:rPr>
              <a:t>interesados en hacer notar su calidad, exclusividad y nivel, para potenciar su imagen.</a:t>
            </a:r>
            <a:r>
              <a:rPr b="0" lang="es-ES" sz="2000" spc="-1" strike="noStrike">
                <a:solidFill>
                  <a:srgbClr val="000000"/>
                </a:solidFill>
                <a:latin typeface="Swis721 Ex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32608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60093"/>
                </a:solidFill>
                <a:latin typeface="Trebuchet MS"/>
                <a:ea typeface="Times New Roman"/>
              </a:rPr>
              <a:t>B.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  <a:ea typeface="Times New Roman"/>
              </a:rPr>
              <a:t>ventas de artículos de alta calidad y cuyo volumen puede ser alto o bajo.</a:t>
            </a:r>
            <a:r>
              <a:rPr b="0" lang="es-ES" sz="2000" spc="-1" strike="noStrike">
                <a:solidFill>
                  <a:srgbClr val="000000"/>
                </a:solidFill>
                <a:latin typeface="Swis721 Ex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4432320"/>
            <a:ext cx="474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Trebuchet MS"/>
              </a:rPr>
              <a:t>C. </a:t>
            </a:r>
            <a:r>
              <a:rPr b="0" lang="es-ES_tradnl" sz="2000" spc="-1" strike="noStrike">
                <a:solidFill>
                  <a:srgbClr val="000000"/>
                </a:solidFill>
                <a:latin typeface="Swis721 Ex BT"/>
              </a:rPr>
              <a:t>ventas de un volumen particularmente alto de artículos que requieren bolsas de pa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_1496147_eu-shopping-bag-ap-300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2395440"/>
          </a:xfrm>
          <a:prstGeom prst="rect">
            <a:avLst/>
          </a:prstGeom>
          <a:ln w="0">
            <a:noFill/>
          </a:ln>
        </p:spPr>
      </p:pic>
      <p:pic>
        <p:nvPicPr>
          <p:cNvPr id="149" name="bag76" descr=""/>
          <p:cNvPicPr/>
          <p:nvPr/>
        </p:nvPicPr>
        <p:blipFill>
          <a:blip r:embed="rId2"/>
          <a:stretch/>
        </p:blipFill>
        <p:spPr>
          <a:xfrm>
            <a:off x="6651720" y="3809880"/>
            <a:ext cx="2415960" cy="2838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2743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5080" y="2424240"/>
            <a:ext cx="86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Swis721 Lt BT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supermercados que apunten a calidad y no cantidad (ej. Jumb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176760" y="2824200"/>
            <a:ext cx="955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d60093"/>
                </a:solidFill>
                <a:latin typeface="Swis721 Blk BT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 grandes tiendas interesadas en dar una imagen de distinción ( ej. Za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78476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d60093"/>
                </a:solidFill>
                <a:latin typeface="Swis721 Blk BT"/>
                <a:ea typeface="Times New Roman"/>
              </a:rPr>
              <a:t>6</a:t>
            </a:r>
            <a:r>
              <a:rPr b="1" lang="es-CL" sz="2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 estaciones de servicio interesadas en dar un imagen mas “limpia” (ej. Sh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00" y="4343400"/>
            <a:ext cx="77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5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 grandes cadenas de panaderías (ej. San Camilo, Castañ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3920" y="3205080"/>
            <a:ext cx="59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 cadenas de comida rápida (ej. Mc Donal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581280"/>
            <a:ext cx="63248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d60093"/>
                </a:solidFill>
                <a:latin typeface="Swis721 Blk BT"/>
                <a:ea typeface="Times New Roman"/>
              </a:rPr>
              <a:t>4</a:t>
            </a:r>
            <a:r>
              <a:rPr b="1" lang="es-CL" sz="4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grandes ferias artesanales interesadas en dar una  imagen corporativa (ej. Aldea Vitac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20" y="5643720"/>
            <a:ext cx="463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7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 grandes librerías (ej. Antártica).</a:t>
            </a:r>
            <a:r>
              <a:rPr b="1" lang="es-ES" sz="2000" spc="-1" strike="noStrike">
                <a:solidFill>
                  <a:srgbClr val="3333cc"/>
                </a:solidFill>
                <a:latin typeface="Swis721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6320" y="457200"/>
            <a:ext cx="3437640" cy="1617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MERCAD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0099"/>
                </a:solidFill>
                <a:latin typeface="Team MT"/>
              </a:rPr>
              <a:t>MET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53560" y="152280"/>
            <a:ext cx="398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6600"/>
                </a:solidFill>
                <a:latin typeface="Team MT"/>
              </a:rPr>
              <a:t>PRODUCT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1" descr=""/>
          <p:cNvPicPr/>
          <p:nvPr/>
        </p:nvPicPr>
        <p:blipFill>
          <a:blip r:embed="rId1"/>
          <a:stretch/>
        </p:blipFill>
        <p:spPr>
          <a:xfrm>
            <a:off x="0" y="838080"/>
            <a:ext cx="4572000" cy="2965680"/>
          </a:xfrm>
          <a:prstGeom prst="rect">
            <a:avLst/>
          </a:prstGeom>
          <a:ln w="0">
            <a:noFill/>
          </a:ln>
        </p:spPr>
      </p:pic>
      <p:pic>
        <p:nvPicPr>
          <p:cNvPr id="161" name="2" descr=""/>
          <p:cNvPicPr/>
          <p:nvPr/>
        </p:nvPicPr>
        <p:blipFill>
          <a:blip r:embed="rId2"/>
          <a:stretch/>
        </p:blipFill>
        <p:spPr>
          <a:xfrm>
            <a:off x="4572000" y="863640"/>
            <a:ext cx="4495680" cy="2946240"/>
          </a:xfrm>
          <a:prstGeom prst="rect">
            <a:avLst/>
          </a:prstGeom>
          <a:ln w="0">
            <a:noFill/>
          </a:ln>
        </p:spPr>
      </p:pic>
      <p:pic>
        <p:nvPicPr>
          <p:cNvPr id="162" name="3" descr=""/>
          <p:cNvPicPr/>
          <p:nvPr/>
        </p:nvPicPr>
        <p:blipFill>
          <a:blip r:embed="rId3"/>
          <a:stretch/>
        </p:blipFill>
        <p:spPr>
          <a:xfrm>
            <a:off x="76320" y="3749760"/>
            <a:ext cx="4419360" cy="3108240"/>
          </a:xfrm>
          <a:prstGeom prst="rect">
            <a:avLst/>
          </a:prstGeom>
          <a:ln w="0">
            <a:noFill/>
          </a:ln>
        </p:spPr>
      </p:pic>
      <p:pic>
        <p:nvPicPr>
          <p:cNvPr id="163" name="4" descr=""/>
          <p:cNvPicPr/>
          <p:nvPr/>
        </p:nvPicPr>
        <p:blipFill>
          <a:blip r:embed="rId4"/>
          <a:stretch/>
        </p:blipFill>
        <p:spPr>
          <a:xfrm>
            <a:off x="4648320" y="3733920"/>
            <a:ext cx="44193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16200000">
            <a:off x="-3092040" y="1780560"/>
            <a:ext cx="792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0000"/>
                </a:solidFill>
                <a:latin typeface="Team MT"/>
              </a:rPr>
              <a:t>POSIBILIDAD DE PRODUCT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aperbagpicture" descr=""/>
          <p:cNvPicPr/>
          <p:nvPr/>
        </p:nvPicPr>
        <p:blipFill>
          <a:blip r:embed="rId1"/>
          <a:stretch/>
        </p:blipFill>
        <p:spPr>
          <a:xfrm>
            <a:off x="3711600" y="0"/>
            <a:ext cx="54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banco%20y%20negro" descr=""/>
          <p:cNvPicPr/>
          <p:nvPr/>
        </p:nvPicPr>
        <p:blipFill>
          <a:blip r:embed="rId1"/>
          <a:srcRect l="3598" t="4400" r="2003" b="4400"/>
          <a:stretch/>
        </p:blipFill>
        <p:spPr>
          <a:xfrm>
            <a:off x="0" y="0"/>
            <a:ext cx="4495680" cy="2895480"/>
          </a:xfrm>
          <a:prstGeom prst="rect">
            <a:avLst/>
          </a:prstGeom>
          <a:ln w="0">
            <a:noFill/>
          </a:ln>
        </p:spPr>
      </p:pic>
      <p:pic>
        <p:nvPicPr>
          <p:cNvPr id="167" name="bag" descr=""/>
          <p:cNvPicPr/>
          <p:nvPr/>
        </p:nvPicPr>
        <p:blipFill>
          <a:blip r:embed="rId2"/>
          <a:stretch/>
        </p:blipFill>
        <p:spPr>
          <a:xfrm>
            <a:off x="6373800" y="3809880"/>
            <a:ext cx="2430360" cy="2617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495680" y="0"/>
            <a:ext cx="4648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3300"/>
                </a:solidFill>
                <a:latin typeface="Team MT"/>
              </a:rPr>
              <a:t>posicionamient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380880"/>
            <a:ext cx="4648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7c80"/>
                </a:solidFill>
                <a:latin typeface="Team MT"/>
              </a:rPr>
              <a:t>posicionamient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762120"/>
            <a:ext cx="4648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cccc"/>
                </a:solidFill>
                <a:latin typeface="Team MT"/>
              </a:rPr>
              <a:t>posicionamient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20040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Swis721 BT"/>
              </a:rPr>
              <a:t>Posicionar el producto dentro de </a:t>
            </a:r>
            <a:r>
              <a:rPr b="0" lang="es-ES_tradnl" sz="2400" spc="-1" strike="noStrike">
                <a:solidFill>
                  <a:srgbClr val="ff3300"/>
                </a:solidFill>
                <a:latin typeface="Swis721 Blk BT"/>
              </a:rPr>
              <a:t>&lt;&lt; quienes van a tomar las decisiones de compra 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724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wis721 Blk BT"/>
              </a:rPr>
              <a:t>Áreas de marketing</a:t>
            </a:r>
            <a:r>
              <a:rPr b="0" lang="es-ES_tradnl" sz="24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3399ff"/>
                </a:solidFill>
                <a:latin typeface="Swis721 BT"/>
              </a:rPr>
              <a:t>de empresas que utilizan bol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419112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" y="5943600"/>
            <a:ext cx="59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00"/>
                </a:solidFill>
                <a:latin typeface="Swis721 BlkCn BT"/>
              </a:rPr>
              <a:t>¿cuál es la </a:t>
            </a:r>
            <a:r>
              <a:rPr b="0" lang="es-ES_tradnl" sz="2400" spc="-1" strike="noStrike">
                <a:solidFill>
                  <a:srgbClr val="669900"/>
                </a:solidFill>
                <a:latin typeface="Swis721 BlkEx BT"/>
              </a:rPr>
              <a:t>imagen</a:t>
            </a:r>
            <a:r>
              <a:rPr b="0" lang="es-ES_tradnl" sz="2400" spc="-1" strike="noStrike">
                <a:solidFill>
                  <a:srgbClr val="99cc00"/>
                </a:solidFill>
                <a:latin typeface="Swis721 BlkCn BT"/>
              </a:rPr>
              <a:t> que se pretende d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36080" y="304920"/>
            <a:ext cx="589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3333cc"/>
                </a:solidFill>
                <a:latin typeface="Team MT"/>
              </a:rPr>
              <a:t>Necesidad - Clien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0120" y="1905120"/>
            <a:ext cx="76482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ourier New"/>
              </a:rPr>
              <a:t>Entorno Sen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urier New"/>
              </a:rPr>
              <a:t>Conciencia Ecolog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urier New"/>
              </a:rPr>
              <a:t>Responsabilidad Social Empresa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urier New"/>
              </a:rPr>
              <a:t>Anhelo de ser dist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odel_paper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968400" cy="2895840"/>
          </a:xfrm>
          <a:prstGeom prst="rect">
            <a:avLst/>
          </a:prstGeom>
          <a:ln w="0">
            <a:noFill/>
          </a:ln>
        </p:spPr>
      </p:pic>
      <p:pic>
        <p:nvPicPr>
          <p:cNvPr id="47" name="151853x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ahouse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2665440" cy="3606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71600" y="54864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6600"/>
                </a:solidFill>
                <a:latin typeface="Trebuchet MS"/>
              </a:rPr>
              <a:t>muy preocupada de la calidad de sus produc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2895480"/>
            <a:ext cx="518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una empresa innovadora, vanguardista, preocupada constantemente de detectar nuevas necesidades de clientes y consumidores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08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cc00"/>
                </a:solidFill>
                <a:latin typeface="Team MT"/>
              </a:rPr>
              <a:t>Posicionamiento: Empres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432756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Trebuchet MS"/>
              </a:rPr>
              <a:t>una empresa eficiente, rápida y cumplidora en horarios y metas propue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752480"/>
            <a:ext cx="652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Trebuchet MS"/>
              </a:rPr>
              <a:t>un sólido y capacitado equipo a cargo, con los mejores profesionales que respaldan un producto y un servicio de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560" y="175248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8400" y="304812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b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5320" y="5410080"/>
            <a:ext cx="7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280" y="434340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ahouse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2665440" cy="3606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71600" y="5089680"/>
            <a:ext cx="510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un producto que permitirá mejorar sustancialmente la imagen de la empresa-cliente, aludiendo a una preocupación ecológica y medio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72736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un producto que dará un sello de refinamiento y distinción a la empresa-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413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cc00"/>
                </a:solidFill>
                <a:latin typeface="Team MT"/>
              </a:rPr>
              <a:t>Posicionamiento: </a:t>
            </a:r>
            <a:r>
              <a:rPr b="0" lang="es-ES_tradnl" sz="5000" spc="-1" strike="noStrike">
                <a:solidFill>
                  <a:srgbClr val="669900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71808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un producto diseñado </a:t>
            </a:r>
            <a:r>
              <a:rPr b="0" lang="es-ES_tradnl" sz="2000" spc="-1" strike="noStrike">
                <a:solidFill>
                  <a:srgbClr val="0099ff"/>
                </a:solidFill>
                <a:latin typeface="Trebuchet MS"/>
              </a:rPr>
              <a:t>e</a:t>
            </a: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specialmente y por tanto adaptado fielmente a las necesidades de la empresa-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7524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ff"/>
                </a:solidFill>
                <a:latin typeface="Trebuchet MS"/>
              </a:rPr>
              <a:t>u</a:t>
            </a: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n producto de calidad </a:t>
            </a:r>
            <a:r>
              <a:rPr b="0" lang="es-MX" sz="2000" spc="-1" strike="noStrike">
                <a:solidFill>
                  <a:srgbClr val="0099ff"/>
                </a:solidFill>
                <a:latin typeface="Trebuchet MS"/>
              </a:rPr>
              <a:t>cumplidor con </a:t>
            </a: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estándares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1560" y="160020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8400" y="266688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b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640" y="5334120"/>
            <a:ext cx="7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1280" y="373392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shopping%2520bag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1414440" cy="2743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Proveer </a:t>
            </a:r>
            <a:r>
              <a:rPr b="0" lang="es-MX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soluciones de </a:t>
            </a:r>
            <a:r>
              <a:rPr b="0" lang="es-ES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e</a:t>
            </a:r>
            <a:r>
              <a:rPr b="0" lang="es-MX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nvases</a:t>
            </a:r>
            <a:r>
              <a:rPr b="0" lang="es-ES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ecologicos que permiten dar valor agregado al producto comercializado por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bag8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2244960" cy="2362320"/>
          </a:xfrm>
          <a:prstGeom prst="rect">
            <a:avLst/>
          </a:prstGeom>
          <a:ln w="0">
            <a:noFill/>
          </a:ln>
        </p:spPr>
      </p:pic>
      <p:pic>
        <p:nvPicPr>
          <p:cNvPr id="198" name="bag65" descr=""/>
          <p:cNvPicPr/>
          <p:nvPr/>
        </p:nvPicPr>
        <p:blipFill>
          <a:blip r:embed="rId3"/>
          <a:srcRect l="11905" t="33461" r="15711" b="0"/>
          <a:stretch/>
        </p:blipFill>
        <p:spPr>
          <a:xfrm>
            <a:off x="3990960" y="3962520"/>
            <a:ext cx="2486160" cy="2895480"/>
          </a:xfrm>
          <a:prstGeom prst="rect">
            <a:avLst/>
          </a:prstGeom>
          <a:ln w="0">
            <a:noFill/>
          </a:ln>
        </p:spPr>
      </p:pic>
      <p:pic>
        <p:nvPicPr>
          <p:cNvPr id="199" name="151853x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2311560" cy="2311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16200000">
            <a:off x="3910680" y="870840"/>
            <a:ext cx="138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777777"/>
                </a:solidFill>
                <a:latin typeface="Team MT"/>
              </a:rPr>
              <a:t>mi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12120" y="457200"/>
            <a:ext cx="33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9933"/>
                </a:solidFill>
                <a:latin typeface="Team MT"/>
              </a:rPr>
              <a:t>m</a:t>
            </a:r>
            <a:r>
              <a:rPr b="0" lang="es-ES_tradnl" sz="8000" spc="-1" strike="noStrike">
                <a:solidFill>
                  <a:srgbClr val="000000"/>
                </a:solidFill>
                <a:latin typeface="Team MT"/>
              </a:rPr>
              <a:t>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400680" y="515520"/>
            <a:ext cx="33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4d4d4d"/>
                </a:solidFill>
                <a:latin typeface="Team MT"/>
              </a:rPr>
              <a:t>m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shopping%2520bag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1414440" cy="2743200"/>
          </a:xfrm>
          <a:prstGeom prst="rect">
            <a:avLst/>
          </a:prstGeom>
          <a:ln w="0">
            <a:noFill/>
          </a:ln>
        </p:spPr>
      </p:pic>
      <p:pic>
        <p:nvPicPr>
          <p:cNvPr id="204" name="bag8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2244960" cy="2362320"/>
          </a:xfrm>
          <a:prstGeom prst="rect">
            <a:avLst/>
          </a:prstGeom>
          <a:ln w="0">
            <a:noFill/>
          </a:ln>
        </p:spPr>
      </p:pic>
      <p:pic>
        <p:nvPicPr>
          <p:cNvPr id="205" name="bag65" descr=""/>
          <p:cNvPicPr/>
          <p:nvPr/>
        </p:nvPicPr>
        <p:blipFill>
          <a:blip r:embed="rId3"/>
          <a:srcRect l="11905" t="33461" r="15711" b="0"/>
          <a:stretch/>
        </p:blipFill>
        <p:spPr>
          <a:xfrm>
            <a:off x="3990960" y="3962520"/>
            <a:ext cx="2486160" cy="2895480"/>
          </a:xfrm>
          <a:prstGeom prst="rect">
            <a:avLst/>
          </a:prstGeom>
          <a:ln w="0">
            <a:noFill/>
          </a:ln>
        </p:spPr>
      </p:pic>
      <p:pic>
        <p:nvPicPr>
          <p:cNvPr id="206" name="151853x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2311560" cy="2311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6200000">
            <a:off x="3931560" y="828360"/>
            <a:ext cx="122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777777"/>
                </a:solidFill>
                <a:latin typeface="Team MT"/>
              </a:rPr>
              <a:t>vi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66080" y="457200"/>
            <a:ext cx="304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99cc00"/>
                </a:solidFill>
                <a:latin typeface="Team MT"/>
              </a:rPr>
              <a:t>V</a:t>
            </a:r>
            <a:r>
              <a:rPr b="0" lang="es-ES_tradnl" sz="8000" spc="-1" strike="noStrike">
                <a:solidFill>
                  <a:srgbClr val="000000"/>
                </a:solidFill>
                <a:latin typeface="Team MT"/>
              </a:rPr>
              <a:t>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1094400" y="377280"/>
            <a:ext cx="30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4d4d4d"/>
                </a:solidFill>
                <a:latin typeface="Team MT"/>
              </a:rPr>
              <a:t>v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05120"/>
            <a:ext cx="754380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Una e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mpresa </a:t>
            </a:r>
            <a:r>
              <a:rPr b="1" lang="es-MX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comprometida con sus cliente, de carácter 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innovadora</a:t>
            </a:r>
            <a:r>
              <a:rPr b="1" lang="es-MX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, dotada de 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una clara conciencia medioambiental</a:t>
            </a:r>
            <a:r>
              <a:rPr b="1" lang="es-ES_tradnl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y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preocupada de satisfacer íntegramente al cliente con productos de alto nivel</a:t>
            </a:r>
            <a:r>
              <a:rPr b="1" lang="es-MX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animalprintpaperbags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2361960" cy="2235240"/>
          </a:xfrm>
          <a:prstGeom prst="rect">
            <a:avLst/>
          </a:prstGeom>
          <a:ln w="0">
            <a:noFill/>
          </a:ln>
        </p:spPr>
      </p:pic>
      <p:pic>
        <p:nvPicPr>
          <p:cNvPr id="212" name="bag65" descr=""/>
          <p:cNvPicPr/>
          <p:nvPr/>
        </p:nvPicPr>
        <p:blipFill>
          <a:blip r:embed="rId2"/>
          <a:srcRect l="11905" t="33461" r="15711" b="0"/>
          <a:stretch/>
        </p:blipFill>
        <p:spPr>
          <a:xfrm>
            <a:off x="-25560" y="76320"/>
            <a:ext cx="170208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053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06920" y="1352520"/>
            <a:ext cx="44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1 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</a:rPr>
              <a:t>rapidez y eficiencia en el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6324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4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es-MX" sz="2000" spc="-1" strike="noStrike">
                <a:solidFill>
                  <a:srgbClr val="ff6600"/>
                </a:solidFill>
                <a:latin typeface="Trebuchet MS"/>
              </a:rPr>
              <a:t>tecnologia de avan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2193840"/>
            <a:ext cx="510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2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</a:rPr>
              <a:t>diseños innovadores y ajustados a las necesidades especificas de cada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3200400"/>
            <a:ext cx="511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3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es-MX" sz="2000" spc="-1" strike="noStrike">
                <a:solidFill>
                  <a:srgbClr val="ff6600"/>
                </a:solidFill>
                <a:latin typeface="Trebuchet MS"/>
              </a:rPr>
              <a:t>un equipo humano capacitado y profes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67240" y="5470560"/>
            <a:ext cx="52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conciencia ecológica y medio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7520" y="469800"/>
            <a:ext cx="466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ilosofí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rown_paper_bag" descr=""/>
          <p:cNvPicPr/>
          <p:nvPr/>
        </p:nvPicPr>
        <p:blipFill>
          <a:blip r:embed="rId3"/>
          <a:stretch/>
        </p:blipFill>
        <p:spPr>
          <a:xfrm>
            <a:off x="1663560" y="152280"/>
            <a:ext cx="1308240" cy="1752840"/>
          </a:xfrm>
          <a:prstGeom prst="rect">
            <a:avLst/>
          </a:prstGeom>
          <a:ln w="0">
            <a:noFill/>
          </a:ln>
        </p:spPr>
      </p:pic>
      <p:pic>
        <p:nvPicPr>
          <p:cNvPr id="221" name="paper-bag-1-zoom" descr=""/>
          <p:cNvPicPr/>
          <p:nvPr/>
        </p:nvPicPr>
        <p:blipFill>
          <a:blip r:embed="rId4"/>
          <a:stretch/>
        </p:blipFill>
        <p:spPr>
          <a:xfrm>
            <a:off x="152280" y="21337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-141840" y="-304920"/>
            <a:ext cx="42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9900"/>
                </a:solidFill>
                <a:latin typeface="Team MT"/>
              </a:rPr>
              <a:t>F</a:t>
            </a:r>
            <a:r>
              <a:rPr b="0" lang="es-ES_tradnl" sz="12000" spc="-1" strike="noStrike">
                <a:solidFill>
                  <a:srgbClr val="99cc00"/>
                </a:solidFill>
                <a:latin typeface="Team MT"/>
              </a:rPr>
              <a:t>O</a:t>
            </a:r>
            <a:r>
              <a:rPr b="0" lang="es-ES_tradnl" sz="12000" spc="-1" strike="noStrike">
                <a:solidFill>
                  <a:srgbClr val="ff0000"/>
                </a:solidFill>
                <a:latin typeface="Team MT"/>
              </a:rPr>
              <a:t>D</a:t>
            </a:r>
            <a:r>
              <a:rPr b="0" lang="es-ES_tradnl" sz="12000" spc="-1" strike="noStrike">
                <a:solidFill>
                  <a:srgbClr val="3333cc"/>
                </a:solidFill>
                <a:latin typeface="Team MT"/>
              </a:rPr>
              <a:t>A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269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8720" y="1600200"/>
            <a:ext cx="200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9900"/>
                </a:solidFill>
                <a:latin typeface="Team MT"/>
                <a:ea typeface="Times New Roman"/>
              </a:rPr>
              <a:t>Fortalez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08600" y="2133720"/>
            <a:ext cx="38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ominio tecnológico y comput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35600" y="2482920"/>
            <a:ext cx="293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ntactos con importa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63960" y="2819520"/>
            <a:ext cx="7649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ersonal respons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dicación exclusiva a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sibilidades de compra de cartones y papeles a bajo costo a los cartone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680" y="4038480"/>
            <a:ext cx="228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3300"/>
                </a:solidFill>
                <a:latin typeface="Team MT"/>
                <a:ea typeface="Times New Roman"/>
              </a:rPr>
              <a:t>Debil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31720" y="4672080"/>
            <a:ext cx="4982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in experiencia en el rubro del reciclaje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alta capital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8" descr=""/>
          <p:cNvPicPr/>
          <p:nvPr/>
        </p:nvPicPr>
        <p:blipFill>
          <a:blip r:embed="rId1"/>
          <a:srcRect l="16668" t="8003" r="7332" b="20004"/>
          <a:stretch/>
        </p:blipFill>
        <p:spPr>
          <a:xfrm>
            <a:off x="5943600" y="152280"/>
            <a:ext cx="28195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141840" y="-304920"/>
            <a:ext cx="42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9900"/>
                </a:solidFill>
                <a:latin typeface="Team MT"/>
              </a:rPr>
              <a:t>F</a:t>
            </a:r>
            <a:r>
              <a:rPr b="0" lang="es-ES_tradnl" sz="12000" spc="-1" strike="noStrike">
                <a:solidFill>
                  <a:srgbClr val="99cc00"/>
                </a:solidFill>
                <a:latin typeface="Team MT"/>
              </a:rPr>
              <a:t>O</a:t>
            </a:r>
            <a:r>
              <a:rPr b="0" lang="es-ES_tradnl" sz="12000" spc="-1" strike="noStrike">
                <a:solidFill>
                  <a:srgbClr val="ff0000"/>
                </a:solidFill>
                <a:latin typeface="Team MT"/>
              </a:rPr>
              <a:t>D</a:t>
            </a:r>
            <a:r>
              <a:rPr b="0" lang="es-ES_tradnl" sz="12000" spc="-1" strike="noStrike">
                <a:solidFill>
                  <a:srgbClr val="3333cc"/>
                </a:solidFill>
                <a:latin typeface="Team MT"/>
              </a:rPr>
              <a:t>A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269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3680" y="1600200"/>
            <a:ext cx="288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99cc00"/>
                </a:solidFill>
                <a:latin typeface="Team MT"/>
                <a:ea typeface="Times New Roman"/>
              </a:rPr>
              <a:t>Oportun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8" descr=""/>
          <p:cNvPicPr/>
          <p:nvPr/>
        </p:nvPicPr>
        <p:blipFill>
          <a:blip r:embed="rId1"/>
          <a:srcRect l="16668" t="8003" r="7332" b="20004"/>
          <a:stretch/>
        </p:blipFill>
        <p:spPr>
          <a:xfrm>
            <a:off x="5943600" y="152280"/>
            <a:ext cx="2819520" cy="1781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081440" y="3200400"/>
            <a:ext cx="26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nsumidores exi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11600" y="2819520"/>
            <a:ext cx="65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eocupación de las empresas de mejorar su imagen corpo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27160" y="2133720"/>
            <a:ext cx="27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ca competenci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71720" y="2482920"/>
            <a:ext cx="50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xigencias medioambientales de los actuales TL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3000" y="4267080"/>
            <a:ext cx="202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3333cc"/>
                </a:solidFill>
                <a:latin typeface="Team MT"/>
                <a:ea typeface="Times New Roman"/>
              </a:rPr>
              <a:t>Amenaz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18520" y="5029200"/>
            <a:ext cx="41626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liente muy tradicional (bolsas plástic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greso competidor gr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48060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2895480"/>
            <a:ext cx="7924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s m</a:t>
            </a:r>
            <a:r>
              <a:rPr b="0" lang="es-ES_tradnl" sz="25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s caro que una bolsa de plástico tradicional,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pero de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mayor valor agregado</a:t>
            </a:r>
            <a:r>
              <a:rPr b="0" lang="es-ES_tradnl" sz="25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por tanto la ganancia se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 asocia a diferenciación y valor de marc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965160"/>
            <a:ext cx="289584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87040" y="762120"/>
            <a:ext cx="264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99000" y="4952880"/>
            <a:ext cx="1589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56240" y="5029200"/>
            <a:ext cx="3111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45684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193840"/>
            <a:ext cx="7924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un empaque m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s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selecto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que las bolsas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tradicionales de carácter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masi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vo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, con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características de buen diseño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que lo hacen especialmente atractivo para tiendas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exclusivas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con clientes que pagan la diferencia y poseen conciencia ecológ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7800" y="746280"/>
            <a:ext cx="186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85640" y="1041480"/>
            <a:ext cx="264672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99000" y="4952880"/>
            <a:ext cx="1589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56240" y="5105520"/>
            <a:ext cx="3111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45684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1560"/>
            <a:ext cx="7924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l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mercado objetivo </a:t>
            </a:r>
            <a:r>
              <a:rPr b="1" lang="es-MX" sz="2500" spc="-1" strike="noStrike">
                <a:solidFill>
                  <a:srgbClr val="000000"/>
                </a:solidFill>
                <a:latin typeface="Bookman Old Style"/>
              </a:rPr>
              <a:t>son principalmente las tiendas exclusivas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concentra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das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n la ciudad de Santiago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y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regiones (Ej: Antofagasta alto nivel de ingreso), a lo cual se suma un cliente diferenciado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7800" y="746280"/>
            <a:ext cx="186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7040" y="762120"/>
            <a:ext cx="264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5840" y="4876920"/>
            <a:ext cx="158904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56240" y="4952880"/>
            <a:ext cx="3111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p4_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2209680"/>
            <a:ext cx="3353040" cy="23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Las empresas cada vez se preocupan más de extender su gráfica comercial (imagen corporativa) en cada ele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45684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828800"/>
            <a:ext cx="7925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Esfuerzo comercial centrado en e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l “cliente”, a través de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campañas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nfocadas directamente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a los gerentes de marketing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y a los “consumidores” con</a:t>
            </a:r>
            <a:r>
              <a:rPr b="0" lang="es-ES_tradnl" sz="2500" spc="-1" strike="noStrike">
                <a:solidFill>
                  <a:srgbClr val="000000"/>
                </a:solidFill>
                <a:latin typeface="Bookman Old Style"/>
              </a:rPr>
              <a:t> apoyo a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campañas que incentiven la conciencia ecológica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, generando una venta personalizada apoyada con un sitio transaccional en la red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" y="746280"/>
            <a:ext cx="186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87040" y="762120"/>
            <a:ext cx="264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00" y="4952880"/>
            <a:ext cx="1589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0920" y="4800600"/>
            <a:ext cx="311148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Bolsas" descr=""/>
          <p:cNvPicPr/>
          <p:nvPr/>
        </p:nvPicPr>
        <p:blipFill>
          <a:blip r:embed="rId1"/>
          <a:stretch/>
        </p:blipFill>
        <p:spPr>
          <a:xfrm>
            <a:off x="5478480" y="2438280"/>
            <a:ext cx="3457440" cy="381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0"/>
            <a:ext cx="9144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cc9900"/>
                </a:solidFill>
                <a:latin typeface="Team MT"/>
              </a:rPr>
              <a:t>Estrategia institucion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5867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9720" y="2879640"/>
            <a:ext cx="435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a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producto de alto nivel de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720" y="4435560"/>
            <a:ext cx="40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d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de gran refinamiento est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5440" y="3276720"/>
            <a:ext cx="45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b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de mayor eficacia práctica (ej. pan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8800" y="5486400"/>
            <a:ext cx="47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f.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producto ecológico y biodegradab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36576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c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de diseño ajustado específicamente a las necesidades partic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4800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e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que ayuda a mejorar la imagen </a:t>
            </a:r>
            <a:r>
              <a:rPr b="0" lang="es-MX" sz="2000" spc="-1" strike="noStrike">
                <a:solidFill>
                  <a:srgbClr val="000000"/>
                </a:solidFill>
                <a:latin typeface="Swis721 LtEx BT"/>
              </a:rPr>
              <a:t>corpo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9680" y="160020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wis721 Blk BT"/>
              </a:rPr>
              <a:t>educar al cliente y a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97720" y="1039680"/>
            <a:ext cx="55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Se trata de un </a:t>
            </a:r>
            <a:r>
              <a:rPr b="0" lang="es-ES_tradnl" sz="2000" spc="-1" strike="noStrike">
                <a:solidFill>
                  <a:srgbClr val="000000"/>
                </a:solidFill>
                <a:latin typeface="Swis721 BlkEx BT"/>
              </a:rPr>
              <a:t>producto nuevo de su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72080" y="129528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wis721 LtEx BT"/>
              </a:rPr>
              <a:t>por lo que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457200"/>
            <a:ext cx="914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cc9900"/>
                </a:solidFill>
                <a:latin typeface="Team MT"/>
              </a:rPr>
              <a:t>·······································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2600" y="2235240"/>
            <a:ext cx="383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cc9900"/>
                </a:solidFill>
                <a:latin typeface="Mistral AV"/>
              </a:rPr>
              <a:t>DIFERENCIAC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Bolsas" descr=""/>
          <p:cNvPicPr/>
          <p:nvPr/>
        </p:nvPicPr>
        <p:blipFill>
          <a:blip r:embed="rId1"/>
          <a:stretch/>
        </p:blipFill>
        <p:spPr>
          <a:xfrm>
            <a:off x="3200400" y="3809880"/>
            <a:ext cx="2558880" cy="28195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0" y="0"/>
            <a:ext cx="9144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cc9900"/>
                </a:solidFill>
                <a:latin typeface="Team MT"/>
              </a:rPr>
              <a:t>Estrategia institucion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5867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5320" y="1066680"/>
            <a:ext cx="63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00"/>
                </a:solidFill>
                <a:latin typeface="Swis721 Blk BT"/>
              </a:rPr>
              <a:t>&gt;&gt;&gt;estrategia de crecimiento y proye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8288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En una </a:t>
            </a:r>
            <a:r>
              <a:rPr b="0" lang="es-ES_tradnl" sz="2000" spc="-1" strike="noStrike">
                <a:solidFill>
                  <a:srgbClr val="000000"/>
                </a:solidFill>
                <a:latin typeface="Swis721 Blk BT"/>
              </a:rPr>
              <a:t>primera etapa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se pretende dar un crecimiento intensivo dentro del mercado de las bolsas y empaques de papel reciclado, posicionándose como marca reconoci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86040" y="457200"/>
            <a:ext cx="7349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cc9900"/>
                </a:solidFill>
                <a:latin typeface="Team MT"/>
              </a:rPr>
              <a:t>·········································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29718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En una </a:t>
            </a:r>
            <a:r>
              <a:rPr b="0" lang="es-ES_tradnl" sz="2000" spc="-1" strike="noStrike">
                <a:solidFill>
                  <a:srgbClr val="000000"/>
                </a:solidFill>
                <a:latin typeface="Swis721 Blk BT"/>
              </a:rPr>
              <a:t>segunda etapa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se pretende expandir el rubro al campo de packaging de papel y cartón reciclado po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aper_bags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4138560" cy="2727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rot="16200000">
            <a:off x="-2513520" y="3557160"/>
            <a:ext cx="60800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500" spc="-1" strike="noStrike">
                <a:solidFill>
                  <a:srgbClr val="000000"/>
                </a:solidFill>
                <a:latin typeface="Team MT"/>
              </a:rPr>
              <a:t>Competencia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on todas aquellas empresas que actualmente están fabricando bolsas o empaques de papel reciclado y que distribuyen dentro de nuestro mercado objetivo.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2971800"/>
            <a:ext cx="739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on todas aquellas empresas que actualmente están fabricando bolsas de plástico o empaques de papel y cartón tradicional y que distribuyen dentro de nuestro mercado obje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4400" y="2286000"/>
            <a:ext cx="668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&gt;&gt;</a:t>
            </a:r>
            <a:r>
              <a:rPr b="1" lang="es-CL" sz="4000" spc="-1" strike="noStrike">
                <a:solidFill>
                  <a:srgbClr val="ff9933"/>
                </a:solidFill>
                <a:latin typeface="Trebuchet MS"/>
                <a:ea typeface="Times New Roman"/>
              </a:rPr>
              <a:t> Competencia Indire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2640" y="289080"/>
            <a:ext cx="62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&gt;&gt;</a:t>
            </a:r>
            <a:r>
              <a:rPr b="1" lang="es-CL" sz="4000" spc="-1" strike="noStrike">
                <a:solidFill>
                  <a:srgbClr val="ff9933"/>
                </a:solidFill>
                <a:latin typeface="Trebuchet MS"/>
                <a:ea typeface="Times New Roman"/>
              </a:rPr>
              <a:t> Competencia Dire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6019920"/>
            <a:ext cx="365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ff9933"/>
                </a:solidFill>
                <a:latin typeface="Team MT"/>
              </a:rPr>
              <a:t>competenc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filmpla" descr=""/>
          <p:cNvPicPr/>
          <p:nvPr/>
        </p:nvPicPr>
        <p:blipFill>
          <a:blip r:embed="rId2"/>
          <a:stretch/>
        </p:blipFill>
        <p:spPr>
          <a:xfrm>
            <a:off x="917640" y="4038480"/>
            <a:ext cx="18255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aper_bags" descr=""/>
          <p:cNvPicPr/>
          <p:nvPr/>
        </p:nvPicPr>
        <p:blipFill>
          <a:blip r:embed="rId1"/>
          <a:stretch/>
        </p:blipFill>
        <p:spPr>
          <a:xfrm>
            <a:off x="5005440" y="4130640"/>
            <a:ext cx="4138560" cy="27273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30481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y Acceso al Cliente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d de Contactos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pacidad de Innovación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lexibilidad Técnica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64600" y="289080"/>
            <a:ext cx="65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9933"/>
                </a:solidFill>
                <a:latin typeface="Trebuchet MS"/>
                <a:ea typeface="Times New Roman"/>
              </a:rPr>
              <a:t>Factores Críticos de Ex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0" y="5486400"/>
            <a:ext cx="9144000" cy="1371600"/>
            <a:chOff x="0" y="5486400"/>
            <a:chExt cx="9144000" cy="1371600"/>
          </a:xfrm>
        </p:grpSpPr>
        <p:pic>
          <p:nvPicPr>
            <p:cNvPr id="304" name="01_photo_02" descr=""/>
            <p:cNvPicPr/>
            <p:nvPr/>
          </p:nvPicPr>
          <p:blipFill>
            <a:blip r:embed="rId1"/>
            <a:srcRect l="3129" t="12785" r="6247" b="10480"/>
            <a:stretch/>
          </p:blipFill>
          <p:spPr>
            <a:xfrm>
              <a:off x="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01_photo_02" descr=""/>
            <p:cNvPicPr/>
            <p:nvPr/>
          </p:nvPicPr>
          <p:blipFill>
            <a:blip r:embed="rId2"/>
            <a:srcRect l="3129" t="12785" r="6247" b="10480"/>
            <a:stretch/>
          </p:blipFill>
          <p:spPr>
            <a:xfrm>
              <a:off x="213372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01_photo_02" descr=""/>
            <p:cNvPicPr/>
            <p:nvPr/>
          </p:nvPicPr>
          <p:blipFill>
            <a:blip r:embed="rId3"/>
            <a:srcRect l="3129" t="12785" r="6247" b="10480"/>
            <a:stretch/>
          </p:blipFill>
          <p:spPr>
            <a:xfrm>
              <a:off x="4267080" y="5486400"/>
              <a:ext cx="22100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01_photo_02" descr=""/>
            <p:cNvPicPr/>
            <p:nvPr/>
          </p:nvPicPr>
          <p:blipFill>
            <a:blip r:embed="rId4"/>
            <a:srcRect l="3129" t="12785" r="6247" b="10480"/>
            <a:stretch/>
          </p:blipFill>
          <p:spPr>
            <a:xfrm>
              <a:off x="640080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01_photo_02" descr=""/>
            <p:cNvPicPr/>
            <p:nvPr/>
          </p:nvPicPr>
          <p:blipFill>
            <a:blip r:embed="rId5"/>
            <a:srcRect l="3129" t="12785" r="71885" b="10480"/>
            <a:stretch/>
          </p:blipFill>
          <p:spPr>
            <a:xfrm>
              <a:off x="8534520" y="5486400"/>
              <a:ext cx="60948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>
            <a:off x="275760" y="-92160"/>
            <a:ext cx="35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9900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-921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d60093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91440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1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idea es comercializar bolsas y empaques de papel y cartón reciclado con diseños exclusivos según las necesidades de cada clien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365760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3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El mercado objetivo (cliente) son empresas de venta de gran volumen y/o de alto standard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905120"/>
            <a:ext cx="87631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2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s principales características del producto son: de alta calidad, refinado y exclusivo, de diseño único, que mejora la imagen corporativa, biodegradable, con propiedades especiales para productos orgánicos. Tiene por tanto, un mayor valor agregado que su competenc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449568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4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El posicionamiento del producto se dará fundamentalmente dentro del segmento “gerentes de marketing de empresas mercado meta”, dado que son ellos quienes toman las decisiones de compr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5486400"/>
            <a:ext cx="9144000" cy="1371600"/>
            <a:chOff x="0" y="5486400"/>
            <a:chExt cx="9144000" cy="1371600"/>
          </a:xfrm>
        </p:grpSpPr>
        <p:pic>
          <p:nvPicPr>
            <p:cNvPr id="316" name="01_photo_02" descr=""/>
            <p:cNvPicPr/>
            <p:nvPr/>
          </p:nvPicPr>
          <p:blipFill>
            <a:blip r:embed="rId1"/>
            <a:srcRect l="3129" t="12785" r="6247" b="10480"/>
            <a:stretch/>
          </p:blipFill>
          <p:spPr>
            <a:xfrm>
              <a:off x="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01_photo_02" descr=""/>
            <p:cNvPicPr/>
            <p:nvPr/>
          </p:nvPicPr>
          <p:blipFill>
            <a:blip r:embed="rId2"/>
            <a:srcRect l="3129" t="12785" r="6247" b="10480"/>
            <a:stretch/>
          </p:blipFill>
          <p:spPr>
            <a:xfrm>
              <a:off x="213372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01_photo_02" descr=""/>
            <p:cNvPicPr/>
            <p:nvPr/>
          </p:nvPicPr>
          <p:blipFill>
            <a:blip r:embed="rId3"/>
            <a:srcRect l="3129" t="12785" r="6247" b="10480"/>
            <a:stretch/>
          </p:blipFill>
          <p:spPr>
            <a:xfrm>
              <a:off x="4267080" y="5486400"/>
              <a:ext cx="22100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01_photo_02" descr=""/>
            <p:cNvPicPr/>
            <p:nvPr/>
          </p:nvPicPr>
          <p:blipFill>
            <a:blip r:embed="rId4"/>
            <a:srcRect l="3129" t="12785" r="6247" b="10480"/>
            <a:stretch/>
          </p:blipFill>
          <p:spPr>
            <a:xfrm>
              <a:off x="640080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01_photo_02" descr=""/>
            <p:cNvPicPr/>
            <p:nvPr/>
          </p:nvPicPr>
          <p:blipFill>
            <a:blip r:embed="rId5"/>
            <a:srcRect l="3129" t="12785" r="71885" b="10480"/>
            <a:stretch/>
          </p:blipFill>
          <p:spPr>
            <a:xfrm>
              <a:off x="8534520" y="5486400"/>
              <a:ext cx="60948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"/>
          <p:cNvSpPr/>
          <p:nvPr/>
        </p:nvSpPr>
        <p:spPr>
          <a:xfrm>
            <a:off x="199440" y="0"/>
            <a:ext cx="35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9900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47760" y="0"/>
            <a:ext cx="35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d60093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91440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5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estrategia de posicionamiento intentará destacar las cualidades diferenciales de este producto por sobre la mayoría de la competencia, especialmente la calidad, exclusividad, buena imagen (ecológico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320040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7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empresa será fuertemente tecnológica y de capital humano joven: innovación y calidad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216540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6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competencia (bolsas de plástico) ha penetrado profundamente todos los segmentos, por lo que es necesario un marketing orientado a educar al clien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396252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8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estrategia comercial apunta a conseguir un nicho de clientes fidelizados, los cuales sean rentables y permitan lograr utilidades a la empres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87692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9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s estrategias de crecimiento, están centradas en crecer junto a las necesidades de sus clientes y el mercado en gener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5486400"/>
            <a:ext cx="9144000" cy="1371600"/>
            <a:chOff x="0" y="5486400"/>
            <a:chExt cx="9144000" cy="1371600"/>
          </a:xfrm>
        </p:grpSpPr>
        <p:pic>
          <p:nvPicPr>
            <p:cNvPr id="329" name="01_photo_02" descr=""/>
            <p:cNvPicPr/>
            <p:nvPr/>
          </p:nvPicPr>
          <p:blipFill>
            <a:blip r:embed="rId1"/>
            <a:srcRect l="3129" t="12785" r="6247" b="10480"/>
            <a:stretch/>
          </p:blipFill>
          <p:spPr>
            <a:xfrm>
              <a:off x="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01_photo_02" descr=""/>
            <p:cNvPicPr/>
            <p:nvPr/>
          </p:nvPicPr>
          <p:blipFill>
            <a:blip r:embed="rId2"/>
            <a:srcRect l="3129" t="12785" r="6247" b="10480"/>
            <a:stretch/>
          </p:blipFill>
          <p:spPr>
            <a:xfrm>
              <a:off x="213372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01_photo_02" descr=""/>
            <p:cNvPicPr/>
            <p:nvPr/>
          </p:nvPicPr>
          <p:blipFill>
            <a:blip r:embed="rId3"/>
            <a:srcRect l="3129" t="12785" r="6247" b="10480"/>
            <a:stretch/>
          </p:blipFill>
          <p:spPr>
            <a:xfrm>
              <a:off x="4267080" y="5486400"/>
              <a:ext cx="22100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01_photo_02" descr=""/>
            <p:cNvPicPr/>
            <p:nvPr/>
          </p:nvPicPr>
          <p:blipFill>
            <a:blip r:embed="rId4"/>
            <a:srcRect l="3129" t="12785" r="6247" b="10480"/>
            <a:stretch/>
          </p:blipFill>
          <p:spPr>
            <a:xfrm>
              <a:off x="640080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01_photo_02" descr=""/>
            <p:cNvPicPr/>
            <p:nvPr/>
          </p:nvPicPr>
          <p:blipFill>
            <a:blip r:embed="rId5"/>
            <a:srcRect l="3129" t="12785" r="71885" b="10480"/>
            <a:stretch/>
          </p:blipFill>
          <p:spPr>
            <a:xfrm>
              <a:off x="8534520" y="5486400"/>
              <a:ext cx="60948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"/>
          <p:cNvSpPr/>
          <p:nvPr/>
        </p:nvSpPr>
        <p:spPr>
          <a:xfrm>
            <a:off x="2203920" y="304920"/>
            <a:ext cx="412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cc9900"/>
                </a:solidFill>
                <a:latin typeface="Team MT"/>
              </a:rPr>
              <a:t>Conclus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61080" y="1600200"/>
            <a:ext cx="6532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¡Una buena idea qu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Implementad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adecuadamen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Se tranasforma en u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excelente negoci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1853x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286000"/>
            <a:ext cx="3352680" cy="2760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En muchas tiendas es importante mantener un sello de alta calidad y exclusividad, de distinción en los detal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p4_2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ag76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1792440" cy="210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362320"/>
            <a:ext cx="3733920" cy="23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Muchos productos requieren condiciones especiales de packaging para obtener el óptimo de cal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151853x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0" name="ap4_2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51853x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ap4_2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bag76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792440" cy="2104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010280" y="3657600"/>
            <a:ext cx="1649520" cy="2209680"/>
            <a:chOff x="7010280" y="3657600"/>
            <a:chExt cx="1649520" cy="2209680"/>
          </a:xfrm>
        </p:grpSpPr>
        <p:pic>
          <p:nvPicPr>
            <p:cNvPr id="80" name="brown_paper_bag" descr=""/>
            <p:cNvPicPr/>
            <p:nvPr/>
          </p:nvPicPr>
          <p:blipFill>
            <a:blip r:embed="rId4"/>
            <a:stretch/>
          </p:blipFill>
          <p:spPr>
            <a:xfrm>
              <a:off x="7010280" y="3657600"/>
              <a:ext cx="164952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recycle_symbol" descr=""/>
            <p:cNvPicPr/>
            <p:nvPr/>
          </p:nvPicPr>
          <p:blipFill>
            <a:blip r:embed="rId5"/>
            <a:stretch/>
          </p:blipFill>
          <p:spPr>
            <a:xfrm>
              <a:off x="7162920" y="4653000"/>
              <a:ext cx="76176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2590920" y="2590920"/>
            <a:ext cx="3886200" cy="2760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La educación de los consumidores y las exigencias internacionales obligan cada vez más una preocupación medioambient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51853x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ap4_2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bag76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792440" cy="2104920"/>
          </a:xfrm>
          <a:prstGeom prst="rect">
            <a:avLst/>
          </a:prstGeom>
          <a:ln w="0">
            <a:noFill/>
          </a:ln>
        </p:spPr>
      </p:pic>
      <p:pic>
        <p:nvPicPr>
          <p:cNvPr id="87" name="brown_paper_bag" descr=""/>
          <p:cNvPicPr/>
          <p:nvPr/>
        </p:nvPicPr>
        <p:blipFill>
          <a:blip r:embed="rId4"/>
          <a:stretch/>
        </p:blipFill>
        <p:spPr>
          <a:xfrm>
            <a:off x="7010280" y="3657600"/>
            <a:ext cx="164952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recycle_symbol" descr=""/>
          <p:cNvPicPr/>
          <p:nvPr/>
        </p:nvPicPr>
        <p:blipFill>
          <a:blip r:embed="rId5"/>
          <a:stretch/>
        </p:blipFill>
        <p:spPr>
          <a:xfrm>
            <a:off x="7162920" y="4653000"/>
            <a:ext cx="761760" cy="757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259092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d60093"/>
                </a:solidFill>
                <a:latin typeface="Swis721 BlkEx BT"/>
              </a:rPr>
              <a:t>¿Cómo responder a estas necesidad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apppbic" descr=""/>
          <p:cNvPicPr/>
          <p:nvPr/>
        </p:nvPicPr>
        <p:blipFill>
          <a:blip r:embed="rId1"/>
          <a:stretch/>
        </p:blipFill>
        <p:spPr>
          <a:xfrm>
            <a:off x="5029200" y="4648320"/>
            <a:ext cx="3714840" cy="193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76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617560" y="2616120"/>
            <a:ext cx="6852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POTENCIAL ECONOMIC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37160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Número Cl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Disposición a Pa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Diferencial de Ut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Sustentabilidad Fu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model_paper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968400" cy="2895840"/>
          </a:xfrm>
          <a:prstGeom prst="rect">
            <a:avLst/>
          </a:prstGeom>
          <a:ln w="0">
            <a:noFill/>
          </a:ln>
        </p:spPr>
      </p:pic>
      <p:pic>
        <p:nvPicPr>
          <p:cNvPr id="100" name="papppbic" descr=""/>
          <p:cNvPicPr/>
          <p:nvPr/>
        </p:nvPicPr>
        <p:blipFill>
          <a:blip r:embed="rId2"/>
          <a:stretch/>
        </p:blipFill>
        <p:spPr>
          <a:xfrm>
            <a:off x="5029200" y="4648320"/>
            <a:ext cx="3714840" cy="193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176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1513440" y="4485240"/>
            <a:ext cx="3882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37160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ff"/>
                </a:solidFill>
                <a:latin typeface="Trebuchet MS"/>
              </a:rPr>
              <a:t>Bolsas y empaques especiales de papel y cartón reciclado, con diseños exclusivos de alto estándar según las necesidades de cada cl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-1095840" y="4372560"/>
            <a:ext cx="4114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ccff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1:32:44Z</dcterms:created>
  <dc:creator>Loyola Vergara</dc:creator>
  <dc:description/>
  <dc:language>en-US</dc:language>
  <cp:lastModifiedBy>OEM</cp:lastModifiedBy>
  <dcterms:modified xsi:type="dcterms:W3CDTF">2004-12-31T12:46:16Z</dcterms:modified>
  <cp:revision>38</cp:revision>
  <dc:subject/>
  <dc:title>Presentación de PowerPoint</dc:title>
</cp:coreProperties>
</file>