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13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49.png" ContentType="image/png"/>
  <Override PartName="/ppt/media/image71.wmf" ContentType="image/x-wmf"/>
  <Override PartName="/ppt/media/image47.png" ContentType="image/png"/>
  <Override PartName="/ppt/media/image46.png" ContentType="image/png"/>
  <Override PartName="/ppt/media/image45.wmf" ContentType="image/x-wmf"/>
  <Override PartName="/ppt/media/image44.jpeg" ContentType="image/jpeg"/>
  <Override PartName="/ppt/media/image38.png" ContentType="image/png"/>
  <Override PartName="/ppt/media/image60.wmf" ContentType="image/x-wmf"/>
  <Override PartName="/ppt/media/image43.wmf" ContentType="image/x-wmf"/>
  <Override PartName="/ppt/media/image42.png" ContentType="image/png"/>
  <Override PartName="/ppt/media/image41.png" ContentType="image/png"/>
  <Override PartName="/ppt/media/image40.png" ContentType="image/png"/>
  <Override PartName="/ppt/media/image39.png" ContentType="image/png"/>
  <Override PartName="/ppt/media/image61.wmf" ContentType="image/x-wmf"/>
  <Override PartName="/ppt/media/image37.png" ContentType="image/png"/>
  <Override PartName="/ppt/media/image36.png" ContentType="image/png"/>
  <Override PartName="/ppt/media/image9.jpeg" ContentType="image/jpeg"/>
  <Override PartName="/ppt/media/image35.wmf" ContentType="image/x-wmf"/>
  <Override PartName="/ppt/media/image78.png" ContentType="image/png"/>
  <Override PartName="/ppt/media/image34.wmf" ContentType="image/x-wmf"/>
  <Override PartName="/ppt/media/image33.wmf" ContentType="image/x-wmf"/>
  <Override PartName="/ppt/media/image32.wmf" ContentType="image/x-wmf"/>
  <Override PartName="/ppt/media/image5.png" ContentType="image/png"/>
  <Override PartName="/ppt/media/image17.png" ContentType="image/png"/>
  <Override PartName="/ppt/media/image21.wmf" ContentType="image/x-wmf"/>
  <Override PartName="/ppt/media/image83.png" ContentType="image/png"/>
  <Override PartName="/ppt/media/image18.png" ContentType="image/png"/>
  <Override PartName="/ppt/media/image58.wmf" ContentType="image/x-wmf"/>
  <Override PartName="/ppt/media/image20.wmf" ContentType="image/x-wmf"/>
  <Override PartName="/ppt/media/image57.wmf" ContentType="image/x-wmf"/>
  <Override PartName="/ppt/media/image22.wmf" ContentType="image/x-wmf"/>
  <Override PartName="/ppt/media/image59.wmf" ContentType="image/x-wmf"/>
  <Override PartName="/ppt/media/image24.wmf" ContentType="image/x-wmf"/>
  <Override PartName="/ppt/media/image62.wmf" ContentType="image/x-wmf"/>
  <Override PartName="/ppt/media/image26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9.wmf" ContentType="image/x-wmf"/>
  <Override PartName="/ppt/media/image89.wmf" ContentType="image/x-wmf"/>
  <Override PartName="/ppt/media/image77.wmf" ContentType="image/x-wmf"/>
  <Override PartName="/ppt/media/image25.wmf" ContentType="image/x-wmf"/>
  <Override PartName="/ppt/media/image68.png" ContentType="image/png"/>
  <Override PartName="/ppt/media/image1.png" ContentType="image/png"/>
  <Override PartName="/ppt/media/image29.wmf" ContentType="image/x-wmf"/>
  <Override PartName="/ppt/media/image88.wmf" ContentType="image/x-wmf"/>
  <Override PartName="/ppt/media/image51.wmf" ContentType="image/x-wmf"/>
  <Override PartName="/ppt/media/image87.wmf" ContentType="image/x-wmf"/>
  <Override PartName="/ppt/media/image75.wmf" ContentType="image/x-wmf"/>
  <Override PartName="/ppt/media/image86.wmf" ContentType="image/x-wmf"/>
  <Override PartName="/ppt/media/image74.wmf" ContentType="image/x-wmf"/>
  <Override PartName="/ppt/media/image85.png" ContentType="image/png"/>
  <Override PartName="/ppt/media/image67.wmf" ContentType="image/x-wmf"/>
  <Override PartName="/ppt/media/image27.png" ContentType="image/png"/>
  <Override PartName="/ppt/media/image30.wmf" ContentType="image/x-wmf"/>
  <Override PartName="/ppt/media/image84.png" ContentType="image/png"/>
  <Override PartName="/ppt/media/image82.wmf" ContentType="image/x-wmf"/>
  <Override PartName="/ppt/media/image81.wmf" ContentType="image/x-wmf"/>
  <Override PartName="/ppt/media/image79.wmf" ContentType="image/x-wmf"/>
  <Override PartName="/ppt/media/image73.wmf" ContentType="image/x-wmf"/>
  <Override PartName="/ppt/media/image3.png" ContentType="image/png"/>
  <Override PartName="/ppt/media/image19.wmf" ContentType="image/x-wmf"/>
  <Override PartName="/ppt/media/image80.wmf" ContentType="image/x-wmf"/>
  <Override PartName="/ppt/media/image15.wmf" ContentType="image/x-wmf"/>
  <Override PartName="/ppt/media/image14.wmf" ContentType="image/x-wmf"/>
  <Override PartName="/ppt/media/image66.png" ContentType="image/png"/>
  <Override PartName="/ppt/media/image23.wmf" ContentType="image/x-wmf"/>
  <Override PartName="/ppt/media/image48.png" ContentType="image/png"/>
  <Override PartName="/ppt/media/image70.wmf" ContentType="image/x-wmf"/>
  <Override PartName="/ppt/media/image6.wmf" ContentType="image/x-wmf"/>
  <Override PartName="/ppt/media/image76.jpeg" ContentType="image/jpeg"/>
  <Override PartName="/ppt/media/image11.wmf" ContentType="image/x-wmf"/>
  <Override PartName="/ppt/media/image50.png" ContentType="image/png"/>
  <Override PartName="/ppt/media/image28.png" ContentType="image/png"/>
  <Override PartName="/ppt/media/image31.wmf" ContentType="image/x-wmf"/>
  <Override PartName="/ppt/media/image4.png" ContentType="image/png"/>
  <Override PartName="/ppt/media/image16.png" ContentType="image/png"/>
  <Override PartName="/ppt/media/image7.jpeg" ContentType="image/jpeg"/>
  <Override PartName="/ppt/media/image72.jpeg" ContentType="image/jpeg"/>
  <Override PartName="/ppt/media/image2.png" ContentType="image/png"/>
  <Override PartName="/ppt/media/image10.wmf" ContentType="image/x-wmf"/>
  <Override PartName="/ppt/media/image12.wmf" ContentType="image/x-wmf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67B-A6F0-450A-A0DE-4570DC4F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13DF-934D-43BC-873E-31B69349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7A3DD-37F9-4FFB-BDD5-4FADE146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A00B-7387-40B9-9F35-320988AD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7DF5-94A6-4070-9168-1D35863EB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67E3-DFDA-4DFE-AC58-BCDF72782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C6985-0811-4217-9CE2-87AA70AA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761C-8337-4B06-8496-BF0FF432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493D-A0C7-4849-AAC6-92210687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EF04-0B66-4FE3-92C5-4D25358BB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52255-42C7-4F3B-B77F-5C92D3B2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9573-6A7A-4CFE-B0AE-681696CB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5736-AC57-4E30-AFA0-FF10B9B0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920E-7CE5-436A-9CEE-F343984D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669FE-7352-4BED-8F1C-A8C35534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99E22-8B1B-422C-97C6-C703BEEF8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5E62-1038-40BD-B730-C65D3055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9180-8878-409B-B1DB-1791328E8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9F0C-72C6-4AB2-BC35-C0B2E75D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4C7-4EBB-420C-8388-D71E88081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F4CE-B24D-44BA-896B-7D1B65CC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652D-D7C1-46D4-8374-5FCB7306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E19-2117-4D96-9AE3-C5C13CE2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55F-0E00-4ED8-B4E5-DD99FAE77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E39A4-F10F-4F4E-933B-765046D2303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B957-F619-4BD2-9AE2-FE406588953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4.jpeg"/><Relationship Id="rId3" Type="http://schemas.openxmlformats.org/officeDocument/2006/relationships/image" Target="../media/image44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9.png"/><Relationship Id="rId3" Type="http://schemas.openxmlformats.org/officeDocument/2006/relationships/image" Target="../media/image1.png"/><Relationship Id="rId4" Type="http://schemas.openxmlformats.org/officeDocument/2006/relationships/image" Target="../media/image49.png"/><Relationship Id="rId5" Type="http://schemas.openxmlformats.org/officeDocument/2006/relationships/image" Target="../media/image1.png"/><Relationship Id="rId6" Type="http://schemas.openxmlformats.org/officeDocument/2006/relationships/image" Target="../media/image49.png"/><Relationship Id="rId7" Type="http://schemas.openxmlformats.org/officeDocument/2006/relationships/image" Target="../media/image1.png"/><Relationship Id="rId8" Type="http://schemas.openxmlformats.org/officeDocument/2006/relationships/image" Target="../media/image49.png"/><Relationship Id="rId9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wmf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image" Target="../media/image62.wmf"/><Relationship Id="rId3" Type="http://schemas.openxmlformats.org/officeDocument/2006/relationships/image" Target="../media/image63.wmf"/><Relationship Id="rId4" Type="http://schemas.openxmlformats.org/officeDocument/2006/relationships/image" Target="../media/image64.wmf"/><Relationship Id="rId5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5.wmf"/><Relationship Id="rId8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6.png"/><Relationship Id="rId3" Type="http://schemas.openxmlformats.org/officeDocument/2006/relationships/image" Target="../media/image66.png"/><Relationship Id="rId4" Type="http://schemas.openxmlformats.org/officeDocument/2006/relationships/image" Target="../media/image66.png"/><Relationship Id="rId5" Type="http://schemas.openxmlformats.org/officeDocument/2006/relationships/image" Target="../media/image1.png"/><Relationship Id="rId6" Type="http://schemas.openxmlformats.org/officeDocument/2006/relationships/image" Target="../media/image66.png"/><Relationship Id="rId7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9.wmf"/><Relationship Id="rId2" Type="http://schemas.openxmlformats.org/officeDocument/2006/relationships/image" Target="../media/image70.wmf"/><Relationship Id="rId3" Type="http://schemas.openxmlformats.org/officeDocument/2006/relationships/image" Target="../media/image71.wmf"/><Relationship Id="rId4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2.jpeg"/><Relationship Id="rId3" Type="http://schemas.openxmlformats.org/officeDocument/2006/relationships/image" Target="../media/image72.jpeg"/><Relationship Id="rId4" Type="http://schemas.openxmlformats.org/officeDocument/2006/relationships/image" Target="../media/image72.jpeg"/><Relationship Id="rId5" Type="http://schemas.openxmlformats.org/officeDocument/2006/relationships/image" Target="../media/image72.jpeg"/><Relationship Id="rId6" Type="http://schemas.openxmlformats.org/officeDocument/2006/relationships/image" Target="../media/image73.wmf"/><Relationship Id="rId7" Type="http://schemas.openxmlformats.org/officeDocument/2006/relationships/image" Target="../media/image71.wmf"/><Relationship Id="rId8" Type="http://schemas.openxmlformats.org/officeDocument/2006/relationships/image" Target="../media/image70.wmf"/><Relationship Id="rId9" Type="http://schemas.openxmlformats.org/officeDocument/2006/relationships/image" Target="../media/image74.wmf"/><Relationship Id="rId10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5.wmf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wmf"/><Relationship Id="rId3" Type="http://schemas.openxmlformats.org/officeDocument/2006/relationships/image" Target="../media/image76.jpeg"/><Relationship Id="rId4" Type="http://schemas.openxmlformats.org/officeDocument/2006/relationships/image" Target="../media/image77.wmf"/><Relationship Id="rId5" Type="http://schemas.openxmlformats.org/officeDocument/2006/relationships/image" Target="../media/image76.jpeg"/><Relationship Id="rId6" Type="http://schemas.openxmlformats.org/officeDocument/2006/relationships/image" Target="../media/image77.wmf"/><Relationship Id="rId7" Type="http://schemas.openxmlformats.org/officeDocument/2006/relationships/image" Target="../media/image78.png"/><Relationship Id="rId8" Type="http://schemas.openxmlformats.org/officeDocument/2006/relationships/image" Target="../media/image78.png"/><Relationship Id="rId9" Type="http://schemas.openxmlformats.org/officeDocument/2006/relationships/image" Target="../media/image78.png"/><Relationship Id="rId10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80.wmf"/><Relationship Id="rId2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82.wmf"/><Relationship Id="rId2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7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3.png"/><Relationship Id="rId3" Type="http://schemas.openxmlformats.org/officeDocument/2006/relationships/image" Target="../media/image83.png"/><Relationship Id="rId4" Type="http://schemas.openxmlformats.org/officeDocument/2006/relationships/image" Target="../media/image83.png"/><Relationship Id="rId5" Type="http://schemas.openxmlformats.org/officeDocument/2006/relationships/image" Target="../media/image83.png"/><Relationship Id="rId6" Type="http://schemas.openxmlformats.org/officeDocument/2006/relationships/image" Target="../media/image83.png"/><Relationship Id="rId7" Type="http://schemas.openxmlformats.org/officeDocument/2006/relationships/image" Target="../media/image83.png"/><Relationship Id="rId8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4.png"/><Relationship Id="rId3" Type="http://schemas.openxmlformats.org/officeDocument/2006/relationships/image" Target="../media/image84.png"/><Relationship Id="rId4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5.png"/><Relationship Id="rId3" Type="http://schemas.openxmlformats.org/officeDocument/2006/relationships/image" Target="../media/image85.png"/><Relationship Id="rId4" Type="http://schemas.openxmlformats.org/officeDocument/2006/relationships/image" Target="../media/image85.png"/><Relationship Id="rId5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86.wmf"/><Relationship Id="rId9" Type="http://schemas.openxmlformats.org/officeDocument/2006/relationships/image" Target="../media/image87.wmf"/><Relationship Id="rId10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package" Target="../embeddings/oleObject1.pptx"/><Relationship Id="rId8" Type="http://schemas.openxmlformats.org/officeDocument/2006/relationships/image" Target="../media/image88.wmf"/><Relationship Id="rId9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2362320" y="2666520"/>
            <a:ext cx="5790960" cy="34290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ahoma"/>
              </a:rPr>
              <a:t>INTRODUCCION AL MUNDO EMPRESARIA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ustavo Amtmann 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amtmann@entelchile.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rientación a la Producció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s empresas orientadas hacia el producto emprenden el diseño sin tomar en cuenta opiniones de los consumidores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3276720" y="4038480"/>
            <a:ext cx="2438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12193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ESTRUCTURA Y TECNOLOGIA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terdependencia tecnológi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ecnología de servic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utinaria (estructura mecanicist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o rutinaria (orgánica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2952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cc6600"/>
                </a:solidFill>
                <a:latin typeface="Times New Roman"/>
              </a:rPr>
              <a:t>PROCESAMIENTO DE INFORMACIÓ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cremento en la capacidad de procesamiento de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Vertical, Relaciones laterales, Organización Matri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duciendo la necesidad de procesamiento de inform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cursos de reserva, equipos autónomos, Organización en r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977760" y="789120"/>
            <a:ext cx="73281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cc6600"/>
                </a:solidFill>
                <a:latin typeface="Times New Roman"/>
              </a:rPr>
              <a:t>Financiamiento de Proyecto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340920" y="2187720"/>
            <a:ext cx="8505720" cy="297000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El desafío consiste en vender: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a.- Ide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b.- Equipo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"/>
          <p:cNvSpPr/>
          <p:nvPr/>
        </p:nvSpPr>
        <p:spPr>
          <a:xfrm>
            <a:off x="420840" y="1523880"/>
            <a:ext cx="8001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1828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cc6600"/>
                </a:solidFill>
                <a:latin typeface="Times New Roman"/>
              </a:rPr>
              <a:t>Condiciones Buscadas en los Emprendedores y Proyectos</a:t>
            </a:r>
            <a:br>
              <a:rPr sz="3600"/>
            </a:b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33520" y="2027160"/>
            <a:ext cx="7238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Iniciati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mprom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lan de Negocios Profesional y coher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quipo de Trabajo motivado con el Proyec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apacidad de Innov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otencial</a:t>
            </a: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de Desarrol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Orientación a la Creación de Val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Valores Ét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1510920" y="865080"/>
            <a:ext cx="7327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cc6600"/>
                </a:solidFill>
                <a:latin typeface="Times New Roman"/>
              </a:rPr>
              <a:t>Financiamiento de Proyecto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340920" y="1554120"/>
            <a:ext cx="8505720" cy="506088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¿Cómo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Industria de Fondos de Inversión más que a través del financiamiento banc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Fondo de Inversión Ofrec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Financiamiento vía capital y/o deu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apacidad de Gest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62120" indent="-30492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strategias de salida en un plazo determin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cc6600"/>
                </a:solidFill>
                <a:latin typeface="Times New Roman"/>
              </a:rPr>
              <a:t>Incentivos a las Industria del Capital de Riesg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57200" y="2305080"/>
            <a:ext cx="79246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Incentivos a la actividad de Emp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Oportunidades Atractiva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Incentivos al Capital para Emp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Proyecto Escalable a otros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Co-Inversión Como Mecanismo de Creación de Val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"/>
          <p:cNvGrpSpPr/>
          <p:nvPr/>
        </p:nvGrpSpPr>
        <p:grpSpPr>
          <a:xfrm>
            <a:off x="533520" y="1219320"/>
            <a:ext cx="8388360" cy="5349960"/>
            <a:chOff x="533520" y="1219320"/>
            <a:chExt cx="8388360" cy="5349960"/>
          </a:xfrm>
        </p:grpSpPr>
        <p:sp>
          <p:nvSpPr>
            <p:cNvPr id="1118" name=""/>
            <p:cNvSpPr/>
            <p:nvPr/>
          </p:nvSpPr>
          <p:spPr>
            <a:xfrm>
              <a:off x="565200" y="1219320"/>
              <a:ext cx="77724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17840" y="2025360"/>
              <a:ext cx="777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úmero de Inversionistas por Negocio en U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0" name=""/>
            <p:cNvGrpSpPr/>
            <p:nvPr/>
          </p:nvGrpSpPr>
          <p:grpSpPr>
            <a:xfrm>
              <a:off x="533520" y="2435040"/>
              <a:ext cx="8388360" cy="4134240"/>
              <a:chOff x="533520" y="2435040"/>
              <a:chExt cx="8388360" cy="4134240"/>
            </a:xfrm>
          </p:grpSpPr>
          <p:grpSp>
            <p:nvGrpSpPr>
              <p:cNvPr id="1121" name=""/>
              <p:cNvGrpSpPr/>
              <p:nvPr/>
            </p:nvGrpSpPr>
            <p:grpSpPr>
              <a:xfrm>
                <a:off x="533520" y="2435040"/>
                <a:ext cx="8388360" cy="4134240"/>
                <a:chOff x="533520" y="2435040"/>
                <a:chExt cx="8388360" cy="4134240"/>
              </a:xfrm>
            </p:grpSpPr>
            <p:graphicFrame>
              <p:nvGraphicFramePr>
                <p:cNvPr id="1122" name=""/>
                <p:cNvGraphicFramePr/>
                <p:nvPr/>
              </p:nvGraphicFramePr>
              <p:xfrm>
                <a:off x="533520" y="2435040"/>
                <a:ext cx="8109000" cy="38728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123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533520" y="2435040"/>
                          <a:ext cx="8109000" cy="3872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124" name=""/>
                <p:cNvSpPr/>
                <p:nvPr/>
              </p:nvSpPr>
              <p:spPr>
                <a:xfrm>
                  <a:off x="6877080" y="6231960"/>
                  <a:ext cx="20448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Fuente: Venture On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5" name=""/>
              <p:cNvGrpSpPr/>
              <p:nvPr/>
            </p:nvGrpSpPr>
            <p:grpSpPr>
              <a:xfrm>
                <a:off x="7347240" y="3641040"/>
                <a:ext cx="1218600" cy="1447200"/>
                <a:chOff x="7347240" y="3641040"/>
                <a:chExt cx="1218600" cy="1447200"/>
              </a:xfrm>
            </p:grpSpPr>
            <p:sp>
              <p:nvSpPr>
                <p:cNvPr id="1126" name=""/>
                <p:cNvSpPr/>
                <p:nvPr/>
              </p:nvSpPr>
              <p:spPr>
                <a:xfrm>
                  <a:off x="7347240" y="3641040"/>
                  <a:ext cx="1218600" cy="1447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7399440" y="3742200"/>
                  <a:ext cx="73440" cy="101160"/>
                </a:xfrm>
                <a:prstGeom prst="rect">
                  <a:avLst/>
                </a:prstGeom>
                <a:solidFill>
                  <a:srgbClr val="0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7509960" y="3684240"/>
                  <a:ext cx="9014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900" spc="-1" strike="noStrike">
                      <a:solidFill>
                        <a:srgbClr val="000000"/>
                      </a:solidFill>
                      <a:latin typeface="Arial"/>
                    </a:rPr>
                    <a:t>5 + Inversionist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7399440" y="4031280"/>
                  <a:ext cx="73440" cy="101160"/>
                </a:xfrm>
                <a:prstGeom prst="rect">
                  <a:avLst/>
                </a:prstGeom>
                <a:solidFill>
                  <a:srgbClr val="008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7510680" y="3973320"/>
                  <a:ext cx="8024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900" spc="-1" strike="noStrike">
                      <a:solidFill>
                        <a:srgbClr val="000000"/>
                      </a:solidFill>
                      <a:latin typeface="Arial"/>
                    </a:rPr>
                    <a:t>4 Inversionist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7399440" y="4320720"/>
                  <a:ext cx="73440" cy="101520"/>
                </a:xfrm>
                <a:prstGeom prst="rect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7510680" y="4263480"/>
                  <a:ext cx="8024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900" spc="-1" strike="noStrike">
                      <a:solidFill>
                        <a:srgbClr val="000000"/>
                      </a:solidFill>
                      <a:latin typeface="Arial"/>
                    </a:rPr>
                    <a:t>3 Inversionist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7399440" y="4610520"/>
                  <a:ext cx="73440" cy="101160"/>
                </a:xfrm>
                <a:prstGeom prst="rect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4" name=""/>
                <p:cNvSpPr/>
                <p:nvPr/>
              </p:nvSpPr>
              <p:spPr>
                <a:xfrm>
                  <a:off x="7510680" y="4552560"/>
                  <a:ext cx="80244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900" spc="-1" strike="noStrike">
                      <a:solidFill>
                        <a:srgbClr val="000000"/>
                      </a:solidFill>
                      <a:latin typeface="Arial"/>
                    </a:rPr>
                    <a:t>2 Inversionista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7399440" y="4899960"/>
                  <a:ext cx="73440" cy="101160"/>
                </a:xfrm>
                <a:prstGeom prst="rect">
                  <a:avLst/>
                </a:prstGeom>
                <a:solidFill>
                  <a:srgbClr val="00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7511400" y="4842000"/>
                  <a:ext cx="744480" cy="137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900" spc="-1" strike="noStrike">
                      <a:solidFill>
                        <a:srgbClr val="000000"/>
                      </a:solidFill>
                      <a:latin typeface="Arial"/>
                    </a:rPr>
                    <a:t>1 Inversionist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37" name=""/>
          <p:cNvSpPr/>
          <p:nvPr/>
        </p:nvSpPr>
        <p:spPr>
          <a:xfrm>
            <a:off x="1600200" y="76212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spcBef>
                <a:spcPts val="1599"/>
              </a:spcBef>
              <a:spcAft>
                <a:spcPts val="15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a50021"/>
                </a:solidFill>
                <a:latin typeface="Arial"/>
              </a:rPr>
              <a:t>Industria del Capital de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rientación a las Venta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concepto de venta afirma que; si a los consumidores se les deja solos, por lo regular, no comprarán suficientes productos de la empresa”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267080" y="3657600"/>
            <a:ext cx="966960" cy="11430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914400" y="4191120"/>
            <a:ext cx="3276720" cy="14731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3"/>
          <a:stretch/>
        </p:blipFill>
        <p:spPr>
          <a:xfrm>
            <a:off x="5410080" y="4267080"/>
            <a:ext cx="304812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rientación al Client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200" spc="-1" strike="noStrike">
                <a:solidFill>
                  <a:srgbClr val="000000"/>
                </a:solidFill>
                <a:latin typeface="Times New Roman"/>
              </a:rPr>
              <a:t>La clave para alcanzar las metas organizacionales consiste en determinar las necesidades y deseos de los mercados meta, y entregar los satisfactores deseados de forma más eficaz y eficiente que los competidores”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19814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rientación Social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 labor de las organizaciones es determinar las necesidades, deseos e intereses de  los mercados meta y entregarles los satisfactores  deseados, en forma más eficaz y eficiente que la competencia, de tal manera que se proteja e incremente el bienestar del consumidor y de la sociedad”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3657600" y="4648320"/>
            <a:ext cx="1793880" cy="15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6600"/>
                </a:solidFill>
                <a:latin typeface="Times New Roman"/>
              </a:rPr>
              <a:t>Evolución del Marketing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986600" cy="441180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6600"/>
                </a:solidFill>
                <a:latin typeface="Times New Roman"/>
              </a:rPr>
              <a:t>Marketing y Orientación al Mercado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609480" y="1819440"/>
            <a:ext cx="7801200" cy="473364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El Consumido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Hace muchos años, Peter Druker determinó, que la labor principal de una compañía es generar clientes ..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... Sin embargo, en la actualidad los consumidores se enfrentan a una variedad muy vasta de productos, marcas, precios y proveedores de donde elegir y satisfacer sus deseos de comprar.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3886200" y="5181480"/>
            <a:ext cx="1068480" cy="12193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876920" y="4191120"/>
            <a:ext cx="1066680" cy="685800"/>
          </a:xfrm>
          <a:prstGeom prst="cloudCallout">
            <a:avLst>
              <a:gd name="adj1" fmla="val -65180"/>
              <a:gd name="adj2" fmla="val 129166"/>
            </a:avLst>
          </a:prstGeom>
          <a:solidFill>
            <a:srgbClr val="f3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Aiwa, Sony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ams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8120" y="4191120"/>
            <a:ext cx="914400" cy="685800"/>
          </a:xfrm>
          <a:prstGeom prst="cloudCallout">
            <a:avLst>
              <a:gd name="adj1" fmla="val 50694"/>
              <a:gd name="adj2" fmla="val 125231"/>
            </a:avLst>
          </a:prstGeom>
          <a:solidFill>
            <a:srgbClr val="f3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4120" y="5105520"/>
            <a:ext cx="914400" cy="609480"/>
          </a:xfrm>
          <a:prstGeom prst="cloudCallout">
            <a:avLst>
              <a:gd name="adj1" fmla="val -92361"/>
              <a:gd name="adj2" fmla="val 20050"/>
            </a:avLst>
          </a:prstGeom>
          <a:solidFill>
            <a:srgbClr val="f3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5181480"/>
            <a:ext cx="838080" cy="533520"/>
          </a:xfrm>
          <a:prstGeom prst="cloudCallout">
            <a:avLst>
              <a:gd name="adj1" fmla="val 91097"/>
              <a:gd name="adj2" fmla="val 31847"/>
            </a:avLst>
          </a:prstGeom>
          <a:solidFill>
            <a:srgbClr val="f3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39560" y="43434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3276720" y="4343400"/>
            <a:ext cx="457200" cy="3398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"/>
          <a:stretch/>
        </p:blipFill>
        <p:spPr>
          <a:xfrm>
            <a:off x="5486400" y="5257800"/>
            <a:ext cx="533520" cy="41760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2821320" y="5257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400800" y="5638680"/>
            <a:ext cx="2301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j.; Frente al dese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mprar una radio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Proceso de Compr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05320" y="2590920"/>
            <a:ext cx="1752480" cy="990360"/>
          </a:xfrm>
          <a:prstGeom prst="rect">
            <a:avLst/>
          </a:prstGeom>
          <a:gradFill rotWithShape="0">
            <a:gsLst>
              <a:gs pos="0">
                <a:srgbClr val="5e5235"/>
              </a:gs>
              <a:gs pos="100000">
                <a:srgbClr val="ccb374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ciencia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ece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2590920"/>
            <a:ext cx="1752480" cy="990360"/>
          </a:xfrm>
          <a:prstGeom prst="rect">
            <a:avLst/>
          </a:prstGeom>
          <a:gradFill rotWithShape="0">
            <a:gsLst>
              <a:gs pos="0">
                <a:srgbClr val="5e5235"/>
              </a:gs>
              <a:gs pos="100000">
                <a:srgbClr val="ccb374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úsqued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219320" y="4572000"/>
            <a:ext cx="1752480" cy="990720"/>
          </a:xfrm>
          <a:prstGeom prst="rect">
            <a:avLst/>
          </a:prstGeom>
          <a:gradFill rotWithShape="0">
            <a:gsLst>
              <a:gs pos="0">
                <a:srgbClr val="5e5235"/>
              </a:gs>
              <a:gs pos="100000">
                <a:srgbClr val="ccb374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valuación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ter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09880" y="4572000"/>
            <a:ext cx="1752840" cy="990720"/>
          </a:xfrm>
          <a:prstGeom prst="rect">
            <a:avLst/>
          </a:prstGeom>
          <a:gradFill rotWithShape="0">
            <a:gsLst>
              <a:gs pos="0">
                <a:srgbClr val="5e5235"/>
              </a:gs>
              <a:gs pos="100000">
                <a:srgbClr val="ccb374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p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00800" y="4572000"/>
            <a:ext cx="1752480" cy="990720"/>
          </a:xfrm>
          <a:prstGeom prst="rect">
            <a:avLst/>
          </a:prstGeom>
          <a:gradFill rotWithShape="0">
            <a:gsLst>
              <a:gs pos="0">
                <a:srgbClr val="5e5235"/>
              </a:gs>
              <a:gs pos="100000">
                <a:srgbClr val="ccb374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valu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st Comp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590920" y="3048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334120" y="3048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048120" y="51055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924680" y="2971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562720" y="50292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295280" y="2286000"/>
          <a:ext cx="119088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11908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7" name=""/>
          <p:cNvSpPr/>
          <p:nvPr/>
        </p:nvSpPr>
        <p:spPr>
          <a:xfrm>
            <a:off x="609480" y="51055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Tipos de Compr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9" name="UpRibbonSharp"/>
          <p:cNvSpPr/>
          <p:nvPr/>
        </p:nvSpPr>
        <p:spPr>
          <a:xfrm>
            <a:off x="533520" y="2286000"/>
            <a:ext cx="2895480" cy="1219320"/>
          </a:xfrm>
          <a:custGeom>
            <a:avLst/>
            <a:gdLst>
              <a:gd name="textAreaLeft" fmla="*/ 723960 w 2895480"/>
              <a:gd name="textAreaRight" fmla="*/ 2171880 w 2895480"/>
              <a:gd name="textAreaTop" fmla="*/ 0 h 1219320"/>
              <a:gd name="textAreaBottom" fmla="*/ 1067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e5d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mpra Impuls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chocola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UpRibbonSharp"/>
          <p:cNvSpPr/>
          <p:nvPr/>
        </p:nvSpPr>
        <p:spPr>
          <a:xfrm>
            <a:off x="5562720" y="4724280"/>
            <a:ext cx="3276360" cy="1219320"/>
          </a:xfrm>
          <a:custGeom>
            <a:avLst/>
            <a:gdLst>
              <a:gd name="textAreaLeft" fmla="*/ 819000 w 3276360"/>
              <a:gd name="textAreaRight" fmla="*/ 2457360 w 3276360"/>
              <a:gd name="textAreaTop" fmla="*/ 0 h 1219320"/>
              <a:gd name="textAreaBottom" fmla="*/ 1067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e5d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mpra de Compa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ca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UpRibbonSharp"/>
          <p:cNvSpPr/>
          <p:nvPr/>
        </p:nvSpPr>
        <p:spPr>
          <a:xfrm>
            <a:off x="5486400" y="2286000"/>
            <a:ext cx="3352680" cy="1219320"/>
          </a:xfrm>
          <a:custGeom>
            <a:avLst/>
            <a:gdLst>
              <a:gd name="textAreaLeft" fmla="*/ 838080 w 3352680"/>
              <a:gd name="textAreaRight" fmla="*/ 2514600 w 3352680"/>
              <a:gd name="textAreaTop" fmla="*/ 0 h 1219320"/>
              <a:gd name="textAreaBottom" fmla="*/ 1067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e5d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mpr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computad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UpRibbonSharp"/>
          <p:cNvSpPr/>
          <p:nvPr/>
        </p:nvSpPr>
        <p:spPr>
          <a:xfrm>
            <a:off x="533520" y="4724280"/>
            <a:ext cx="3200400" cy="1219320"/>
          </a:xfrm>
          <a:custGeom>
            <a:avLst/>
            <a:gdLst>
              <a:gd name="textAreaLeft" fmla="*/ 799920 w 3200400"/>
              <a:gd name="textAreaRight" fmla="*/ 2400480 w 3200400"/>
              <a:gd name="textAreaTop" fmla="*/ 0 h 1219320"/>
              <a:gd name="textAreaBottom" fmla="*/ 1067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8100" y="21600"/>
                </a:lnTo>
                <a:lnTo>
                  <a:pt x="8100" y="18900"/>
                </a:lnTo>
                <a:lnTo>
                  <a:pt x="13500" y="18900"/>
                </a:lnTo>
                <a:lnTo>
                  <a:pt x="13500" y="21600"/>
                </a:lnTo>
                <a:lnTo>
                  <a:pt x="21600" y="21600"/>
                </a:lnTo>
                <a:lnTo>
                  <a:pt x="18900" y="12150"/>
                </a:lnTo>
                <a:lnTo>
                  <a:pt x="21600" y="2700"/>
                </a:lnTo>
                <a:lnTo>
                  <a:pt x="16200" y="2700"/>
                </a:lnTo>
                <a:lnTo>
                  <a:pt x="16200" y="0"/>
                </a:lnTo>
                <a:lnTo>
                  <a:pt x="5400" y="0"/>
                </a:lnTo>
                <a:lnTo>
                  <a:pt x="5400" y="2700"/>
                </a:lnTo>
                <a:lnTo>
                  <a:pt x="0" y="2700"/>
                </a:lnTo>
                <a:lnTo>
                  <a:pt x="2700" y="12150"/>
                </a:lnTo>
                <a:close/>
              </a:path>
              <a:path fill="none" w="21600" h="21600">
                <a:moveTo>
                  <a:pt x="8100" y="18900"/>
                </a:moveTo>
                <a:lnTo>
                  <a:pt x="5400" y="18900"/>
                </a:lnTo>
                <a:lnTo>
                  <a:pt x="5400" y="2700"/>
                </a:lnTo>
              </a:path>
              <a:path fill="none" w="21600" h="21600">
                <a:moveTo>
                  <a:pt x="5400" y="18900"/>
                </a:moveTo>
                <a:lnTo>
                  <a:pt x="8100" y="21600"/>
                </a:lnTo>
              </a:path>
              <a:path fill="none" w="21600" h="21600">
                <a:moveTo>
                  <a:pt x="13500" y="18900"/>
                </a:moveTo>
                <a:lnTo>
                  <a:pt x="16200" y="18900"/>
                </a:lnTo>
                <a:lnTo>
                  <a:pt x="16200" y="2700"/>
                </a:lnTo>
              </a:path>
              <a:path fill="none" w="21600" h="21600">
                <a:moveTo>
                  <a:pt x="16200" y="18900"/>
                </a:moveTo>
                <a:lnTo>
                  <a:pt x="13500" y="21600"/>
                </a:lnTo>
              </a:path>
            </a:pathLst>
          </a:custGeom>
          <a:solidFill>
            <a:srgbClr val="e5d09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mpra de Conven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rop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3276720" y="2286000"/>
            <a:ext cx="293832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bjetivos del Market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048120"/>
            <a:ext cx="236232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traer Nuev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867280" y="4800600"/>
            <a:ext cx="2362320" cy="990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Retener 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ctu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905120" y="3733920"/>
            <a:ext cx="2286000" cy="1295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Objetivo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rk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4191120" y="3429000"/>
            <a:ext cx="16761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191120" y="4495680"/>
            <a:ext cx="16761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27050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40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99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GLOBALIZACION DE LA ECONOM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XIGENCIAS AMBIENTA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ROL PROTAGONICO DEL CLIENT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XISTENCIA DE UNA SOCIEDAD INFORMATIZAD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XISTENCIA DE MUCHOS BIENES Y/O SERVICIO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HIPERCOMPETENCI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XIGENCIAS AL PROCESO Y AL PRODUC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COMPETENCIA MULTICONTACT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MPRESAS MAS PEQUEÑAS Y FLEXIBL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CAMBIO DEL CONCEPTO TRABAJO AL DE EMPLEO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1692000" y="981000"/>
            <a:ext cx="625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Times New Roman"/>
              </a:rPr>
              <a:t>TENDENCIAS DE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Segmentación de Mercad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440" y="2147400"/>
            <a:ext cx="7924680" cy="18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200" spc="-1" strike="noStrike">
                <a:solidFill>
                  <a:srgbClr val="000000"/>
                </a:solidFill>
                <a:latin typeface="Times New Roman"/>
              </a:rPr>
              <a:t>Es el proceso de dividir un grupo heterogéneo de compradores actuales y/o potenciales, en grupos homogéneos, con características, hábitos, necesidades y deseos relativamente similares”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3200400" y="3962520"/>
            <a:ext cx="2743200" cy="233676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324480" y="373392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fesion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5409720" y="3962520"/>
            <a:ext cx="838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172200" y="525780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Jubi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5334120" y="525744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28800" y="36576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Básica y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124080" y="4114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541008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Estudi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cund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2743200" y="5410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43600" y="6095880"/>
            <a:ext cx="1676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43600" y="6095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Dueñas de C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4571640" y="579096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Variables de la Segmentació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3809880" y="3276720"/>
            <a:ext cx="1981440" cy="16873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914400" y="2438280"/>
            <a:ext cx="2286000" cy="1067040"/>
          </a:xfrm>
          <a:prstGeom prst="ellipse">
            <a:avLst/>
          </a:prstGeom>
          <a:gradFill rotWithShape="0">
            <a:gsLst>
              <a:gs pos="0">
                <a:srgbClr val="fe5932"/>
              </a:gs>
              <a:gs pos="100000">
                <a:srgbClr val="75291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Ge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90720" y="4572000"/>
            <a:ext cx="2286000" cy="1066680"/>
          </a:xfrm>
          <a:prstGeom prst="ellipse">
            <a:avLst/>
          </a:prstGeom>
          <a:gradFill rotWithShape="0">
            <a:gsLst>
              <a:gs pos="0">
                <a:srgbClr val="d05646"/>
              </a:gs>
              <a:gs pos="100000">
                <a:srgbClr val="5f272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Demográf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943600" y="4724280"/>
            <a:ext cx="2286000" cy="1067040"/>
          </a:xfrm>
          <a:prstGeom prst="ellipse">
            <a:avLst/>
          </a:prstGeom>
          <a:gradFill rotWithShape="0">
            <a:gsLst>
              <a:gs pos="0">
                <a:srgbClr val="f56b5d"/>
              </a:gs>
              <a:gs pos="100000">
                <a:srgbClr val="70312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Conduc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867280" y="2362320"/>
            <a:ext cx="2286000" cy="1066680"/>
          </a:xfrm>
          <a:prstGeom prst="ellipse">
            <a:avLst/>
          </a:prstGeom>
          <a:gradFill rotWithShape="0">
            <a:gsLst>
              <a:gs pos="0">
                <a:srgbClr val="f86956"/>
              </a:gs>
              <a:gs pos="100000">
                <a:srgbClr val="723027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Psicográf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76720" y="3048120"/>
            <a:ext cx="76176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3352680" y="4723920"/>
            <a:ext cx="53352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5333760" y="3124080"/>
            <a:ext cx="53316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5562360" y="4419720"/>
            <a:ext cx="68580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Beneficios de la Segmentació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0" y="2286000"/>
            <a:ext cx="9144000" cy="5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0" y="3124080"/>
            <a:ext cx="9144000" cy="7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0" y="3962520"/>
            <a:ext cx="91440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2819520" y="4218120"/>
            <a:ext cx="3352680" cy="21812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1676520" y="2057400"/>
            <a:ext cx="2514600" cy="1600200"/>
          </a:xfrm>
          <a:prstGeom prst="downArrowCallout">
            <a:avLst>
              <a:gd name="adj1" fmla="val 39289"/>
              <a:gd name="adj2" fmla="val 3928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Provee guías pa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l diseño de nue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produc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572000" y="2057400"/>
            <a:ext cx="2514600" cy="1600200"/>
          </a:xfrm>
          <a:prstGeom prst="downArrowCallout">
            <a:avLst>
              <a:gd name="adj1" fmla="val 39289"/>
              <a:gd name="adj2" fmla="val 39286"/>
              <a:gd name="adj3" fmla="val 16667"/>
              <a:gd name="adj4" fmla="val 66667"/>
            </a:avLst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Provee guía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l posicion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04920" y="4038480"/>
            <a:ext cx="2286000" cy="2057400"/>
          </a:xfrm>
          <a:prstGeom prst="rightArrowCallout">
            <a:avLst>
              <a:gd name="adj1" fmla="val 25002"/>
              <a:gd name="adj2" fmla="val 25000"/>
              <a:gd name="adj3" fmla="val 18519"/>
              <a:gd name="adj4" fmla="val 66667"/>
            </a:avLst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Perm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mejor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      </a:t>
            </a: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la asig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248520" y="4114800"/>
            <a:ext cx="2666880" cy="2133720"/>
          </a:xfrm>
          <a:prstGeom prst="leftArrowCallout">
            <a:avLst>
              <a:gd name="adj1" fmla="val 22326"/>
              <a:gd name="adj2" fmla="val 21653"/>
              <a:gd name="adj3" fmla="val 20310"/>
              <a:gd name="adj4" fmla="val 66673"/>
            </a:avLst>
          </a:prstGeom>
          <a:gradFill rotWithShape="0">
            <a:gsLst>
              <a:gs pos="0">
                <a:srgbClr val="cccc00"/>
              </a:gs>
              <a:gs pos="100000">
                <a:srgbClr val="5e5e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Permi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dentif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l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mer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Condiciones de una Buena Segmentació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066680" y="2362320"/>
            <a:ext cx="7391520" cy="761760"/>
          </a:xfrm>
          <a:prstGeom prst="rect">
            <a:avLst/>
          </a:prstGeom>
          <a:gradFill rotWithShape="0">
            <a:gsLst>
              <a:gs pos="0">
                <a:srgbClr val="536768"/>
              </a:gs>
              <a:gs pos="50000">
                <a:srgbClr val="b5e0e3"/>
              </a:gs>
              <a:gs pos="100000">
                <a:srgbClr val="53676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riterio de la segmentación ha de ser mensu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los datos que las describen deben ser obtenibl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066680" y="3505320"/>
            <a:ext cx="7391520" cy="1447560"/>
          </a:xfrm>
          <a:prstGeom prst="rect">
            <a:avLst/>
          </a:prstGeom>
          <a:gradFill rotWithShape="0">
            <a:gsLst>
              <a:gs pos="0">
                <a:srgbClr val="536768"/>
              </a:gs>
              <a:gs pos="50000">
                <a:srgbClr val="b5e0e3"/>
              </a:gs>
              <a:gs pos="100000">
                <a:srgbClr val="53676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egmento de mercado tiene que ser accesible a travé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nstituciones actuales de marke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termediarios, medios publicitarios, fuerzas de ventas de la compañía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un costo mínimo y sin desperdiciar esfuerz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066680" y="5257800"/>
            <a:ext cx="7467840" cy="762120"/>
          </a:xfrm>
          <a:prstGeom prst="rect">
            <a:avLst/>
          </a:prstGeom>
          <a:gradFill rotWithShape="0">
            <a:gsLst>
              <a:gs pos="0">
                <a:srgbClr val="536768"/>
              </a:gs>
              <a:gs pos="50000">
                <a:srgbClr val="b5e0e3"/>
              </a:gs>
              <a:gs pos="100000">
                <a:srgbClr val="536768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segmento ha de ser lo bastante grande para que resulte rentable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Mercado Meta u Objetiv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3581280" y="4038480"/>
            <a:ext cx="2319480" cy="21830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685800" y="2057400"/>
            <a:ext cx="7467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 homogéneo, de comprador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uales y/o potenciales</a:t>
            </a:r>
            <a:r>
              <a:rPr b="0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características, hábitos, necesida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deseos relativamente similares, al cual dirigire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os nuestros esfuerzos de marketing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6600"/>
                </a:solidFill>
                <a:latin typeface="Times New Roman"/>
              </a:rPr>
              <a:t>Creación y Captura de Valor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838080" y="1893960"/>
            <a:ext cx="7467840" cy="465912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6600"/>
                </a:solidFill>
                <a:latin typeface="Times New Roman"/>
              </a:rPr>
              <a:t>Evaluación y Origen del Valor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762120" y="1744560"/>
            <a:ext cx="7524720" cy="4853160"/>
          </a:xfrm>
          <a:prstGeom prst="rect">
            <a:avLst/>
          </a:prstGeom>
          <a:ln cap="sq"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/>
          </p:nvPr>
        </p:nvSpPr>
        <p:spPr>
          <a:xfrm>
            <a:off x="304920" y="1218960"/>
            <a:ext cx="8534160" cy="10666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ERA DE LEALT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No todas las personas valen lo mismo para la empresa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990720" y="6248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715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133720" y="57150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27672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419720" y="4800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56272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27672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4419720" y="48006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5562720" y="4343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629400" y="3962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6629400" y="3962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7696080" y="35809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3581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9320" y="4876920"/>
            <a:ext cx="128412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ospecho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47920" y="5257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054600" y="3657600"/>
            <a:ext cx="122148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Interes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986480" y="4267080"/>
            <a:ext cx="108432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Pot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590920" y="4800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33920" y="41911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273920" y="3124080"/>
            <a:ext cx="133596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876920" y="3657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569200" y="5867280"/>
            <a:ext cx="1335960" cy="64260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r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Satisfech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095880" y="449532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711480" y="4876920"/>
            <a:ext cx="1337400" cy="64260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incid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7162920" y="41907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245360" y="4267080"/>
            <a:ext cx="1666800" cy="36828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Recomend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822960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"/>
          <p:cNvGraphicFramePr/>
          <p:nvPr/>
        </p:nvGraphicFramePr>
        <p:xfrm>
          <a:off x="2590920" y="2362320"/>
          <a:ext cx="4114800" cy="312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2590920" y="2362320"/>
                    <a:ext cx="4114800" cy="3124080"/>
                  </a:xfrm>
                  <a:prstGeom prst="rect">
                    <a:avLst/>
                  </a:prstGeom>
                  <a:ln w="15840">
                    <a:solidFill>
                      <a:srgbClr val="cc66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05" name=""/>
          <p:cNvSpPr/>
          <p:nvPr/>
        </p:nvSpPr>
        <p:spPr>
          <a:xfrm>
            <a:off x="4572000" y="23623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590920" y="396252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513160" y="2666880"/>
            <a:ext cx="204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tener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vertir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comend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029560" y="31240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idel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971440" y="4267080"/>
            <a:ext cx="129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umen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75480" y="4267080"/>
            <a:ext cx="15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Mantener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Bajo 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71160" y="3648240"/>
            <a:ext cx="104940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816360" y="6095880"/>
            <a:ext cx="1623960" cy="520560"/>
          </a:xfrm>
          <a:prstGeom prst="rect">
            <a:avLst/>
          </a:prstGeom>
          <a:solidFill>
            <a:srgbClr val="ffcccc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Fide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64120" y="55278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260680" y="5562720"/>
            <a:ext cx="97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449720" y="457200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373760" y="2819520"/>
            <a:ext cx="10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144080" y="1219320"/>
            <a:ext cx="68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cc6600"/>
                </a:solidFill>
                <a:latin typeface="Times New Roman"/>
              </a:rPr>
              <a:t>Segmentación por Valor y Fide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685800" y="2680920"/>
            <a:ext cx="7772400" cy="2119320"/>
          </a:xfrm>
          <a:prstGeom prst="rect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o es su sólo su compra instantánea. Sino que todas las compras que realiza a través de su vida del producto y los nuevos clientes que genera (recomendación).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"/>
          <p:cNvSpPr/>
          <p:nvPr/>
        </p:nvSpPr>
        <p:spPr>
          <a:xfrm>
            <a:off x="1221120" y="1066680"/>
            <a:ext cx="72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cc6600"/>
                </a:solidFill>
                <a:latin typeface="Times New Roman"/>
              </a:rPr>
              <a:t>¿ Cuál es el Valor de un Cliente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4788000" y="3789360"/>
            <a:ext cx="3744720" cy="2840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292720" y="4708440"/>
            <a:ext cx="2514600" cy="1600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00720" y="5589720"/>
            <a:ext cx="457200" cy="30456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381640" y="4070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cr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35640" y="5078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mb. Competi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2280" y="76320"/>
            <a:ext cx="4419720" cy="65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        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MACROAMB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Leyes y polít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Econom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Tecnolog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Demografí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Valores soc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         </a:t>
            </a:r>
            <a:r>
              <a:rPr b="0" i="1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MBIENTE COMPETI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Competi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Provee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Compr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Sustitu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- Nuevos entra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105520" y="836640"/>
            <a:ext cx="342900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omun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mplead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soc. Grem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soc. Comerc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obiern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Grupos polític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00680" y="1752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51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¿ Cuáles son los Activos más Importantes para la institución 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1066680" y="3276720"/>
            <a:ext cx="1185840" cy="15192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838080" y="3352680"/>
            <a:ext cx="1600200" cy="1371600"/>
          </a:xfrm>
          <a:prstGeom prst="line">
            <a:avLst/>
          </a:prstGeom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914400" y="3200040"/>
            <a:ext cx="1523880" cy="1600200"/>
          </a:xfrm>
          <a:prstGeom prst="line">
            <a:avLst/>
          </a:prstGeom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629400" y="3505320"/>
            <a:ext cx="1436760" cy="112212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6324480" y="3429000"/>
            <a:ext cx="1905120" cy="129528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6248520" y="3352680"/>
            <a:ext cx="1904760" cy="137160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2743200" y="5105520"/>
            <a:ext cx="358128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LOS CLIENTE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3"/>
          <a:stretch/>
        </p:blipFill>
        <p:spPr>
          <a:xfrm>
            <a:off x="3581280" y="3276720"/>
            <a:ext cx="1219320" cy="15746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048120" y="3124080"/>
            <a:ext cx="2209680" cy="1905120"/>
          </a:xfrm>
          <a:prstGeom prst="ellipse">
            <a:avLst/>
          </a:prstGeom>
          <a:noFill/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Investigación de Mercad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0880" y="2209680"/>
            <a:ext cx="82296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“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 función que enlaza al consumidor con el comercializad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                      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vés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 la información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stá información se utiliza para identificar y definir l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portunidades y problemas del marketing, así como también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fecciona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y evaluar las acciones del marketing; monitorear el desempeño y mejo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a comprensión del marketing como un proceso</a:t>
            </a:r>
            <a:r>
              <a:rPr b="0" lang="es-ES_tradnl" sz="2000" spc="-1" strike="noStrike" u="sng">
                <a:solidFill>
                  <a:srgbClr val="800080"/>
                </a:solidFill>
                <a:uFillTx/>
                <a:latin typeface="Tahoma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1"/>
          <a:stretch/>
        </p:blipFill>
        <p:spPr>
          <a:xfrm>
            <a:off x="3581280" y="4495680"/>
            <a:ext cx="1973520" cy="182412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609480" y="3048120"/>
            <a:ext cx="533520" cy="380880"/>
          </a:xfrm>
          <a:prstGeom prst="rightArrow">
            <a:avLst>
              <a:gd name="adj1" fmla="val 50000"/>
              <a:gd name="adj2" fmla="val 3501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851688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6600"/>
                </a:solidFill>
                <a:latin typeface="Times New Roman"/>
              </a:rPr>
              <a:t>Pasos de la Investigación de Mercado</a:t>
            </a: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447920" y="2133720"/>
            <a:ext cx="236196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ecer la 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 información (recono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 definir el proble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1447920" y="3505320"/>
            <a:ext cx="2361960" cy="823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finición de Obje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 la Investigación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cesidades de in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447920" y="4572000"/>
            <a:ext cx="2361960" cy="747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pecificar el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 la Investigación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uentes de 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447920" y="5486400"/>
            <a:ext cx="2361960" cy="838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arrollar el Métod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colección de 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715000" y="2133720"/>
            <a:ext cx="1905120" cy="1066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Diseño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proced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Muest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791320" y="3809880"/>
            <a:ext cx="1904760" cy="5716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cedimient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791320" y="4724280"/>
            <a:ext cx="1904760" cy="443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álisis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91320" y="5638680"/>
            <a:ext cx="1904760" cy="541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entación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5146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59092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90920" y="525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6294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629400" y="4343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29400" y="51055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3886200" y="2743200"/>
            <a:ext cx="1752480" cy="3124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Conducta del Consumido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0" y="3635280"/>
            <a:ext cx="91440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1360" rIns="90000" tIns="4680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838080" y="1905120"/>
            <a:ext cx="74678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el conjunto de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ísicas, procesos mentales y emocionales de dec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los individuos realizan cuan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úan, seleccionan, adquieren y utilizan bienes y servici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3962520" y="3809880"/>
            <a:ext cx="1162080" cy="19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Variables que afectan la Conducta del Consumidor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144080" y="5029200"/>
            <a:ext cx="1522440" cy="83808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fec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6019920" y="5105520"/>
            <a:ext cx="1676160" cy="83808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Ra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276720" y="2743200"/>
            <a:ext cx="1981080" cy="838080"/>
          </a:xfrm>
          <a:prstGeom prst="rect">
            <a:avLst/>
          </a:prstGeom>
          <a:gradFill rotWithShape="0">
            <a:gsLst>
              <a:gs pos="0">
                <a:srgbClr val="5e6c75"/>
              </a:gs>
              <a:gs pos="100000">
                <a:srgbClr val="cce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nduc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1828800" y="3124080"/>
            <a:ext cx="137160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743200" y="57913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34120" y="3124080"/>
            <a:ext cx="1295280" cy="1905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2819520" y="3962520"/>
            <a:ext cx="3124080" cy="142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Posicionamien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762120" y="1905120"/>
            <a:ext cx="76960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ategias y acciones de una compañía, cuya fi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istinguirla favorablemente de los competidores en la 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algunos grupos de consumidores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.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838080" y="4038480"/>
            <a:ext cx="876600" cy="76212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4876920" y="5334120"/>
            <a:ext cx="1057320" cy="409320"/>
          </a:xfrm>
          <a:prstGeom prst="rect">
            <a:avLst/>
          </a:prstGeom>
          <a:ln w="0">
            <a:noFill/>
          </a:ln>
        </p:spPr>
      </p:pic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133720" y="4876920"/>
            <a:ext cx="2057400" cy="68580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4"/>
          <a:stretch/>
        </p:blipFill>
        <p:spPr>
          <a:xfrm>
            <a:off x="3733920" y="3886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68" name="" descr=""/>
          <p:cNvPicPr/>
          <p:nvPr/>
        </p:nvPicPr>
        <p:blipFill>
          <a:blip r:embed="rId5"/>
          <a:stretch/>
        </p:blipFill>
        <p:spPr>
          <a:xfrm>
            <a:off x="5867280" y="3886200"/>
            <a:ext cx="676440" cy="914400"/>
          </a:xfrm>
          <a:prstGeom prst="rect">
            <a:avLst/>
          </a:prstGeom>
          <a:ln w="0">
            <a:noFill/>
          </a:ln>
        </p:spPr>
      </p:pic>
      <p:pic>
        <p:nvPicPr>
          <p:cNvPr id="569" name="" descr=""/>
          <p:cNvPicPr/>
          <p:nvPr/>
        </p:nvPicPr>
        <p:blipFill>
          <a:blip r:embed="rId6"/>
          <a:stretch/>
        </p:blipFill>
        <p:spPr>
          <a:xfrm>
            <a:off x="7391520" y="4114800"/>
            <a:ext cx="799920" cy="371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0" name=""/>
          <p:cNvGraphicFramePr/>
          <p:nvPr/>
        </p:nvGraphicFramePr>
        <p:xfrm>
          <a:off x="6781680" y="5181480"/>
          <a:ext cx="1625760" cy="533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81680" y="5181480"/>
                    <a:ext cx="162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Estrategias de Posicionamien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3886200" y="3352680"/>
            <a:ext cx="1474920" cy="152244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1066680" y="2819520"/>
            <a:ext cx="1600200" cy="761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Atribu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Benefi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038480" y="5257800"/>
            <a:ext cx="160020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Asociado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una Id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990720" y="4343400"/>
            <a:ext cx="160020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477120" y="4572000"/>
            <a:ext cx="160020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Un compet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248520" y="2743200"/>
            <a:ext cx="1600200" cy="7621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Categorí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Pr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86200" y="2133720"/>
            <a:ext cx="1600200" cy="7617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Uso d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Georgia"/>
              </a:rPr>
              <a:t>Pr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Mapa de Posicionamien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3520" y="1905120"/>
            <a:ext cx="36576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 permite visualiz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percepción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 existe  ent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consumidore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cerca de  nuestro product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iéndonos realizar l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ificaciones pertinent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nuestra estrategia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781680" y="2057400"/>
            <a:ext cx="0" cy="4191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952880" y="3962520"/>
            <a:ext cx="38862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172200" y="3276720"/>
            <a:ext cx="533520" cy="60948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38880" y="4419720"/>
            <a:ext cx="838440" cy="91440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315200" y="2286000"/>
            <a:ext cx="533520" cy="53352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019920" y="5029200"/>
            <a:ext cx="914400" cy="91440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286000"/>
            <a:ext cx="380880" cy="457200"/>
          </a:xfrm>
          <a:prstGeom prst="ellipse">
            <a:avLst/>
          </a:prstGeom>
          <a:gradFill rotWithShape="0">
            <a:gsLst>
              <a:gs pos="0">
                <a:srgbClr val="cc6600"/>
              </a:gs>
              <a:gs pos="100000">
                <a:srgbClr val="5e2f00"/>
              </a:gs>
            </a:gsLst>
            <a:lin ang="54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4648320" y="4191120"/>
            <a:ext cx="1523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629400" y="6248520"/>
            <a:ext cx="1447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"/>
          <p:cNvSpPr/>
          <p:nvPr/>
        </p:nvSpPr>
        <p:spPr>
          <a:xfrm>
            <a:off x="914400" y="1295280"/>
            <a:ext cx="7391520" cy="53341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5238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66"/>
                </a:solidFill>
                <a:latin typeface="Book Antiqua"/>
              </a:rPr>
              <a:t>Funciones de la Administ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4343400" y="1447920"/>
            <a:ext cx="1523880" cy="14475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Qué h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267080" y="4724280"/>
            <a:ext cx="1524240" cy="1447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H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477120" y="2971800"/>
            <a:ext cx="152388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gan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Cómo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133720" y="2971800"/>
            <a:ext cx="1523880" cy="144792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Verifi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3885120" y="3352680"/>
            <a:ext cx="2518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Times New Roman"/>
              </a:rPr>
              <a:t>PROCESO  DE 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Times New Roman"/>
              </a:rPr>
              <a:t>ADMINISTRA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6019920" y="1905120"/>
            <a:ext cx="1143000" cy="83808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5943600" y="4495680"/>
            <a:ext cx="990720" cy="99072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H="1" flipV="1">
            <a:off x="3123720" y="4572000"/>
            <a:ext cx="1219320" cy="91440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3276720" y="1980720"/>
            <a:ext cx="990360" cy="838440"/>
          </a:xfrm>
          <a:prstGeom prst="line">
            <a:avLst/>
          </a:prstGeom>
          <a:ln w="76320">
            <a:solidFill>
              <a:srgbClr val="00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867280" y="2514600"/>
            <a:ext cx="76212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5866920" y="4267080"/>
            <a:ext cx="685800" cy="60984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581280" y="4343400"/>
            <a:ext cx="83844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flipV="1">
            <a:off x="3657600" y="2514600"/>
            <a:ext cx="685800" cy="533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537960" y="191916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ord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210400" y="198108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ord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7480" y="50292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ord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210400" y="502920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ordin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33920" y="373392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2895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Planificación Estratégic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2147400"/>
            <a:ext cx="7772400" cy="21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ceso administrativo de desarrollar  y mantener la relación entre los recursos y los objetivos de la organización, ante un medio ambiente cambiante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decir tiene como objetivo formular y reformular los negocios y productos de una empres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3276720" y="4267080"/>
            <a:ext cx="26668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a4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400" spc="-1" strike="noStrike">
                <a:solidFill>
                  <a:srgbClr val="000000"/>
                </a:solidFill>
                <a:latin typeface="Tahoma"/>
              </a:rPr>
              <a:t>Es el estado de privación que siente una persona.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*  Son abundantes y complicada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*  Forman parte de la naturaleza 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    humana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* Las personas buscan cosas que 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3000" spc="-1" strike="noStrike">
                <a:solidFill>
                  <a:srgbClr val="000000"/>
                </a:solidFill>
                <a:latin typeface="Tahoma"/>
              </a:rPr>
              <a:t>    satisfagan sus necesidades.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3048120" y="1143000"/>
            <a:ext cx="34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NECES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066680" y="1436760"/>
            <a:ext cx="7162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SO DE PLANIFICACION ESTRATEG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lecimiento de misión, visión y m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Oportunidades y Amenazas ex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nálisis de Fortalezas y Debilidade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rmulación de estrateg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lementación de estrateg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trol Estraté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685440" y="2930040"/>
            <a:ext cx="7759800" cy="2514600"/>
          </a:xfrm>
          <a:prstGeom prst="rect">
            <a:avLst/>
          </a:prstGeom>
          <a:solidFill>
            <a:srgbClr val="ccffff"/>
          </a:solidFill>
          <a:ln w="12600">
            <a:solidFill>
              <a:srgbClr val="ff33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S EL ENUNCIADO DE SU RAZON DE EXISTIR, IDENTIFICANDO LA FUNCION QUE CUMPLE EN LA SOCIEDAD Y, SU CARÁCTER Y FILOSOFIA BASICA.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1708560" y="1644480"/>
            <a:ext cx="51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MISION INSTITU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solidFill>
            <a:srgbClr val="cc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LA PROYECCION QUE SE DESEA DAR A LA INSTITUCION Y COMO SE ESPERA QUE LOS CLIENTES LA VEAN, DESTACANDOSE SUS ATRIBUTOS Y CARACTERISTICAS MAS RELEVANT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ólidez financie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dez en la Atención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>
            <a:off x="1962720" y="1219320"/>
            <a:ext cx="50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600" spc="-1" strike="noStrike">
                <a:solidFill>
                  <a:srgbClr val="000000"/>
                </a:solidFill>
                <a:latin typeface="Times New Roman"/>
              </a:rPr>
              <a:t>VISION INSTITUCION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/>
          </p:nvPr>
        </p:nvSpPr>
        <p:spPr>
          <a:xfrm>
            <a:off x="1383840" y="2636640"/>
            <a:ext cx="6140520" cy="23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ff33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buSzPct val="10289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 LOS FINES QUE TRATA DE ALCANZAR LA ORGANIZACIÓN POR MEDIO DE SU EXISTENCIA Y ACTIV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1107720" y="1111320"/>
            <a:ext cx="69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OBJETIVOS INSTITUCIONA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/>
          </p:nvPr>
        </p:nvSpPr>
        <p:spPr>
          <a:xfrm>
            <a:off x="615600" y="2292120"/>
            <a:ext cx="8070840" cy="2889000"/>
          </a:xfrm>
          <a:prstGeom prst="rect">
            <a:avLst/>
          </a:prstGeom>
          <a:solidFill>
            <a:srgbClr val="ccffff"/>
          </a:solidFill>
          <a:ln w="12600">
            <a:solidFill>
              <a:srgbClr val="ff33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SON LOS FUNDAMENTOS BASICOS SOB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LOS CUALES SE CONSTRUYE LA EMPRE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O ES Y SER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O REALIZARA SU TRABAJ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O SERA SU RECURSO HUMA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O SE RELACIONARA CON SU ENTORN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>
            <a:off x="318960" y="1162080"/>
            <a:ext cx="857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PRINCIPIOS Y VALORES INSTITU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46240" y="930240"/>
            <a:ext cx="77724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cc6600"/>
                </a:solidFill>
                <a:latin typeface="Times New Roman"/>
              </a:rPr>
              <a:t>FOD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987640" y="1681200"/>
            <a:ext cx="1440000" cy="1440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O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6012000" y="1681200"/>
            <a:ext cx="1439640" cy="1440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987640" y="3213000"/>
            <a:ext cx="1440000" cy="1440000"/>
          </a:xfrm>
          <a:prstGeom prst="rect">
            <a:avLst/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498920" y="3192480"/>
            <a:ext cx="1440000" cy="1440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012000" y="3192480"/>
            <a:ext cx="1439640" cy="1440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-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987640" y="4705200"/>
            <a:ext cx="1440000" cy="1440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4498920" y="4705200"/>
            <a:ext cx="1440000" cy="1440000"/>
          </a:xfrm>
          <a:prstGeom prst="rect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6012000" y="4705200"/>
            <a:ext cx="1439640" cy="14400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498920" y="1681200"/>
            <a:ext cx="1440000" cy="1440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500720" y="170028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6013440" y="177336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060720" y="328464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060720" y="486900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527440" y="1314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4091400" y="13143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ortale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 rot="5400000">
            <a:off x="5203080" y="-264240"/>
            <a:ext cx="503280" cy="2952720"/>
          </a:xfrm>
          <a:custGeom>
            <a:avLst/>
            <a:gdLst>
              <a:gd name="textAreaLeft" fmla="*/ 321480 w 503280"/>
              <a:gd name="textAreaRight" fmla="*/ 503640 w 5032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82200" y="520848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enaz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87280" y="3429000"/>
            <a:ext cx="432000" cy="2376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198360" y="4300560"/>
            <a:ext cx="11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náli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t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335240" y="362412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148360" y="292428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708360" y="3860640"/>
            <a:ext cx="10796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24360" y="2924280"/>
            <a:ext cx="0" cy="2376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780000" y="5373720"/>
            <a:ext cx="1079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659640" y="292428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780000" y="4292640"/>
            <a:ext cx="280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7236000" y="2924280"/>
            <a:ext cx="0" cy="2449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3851280" y="5805360"/>
            <a:ext cx="2665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4400" spc="-1" strike="noStrike">
                <a:solidFill>
                  <a:srgbClr val="cc6600"/>
                </a:solidFill>
                <a:latin typeface="Times New Roman"/>
              </a:rPr>
              <a:t>Acciones Estratégicas FOD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rategia F-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ómo dado mis fortalezas puede aprovechar las oportunidades que me ofrece el entorn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rategias D-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ómo dado las oportunidades que me ofrece el entorno, puedo minimizar mis debilidad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rategias F-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SzPct val="10785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ómo dado mis fortalezas puedo minimizar el impacto de las amenazas extern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strategias D-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SzPct val="10785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Cómo dado mis debilidades hago que el impacto de las amenazas, sea mínimo para la empres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373040" y="-7668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cc6600"/>
                </a:solidFill>
                <a:latin typeface="Times New Roman"/>
              </a:rPr>
              <a:t>PLANIFICACION Y CONTROL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33520" y="1484280"/>
            <a:ext cx="3429000" cy="441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066680" y="20462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Comic Sans MS"/>
              </a:rPr>
              <a:t>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900000" y="3141720"/>
            <a:ext cx="28800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Establece metas deseadas y planes para cumplirlas que deben verifica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CL" sz="2000" spc="-1" strike="noStrike">
                <a:solidFill>
                  <a:srgbClr val="ff0000"/>
                </a:solidFill>
                <a:latin typeface="Comic Sans MS"/>
              </a:rPr>
              <a:t>Necesita información precisa y oport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4216320" y="1547640"/>
            <a:ext cx="4648320" cy="4419360"/>
            <a:chOff x="4216320" y="1547640"/>
            <a:chExt cx="4648320" cy="4419360"/>
          </a:xfrm>
        </p:grpSpPr>
        <p:grpSp>
          <p:nvGrpSpPr>
            <p:cNvPr id="660" name=""/>
            <p:cNvGrpSpPr/>
            <p:nvPr/>
          </p:nvGrpSpPr>
          <p:grpSpPr>
            <a:xfrm>
              <a:off x="4216320" y="1547640"/>
              <a:ext cx="4648320" cy="4419360"/>
              <a:chOff x="4216320" y="1547640"/>
              <a:chExt cx="4648320" cy="4419360"/>
            </a:xfrm>
          </p:grpSpPr>
          <p:sp>
            <p:nvSpPr>
              <p:cNvPr id="661" name=""/>
              <p:cNvSpPr/>
              <p:nvPr/>
            </p:nvSpPr>
            <p:spPr>
              <a:xfrm>
                <a:off x="5435640" y="1547640"/>
                <a:ext cx="3429000" cy="441936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216320" y="2479320"/>
                <a:ext cx="990720" cy="381240"/>
              </a:xfrm>
              <a:prstGeom prst="leftRightArrow">
                <a:avLst>
                  <a:gd name="adj1" fmla="val 50000"/>
                  <a:gd name="adj2" fmla="val 51733"/>
                </a:avLst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"/>
            <p:cNvSpPr/>
            <p:nvPr/>
          </p:nvSpPr>
          <p:spPr>
            <a:xfrm>
              <a:off x="5968800" y="2033280"/>
              <a:ext cx="151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0000"/>
                  </a:solidFill>
                  <a:latin typeface="Comic Sans MS"/>
                </a:rPr>
                <a:t>  </a:t>
              </a:r>
              <a:r>
                <a:rPr b="1" lang="es-CL" sz="2400" spc="-1" strike="noStrike">
                  <a:solidFill>
                    <a:srgbClr val="ff0000"/>
                  </a:solidFill>
                  <a:latin typeface="Comic Sans MS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587920" y="3128760"/>
              <a:ext cx="3046320" cy="23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00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s-CL" sz="2000" spc="-1" strike="noStrike">
                  <a:solidFill>
                    <a:srgbClr val="ff0000"/>
                  </a:solidFill>
                  <a:latin typeface="Comic Sans MS"/>
                </a:rPr>
                <a:t>Mide resultados reales, ayuda a verificar metas y reorientar plan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ff0000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0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r>
                <a:rPr b="0" lang="es-CL" sz="2000" spc="-1" strike="noStrike">
                  <a:solidFill>
                    <a:srgbClr val="ff0000"/>
                  </a:solidFill>
                  <a:latin typeface="Comic Sans MS"/>
                </a:rPr>
                <a:t>Entregan información que apoya la planific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r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209320" y="151920"/>
            <a:ext cx="3961080" cy="6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cc6600"/>
                </a:solidFill>
                <a:latin typeface="Times New Roman"/>
              </a:rPr>
              <a:t>CONTROL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42920" y="2133720"/>
            <a:ext cx="7274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dición del desempeño y aplicación de medidas para corregir lo que se está haciendo de manera de cumplir los objetivos de la empresa y los planes establecidos para lograr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Son los mecanismos utilizados para verificar el cumplimiento de lo plane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609480" y="11970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¿CUÁL ES LA FUNCIÓN DEL LI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85800" y="27558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fluir sobre otros para alcanzar me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571680" y="3840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ear una 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609480" y="50594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r al tanto de los camb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ebf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57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n la forma que adoptan las necesidades humanas de acuerdo a la cultura y la personalidad individu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* Un hombre en un día muy calurosa compra en Santiago una bebida (en Brasil agua de coco) bien helada (producto-deseo) pero lo que busca realmente es satisfacer su necesidad (Sed).</a:t>
            </a:r>
            <a:r>
              <a:rPr b="1" lang="es-ES_tradnl" sz="3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"/>
          <p:cNvSpPr/>
          <p:nvPr/>
        </p:nvSpPr>
        <p:spPr>
          <a:xfrm>
            <a:off x="3393360" y="990720"/>
            <a:ext cx="235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DESE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/>
          <p:nvPr/>
        </p:nvSpPr>
        <p:spPr>
          <a:xfrm>
            <a:off x="684360" y="112536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RACTERISTICAS DE LOS LID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042920" y="2276640"/>
            <a:ext cx="5334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mpu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tivación de lideraz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g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fianza en sí m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ocimiento del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lidad 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"/>
          <p:cNvSpPr/>
          <p:nvPr/>
        </p:nvSpPr>
        <p:spPr>
          <a:xfrm>
            <a:off x="611280" y="9079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IDERAZGO v/s ADMINISTR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85800" y="1754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IDE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71680" y="2287440"/>
            <a:ext cx="36194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rquestar el cambio con efe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lecer el rumbo/visión para la empre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spirar a la gente a realizar su visión ( -&gt; motivació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876920" y="175428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MINIS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762440" y="2287440"/>
            <a:ext cx="361944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ear y presupuestar rut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r a la organización y dotarla de gente ca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ervisar sus activ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foque de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09480" y="519912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mbos, administración de procesos y liderazgo efectivo son importantes y vitales para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684360" y="105264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RECCION Y SEGU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85800" y="165744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IDERAZGO ESTRATE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1680" y="2190600"/>
            <a:ext cx="36194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a propósito y significado a las organiz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mbiente de negocios exige pensamiento estratég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724280" y="166356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IDERAZGO DE SUPER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762440" y="2190600"/>
            <a:ext cx="3619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ortamiento que ofrece guía, apoyo y retroalimentación de las actividades cotidianas de los miembros de la unidades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952560" y="4705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gu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" descr="Filename: BD19908_.wmf&#13;Keywords: businessmen, businesspeople, gestures ...&#13;File Size: 38 KB"/>
          <p:cNvPicPr/>
          <p:nvPr/>
        </p:nvPicPr>
        <p:blipFill>
          <a:blip r:embed="rId1"/>
          <a:stretch/>
        </p:blipFill>
        <p:spPr>
          <a:xfrm>
            <a:off x="2971800" y="4019400"/>
            <a:ext cx="2193840" cy="219420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5334120" y="43243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íd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" y="5222880"/>
            <a:ext cx="224784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nsamiento independ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mpromi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334120" y="4781520"/>
            <a:ext cx="312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der “lograr que ocurran cosas a pesar de la resistenci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"/>
          <p:cNvSpPr/>
          <p:nvPr/>
        </p:nvSpPr>
        <p:spPr>
          <a:xfrm>
            <a:off x="3657600" y="3124080"/>
            <a:ext cx="1295280" cy="121932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981080" y="1600200"/>
            <a:ext cx="4800600" cy="464832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352680" y="2971800"/>
            <a:ext cx="1981440" cy="175248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>
            <a:off x="2590560" y="4495680"/>
            <a:ext cx="106668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29200" y="4419720"/>
            <a:ext cx="1143000" cy="1143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5105520" y="22860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 flipV="1">
            <a:off x="2743200" y="2209680"/>
            <a:ext cx="914400" cy="9144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505320" y="2286000"/>
            <a:ext cx="1828800" cy="609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505320" y="5410080"/>
            <a:ext cx="1904760" cy="6098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209680" y="4114800"/>
            <a:ext cx="1143000" cy="609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l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410080" y="3124080"/>
            <a:ext cx="1219320" cy="685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505320" y="3581280"/>
            <a:ext cx="1676160" cy="533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1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838080" cy="82404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2286000" y="2590920"/>
            <a:ext cx="1112760" cy="135252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3962520" y="4572000"/>
            <a:ext cx="1137960" cy="100476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>
            <a:off x="3962520" y="1676520"/>
            <a:ext cx="812520" cy="7570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1482480" y="1036080"/>
            <a:ext cx="656784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MEZCLA COMERCIAL(MARKETING M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Ciclo de Vida del Produc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066680" y="2286000"/>
            <a:ext cx="0" cy="3276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1066680" y="5562720"/>
            <a:ext cx="670572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066680" y="2819520"/>
            <a:ext cx="6629400" cy="1676160"/>
          </a:xfrm>
          <a:custGeom>
            <a:avLst/>
            <a:gdLst/>
            <a:ahLst/>
            <a:rect l="l" t="t" r="r" b="b"/>
            <a:pathLst>
              <a:path w="6480" h="2040">
                <a:moveTo>
                  <a:pt x="0" y="2040"/>
                </a:moveTo>
                <a:cubicBezTo>
                  <a:pt x="210" y="2040"/>
                  <a:pt x="420" y="2040"/>
                  <a:pt x="720" y="1860"/>
                </a:cubicBezTo>
                <a:cubicBezTo>
                  <a:pt x="1020" y="1680"/>
                  <a:pt x="1500" y="1230"/>
                  <a:pt x="1800" y="960"/>
                </a:cubicBezTo>
                <a:cubicBezTo>
                  <a:pt x="2100" y="690"/>
                  <a:pt x="2310" y="390"/>
                  <a:pt x="2520" y="240"/>
                </a:cubicBezTo>
                <a:cubicBezTo>
                  <a:pt x="2730" y="90"/>
                  <a:pt x="2730" y="0"/>
                  <a:pt x="3060" y="60"/>
                </a:cubicBezTo>
                <a:cubicBezTo>
                  <a:pt x="3390" y="120"/>
                  <a:pt x="4110" y="450"/>
                  <a:pt x="4500" y="600"/>
                </a:cubicBezTo>
                <a:cubicBezTo>
                  <a:pt x="4890" y="750"/>
                  <a:pt x="5070" y="870"/>
                  <a:pt x="5400" y="960"/>
                </a:cubicBezTo>
                <a:cubicBezTo>
                  <a:pt x="5730" y="1050"/>
                  <a:pt x="6300" y="1110"/>
                  <a:pt x="6480" y="114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90920" y="2133720"/>
            <a:ext cx="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038480" y="2133720"/>
            <a:ext cx="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15000" y="2133720"/>
            <a:ext cx="0" cy="3429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371600" y="20574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819520" y="20574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267080" y="20574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Madur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95880" y="2057400"/>
            <a:ext cx="1143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Decl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705720" y="57150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6019920" y="3733920"/>
            <a:ext cx="2317680" cy="28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Produc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80880" y="214776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 aquello que se recibe a cambio de algo, puede ser tangible o intangible y comprende servicios generales o beneficios funcionales sociales y sicológicos. Puede ser una idea, un servicio o un bien, o cualquier combinación de estos tres element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1143000" cy="87948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5105520" y="4572000"/>
            <a:ext cx="1260360" cy="152100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3"/>
          <a:stretch/>
        </p:blipFill>
        <p:spPr>
          <a:xfrm>
            <a:off x="6781680" y="4419720"/>
            <a:ext cx="1371600" cy="118404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533520" y="5486400"/>
            <a:ext cx="2971800" cy="762120"/>
          </a:xfrm>
          <a:prstGeom prst="rect">
            <a:avLst/>
          </a:prstGeom>
          <a:solidFill>
            <a:srgbClr val="3399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ar hasta que duel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adre Hur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bjetivos de la Variable Produc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3520" y="2286000"/>
            <a:ext cx="3352680" cy="1295280"/>
          </a:xfrm>
          <a:prstGeom prst="rect">
            <a:avLst/>
          </a:prstGeom>
          <a:gradFill rotWithShape="0">
            <a:gsLst>
              <a:gs pos="0">
                <a:srgbClr val="536768"/>
              </a:gs>
              <a:gs pos="50000">
                <a:srgbClr val="b5e0e3"/>
              </a:gs>
              <a:gs pos="100000">
                <a:srgbClr val="536768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vestiga los dese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ducto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52880" y="2286000"/>
            <a:ext cx="3353040" cy="1295280"/>
          </a:xfrm>
          <a:prstGeom prst="rect">
            <a:avLst/>
          </a:prstGeom>
          <a:gradFill rotWithShape="0">
            <a:gsLst>
              <a:gs pos="0">
                <a:srgbClr val="536768"/>
              </a:gs>
              <a:gs pos="50000">
                <a:srgbClr val="b5e0e3"/>
              </a:gs>
              <a:gs pos="100000">
                <a:srgbClr val="536768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iseñar productos 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as caracterís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ese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533520" y="4800600"/>
            <a:ext cx="3352680" cy="1447920"/>
          </a:xfrm>
          <a:prstGeom prst="rect">
            <a:avLst/>
          </a:prstGeom>
          <a:gradFill rotWithShape="0">
            <a:gsLst>
              <a:gs pos="0">
                <a:srgbClr val="536768"/>
              </a:gs>
              <a:gs pos="50000">
                <a:srgbClr val="b5e0e3"/>
              </a:gs>
              <a:gs pos="100000">
                <a:srgbClr val="536768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rea o modifica env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 nombres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5029200" y="4876920"/>
            <a:ext cx="3352680" cy="1447560"/>
          </a:xfrm>
          <a:prstGeom prst="rect">
            <a:avLst/>
          </a:prstGeom>
          <a:gradFill rotWithShape="0">
            <a:gsLst>
              <a:gs pos="0">
                <a:srgbClr val="536768"/>
              </a:gs>
              <a:gs pos="50000">
                <a:srgbClr val="b5e0e3"/>
              </a:gs>
              <a:gs pos="100000">
                <a:srgbClr val="536768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rea servici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arantía y de rep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981080" y="3657600"/>
            <a:ext cx="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962520" y="2819520"/>
            <a:ext cx="8380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962520" y="5562720"/>
            <a:ext cx="914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400800" y="3657600"/>
            <a:ext cx="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6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3716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Componentes del Produc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Variable Producto está compuesto por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v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4648320" y="3352680"/>
            <a:ext cx="2946240" cy="2746440"/>
          </a:xfrm>
          <a:prstGeom prst="rect">
            <a:avLst/>
          </a:prstGeom>
          <a:ln w="0">
            <a:noFill/>
          </a:ln>
        </p:spPr>
      </p:pic>
      <p:sp>
        <p:nvSpPr>
          <p:cNvPr id="737" name=""/>
          <p:cNvSpPr/>
          <p:nvPr/>
        </p:nvSpPr>
        <p:spPr>
          <a:xfrm>
            <a:off x="3048120" y="5638680"/>
            <a:ext cx="1371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o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4038480" y="5105160"/>
            <a:ext cx="60984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019920" y="2743200"/>
            <a:ext cx="220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duct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elevi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flipH="1">
            <a:off x="5943600" y="2895480"/>
            <a:ext cx="45720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7696080" y="5029200"/>
            <a:ext cx="12193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nv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a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H="1" flipV="1">
            <a:off x="7162560" y="5105160"/>
            <a:ext cx="533160" cy="2286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" presetSubtype="1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685800" y="214776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 su vez el producto se subdivide e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uerp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Núcle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5181480" y="3352680"/>
            <a:ext cx="2946600" cy="274644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914400" y="5257800"/>
            <a:ext cx="3733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uerpo: televi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de metal, con pantalla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ristal y botones plásticos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3886200" y="4419720"/>
            <a:ext cx="1219320" cy="12189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562720" y="1219320"/>
            <a:ext cx="3200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Núcleo: Alta resol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onido stereo ,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H="1">
            <a:off x="6476760" y="22860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9" name=""/>
          <p:cNvGraphicFramePr/>
          <p:nvPr/>
        </p:nvGraphicFramePr>
        <p:xfrm>
          <a:off x="1368360" y="2376360"/>
          <a:ext cx="6475320" cy="26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8360" y="2376360"/>
                    <a:ext cx="6475320" cy="26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"/>
          <p:cNvSpPr/>
          <p:nvPr/>
        </p:nvSpPr>
        <p:spPr>
          <a:xfrm>
            <a:off x="1813680" y="5165640"/>
            <a:ext cx="192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851800" y="5241960"/>
            <a:ext cx="1216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S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817280" y="6080040"/>
            <a:ext cx="601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EXISTE SATISFACCION DEL DES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1751400" y="1295280"/>
            <a:ext cx="555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e5d093"/>
                </a:solidFill>
                <a:latin typeface="Times New Roman"/>
              </a:rPr>
              <a:t>PRODUCTO - DESE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5146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400" spc="-1" strike="noStrike">
                <a:solidFill>
                  <a:srgbClr val="000000"/>
                </a:solidFill>
                <a:latin typeface="Times New Roman"/>
              </a:rPr>
              <a:t>DEMANDAS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Son los deseos respaldados por el poder adquisitiv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* En el caso de Chile 15 millones de chilenos demandan 70 millones de Coca Colas en el añ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738680" y="5029200"/>
          <a:ext cx="3957480" cy="142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38680" y="5029200"/>
                    <a:ext cx="39574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Ciclo de Vida del Produc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“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 define como</a:t>
            </a:r>
            <a:r>
              <a:rPr b="0" i="1" lang="es-ES_tradnl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s-ES_trad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a demanda agregada durante un largo período para todas las marcas que comprenden la categoría genérica de productos”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657600" y="4267080"/>
            <a:ext cx="1930320" cy="18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Modelo </a:t>
            </a:r>
            <a:br>
              <a:rPr sz="4400"/>
            </a:b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Boston Consulting Group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2057400" y="2895480"/>
          <a:ext cx="4952880" cy="3124440"/>
        </p:xfrm>
        <a:graphic>
          <a:graphicData uri="http://schemas.openxmlformats.org/drawingml/2006/table">
            <a:tbl>
              <a:tblPr/>
              <a:tblGrid>
                <a:gridCol w="2514600"/>
                <a:gridCol w="2438280"/>
              </a:tblGrid>
              <a:tr h="157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0" name="" descr=""/>
          <p:cNvPicPr/>
          <p:nvPr/>
        </p:nvPicPr>
        <p:blipFill>
          <a:blip r:embed="rId1"/>
          <a:stretch/>
        </p:blipFill>
        <p:spPr>
          <a:xfrm>
            <a:off x="5105520" y="4724280"/>
            <a:ext cx="1600200" cy="1092240"/>
          </a:xfrm>
          <a:prstGeom prst="rect">
            <a:avLst/>
          </a:prstGeom>
          <a:ln w="0">
            <a:noFill/>
          </a:ln>
        </p:spPr>
      </p:pic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2514600" y="4648320"/>
            <a:ext cx="1816200" cy="106524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2590920" y="3048120"/>
            <a:ext cx="1269720" cy="12762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5105520" y="3079800"/>
            <a:ext cx="1218960" cy="119376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1981080" y="6172200"/>
            <a:ext cx="5105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articip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04920" y="2971800"/>
            <a:ext cx="16002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4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57080" y="1149480"/>
            <a:ext cx="684072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mpaqu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920000" cy="3949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El recipiente externo que contiene y describe el produ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Funciones del empaqu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rote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romo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7"/>
          <a:stretch/>
        </p:blipFill>
        <p:spPr>
          <a:xfrm>
            <a:off x="5626080" y="3562200"/>
            <a:ext cx="1841400" cy="165420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3207600" y="981000"/>
            <a:ext cx="197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EMPA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812880" y="1185480"/>
            <a:ext cx="67485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tiquetad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7848360" cy="3859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La presentación de información importante sobre un paque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La  información del contenido del producto está regulada legalme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Información útil – número telefónico gratuito y dirección del fabrican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Indicaciones y sugerencias de us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2" name=""/>
          <p:cNvSpPr/>
          <p:nvPr/>
        </p:nvSpPr>
        <p:spPr>
          <a:xfrm>
            <a:off x="2941560" y="1181160"/>
            <a:ext cx="250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ETIQUE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39800" y="1131480"/>
            <a:ext cx="687528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400" spc="-1" strike="noStrike">
                <a:solidFill>
                  <a:srgbClr val="ffffff"/>
                </a:solidFill>
                <a:latin typeface="Times New Roman"/>
              </a:rPr>
              <a:t>Calidad del product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11280" y="2060280"/>
            <a:ext cx="8137440" cy="388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l grado al cual un bien, servicio  o idea satisface las demandas y requerimientos de los consumi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n el mercado global, la calidad del producto es un medio fundamental para diferenciarlo y colocarlos sobre la competencia en la mente del consumid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5" name=""/>
          <p:cNvSpPr/>
          <p:nvPr/>
        </p:nvSpPr>
        <p:spPr>
          <a:xfrm>
            <a:off x="2012040" y="1109520"/>
            <a:ext cx="471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Arial"/>
              </a:rPr>
              <a:t>CALIDAD DEL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7280" y="981000"/>
            <a:ext cx="68943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Estrategias de distribució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10920" y="2153880"/>
            <a:ext cx="8064360" cy="403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ahoma"/>
              </a:rPr>
              <a:t>Canales de marketing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Minoristas (Wal-Mart, Sear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Mayoristas (intermediarios de alimentos para restaurantes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Tahoma"/>
              </a:rPr>
              <a:t>Minoristas-E (Amazon.com)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SzPct val="1266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Tahoma"/>
              </a:rPr>
              <a:t>Administración de la cadena de suministro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000000"/>
                </a:solidFill>
                <a:latin typeface="Tahoma"/>
              </a:rPr>
              <a:t>Asociaciones a largo plazo entre los miembros del canal de distribución que trabajan para reducir costos, desperdicios y movimientos innecesarios para satisfacer a los consumidore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0" dur="2000"/>
                                        <p:tgtEl>
                                          <p:spTgt spid="7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3" dur="2000"/>
                                        <p:tgtEl>
                                          <p:spTgt spid="7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7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7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4" dur="2000"/>
                                        <p:tgtEl>
                                          <p:spTgt spid="7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7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24000" y="792000"/>
            <a:ext cx="8496000" cy="12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nales para los productos de consumo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791320" y="6276960"/>
            <a:ext cx="183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1450800" y="2460600"/>
            <a:ext cx="6311880" cy="3454200"/>
            <a:chOff x="1450800" y="2460600"/>
            <a:chExt cx="6311880" cy="3454200"/>
          </a:xfrm>
        </p:grpSpPr>
        <p:sp>
          <p:nvSpPr>
            <p:cNvPr id="781" name=""/>
            <p:cNvSpPr/>
            <p:nvPr/>
          </p:nvSpPr>
          <p:spPr>
            <a:xfrm>
              <a:off x="1450800" y="2460600"/>
              <a:ext cx="1409400" cy="596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352920" y="3174840"/>
              <a:ext cx="1409760" cy="59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gente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ntermediari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352920" y="3889080"/>
              <a:ext cx="1409760" cy="596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yorista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ntermediari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352920" y="4603680"/>
              <a:ext cx="1409760" cy="596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inorista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ntermediari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352920" y="5317920"/>
              <a:ext cx="1409760" cy="596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umido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084120" y="2460600"/>
              <a:ext cx="1409760" cy="596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717800" y="2460600"/>
              <a:ext cx="1409760" cy="596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352920" y="2460600"/>
              <a:ext cx="1409760" cy="5968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oduc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717800" y="3889080"/>
              <a:ext cx="1409760" cy="5968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ayorista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ntermediari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084120" y="4603680"/>
              <a:ext cx="1409760" cy="596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inorista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ntermediari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717800" y="4603680"/>
              <a:ext cx="1409760" cy="596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inoristas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(Intermediario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450800" y="5317920"/>
              <a:ext cx="1409400" cy="596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umido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084120" y="5317920"/>
              <a:ext cx="1409760" cy="596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umido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717800" y="5317920"/>
              <a:ext cx="1409760" cy="5968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sumidor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149200" y="3057480"/>
              <a:ext cx="0" cy="220968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762000" y="3057480"/>
              <a:ext cx="0" cy="149868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762000" y="5203800"/>
              <a:ext cx="0" cy="12672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051320" y="5203800"/>
              <a:ext cx="0" cy="12672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425560" y="5216400"/>
              <a:ext cx="0" cy="12708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051320" y="4492440"/>
              <a:ext cx="0" cy="12708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25560" y="4492440"/>
              <a:ext cx="0" cy="12708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051320" y="3070080"/>
              <a:ext cx="0" cy="12708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051320" y="3781440"/>
              <a:ext cx="0" cy="12672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412960" y="3082680"/>
              <a:ext cx="0" cy="736560"/>
            </a:xfrm>
            <a:prstGeom prst="line">
              <a:avLst/>
            </a:prstGeom>
            <a:ln w="936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1971360" y="20844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66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477960" y="210348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cc9900"/>
                </a:solidFill>
                <a:latin typeface="Times New Roman"/>
              </a:rPr>
              <a:t>     </a:t>
            </a: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252760" y="21384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6937200" y="21574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4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nal para los Servicio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1163160" y="2147760"/>
            <a:ext cx="6807240" cy="4114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or lo general, los servicios  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se producen y consumen 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al mismo tiemp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1" name="" descr=""/>
          <p:cNvPicPr/>
          <p:nvPr/>
        </p:nvPicPr>
        <p:blipFill>
          <a:blip r:embed="rId2"/>
          <a:stretch/>
        </p:blipFill>
        <p:spPr>
          <a:xfrm>
            <a:off x="4516560" y="3276720"/>
            <a:ext cx="3240000" cy="29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Promoció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Se relaciona con las actividades utilizadas para informar a los individuos o grupos acerca de una organización y sus product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14" name="" descr=""/>
          <p:cNvPicPr/>
          <p:nvPr/>
        </p:nvPicPr>
        <p:blipFill>
          <a:blip r:embed="rId1"/>
          <a:stretch/>
        </p:blipFill>
        <p:spPr>
          <a:xfrm>
            <a:off x="2895480" y="3733920"/>
            <a:ext cx="3119400" cy="2754360"/>
          </a:xfrm>
          <a:prstGeom prst="rect">
            <a:avLst/>
          </a:prstGeom>
          <a:ln w="0">
            <a:noFill/>
          </a:ln>
        </p:spPr>
      </p:pic>
      <p:sp>
        <p:nvSpPr>
          <p:cNvPr id="815" name=""/>
          <p:cNvSpPr/>
          <p:nvPr/>
        </p:nvSpPr>
        <p:spPr>
          <a:xfrm>
            <a:off x="3657600" y="4267080"/>
            <a:ext cx="2057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Vote x m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bjetivos de la Variable Promoción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9480" y="2286000"/>
            <a:ext cx="3276720" cy="1219320"/>
          </a:xfrm>
          <a:prstGeom prst="rect">
            <a:avLst/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a a conocer 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Orga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486400" y="2286000"/>
            <a:ext cx="3200400" cy="1295280"/>
          </a:xfrm>
          <a:prstGeom prst="rect">
            <a:avLst/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forma acerca d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ductos nuevo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os ya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85800" y="4495680"/>
            <a:ext cx="3276720" cy="1447920"/>
          </a:xfrm>
          <a:prstGeom prst="rect">
            <a:avLst/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duca a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cerca de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 d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410080" y="4495680"/>
            <a:ext cx="3276720" cy="1447920"/>
          </a:xfrm>
          <a:prstGeom prst="rect">
            <a:avLst/>
          </a:pr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tiene el interés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público acer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1905120" y="3581280"/>
            <a:ext cx="0" cy="83844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038480" y="2819520"/>
            <a:ext cx="121932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086600" y="3657600"/>
            <a:ext cx="0" cy="76212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191120" y="5334120"/>
            <a:ext cx="10666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5000"/>
                            </p:stCondLst>
                            <p:childTnLst>
                              <p:par>
                                <p:cTn id="48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9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5000"/>
                            </p:stCondLst>
                            <p:childTnLst>
                              <p:par>
                                <p:cTn id="49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2884320" y="1371600"/>
            <a:ext cx="5791320" cy="4648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335400" y="1371600"/>
            <a:ext cx="4876560" cy="3886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875040" y="1371600"/>
            <a:ext cx="3809880" cy="3048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08560" y="1371600"/>
            <a:ext cx="2743200" cy="22096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865760" y="1371600"/>
            <a:ext cx="1904760" cy="1523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32240" y="541008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isiológ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32240" y="455616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32240" y="373392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332240" y="2971800"/>
            <a:ext cx="304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018040" y="213372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uto-rea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1773360"/>
            <a:ext cx="2663640" cy="3311280"/>
          </a:xfrm>
          <a:prstGeom prst="rightArrowCallout">
            <a:avLst>
              <a:gd name="adj1" fmla="val 31081"/>
              <a:gd name="adj2" fmla="val 31079"/>
              <a:gd name="adj3" fmla="val 16667"/>
              <a:gd name="adj4" fmla="val 66667"/>
            </a:avLst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irámi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l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ecesidad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Mas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Proceso Comunicacional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429000" y="2286000"/>
            <a:ext cx="1981080" cy="13716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dios de Comun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581280" y="3124080"/>
            <a:ext cx="1676520" cy="381240"/>
          </a:xfrm>
          <a:prstGeom prst="rect">
            <a:avLst/>
          </a:prstGeom>
          <a:gradFill rotWithShape="0">
            <a:gsLst>
              <a:gs pos="0">
                <a:srgbClr val="ff99cc"/>
              </a:gs>
              <a:gs pos="100000">
                <a:srgbClr val="75465e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nsa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5638680" y="2743200"/>
            <a:ext cx="175284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codificaci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620120" y="2743200"/>
            <a:ext cx="1295280" cy="53352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523880" y="2666880"/>
            <a:ext cx="1600200" cy="60984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100000">
                <a:srgbClr val="cc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ifi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28600" y="2666880"/>
            <a:ext cx="1035000" cy="60984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5e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i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867280" y="4495680"/>
            <a:ext cx="1371600" cy="655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pue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523880" y="4495680"/>
            <a:ext cx="1295640" cy="6559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75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124080" y="297180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410080" y="2971800"/>
            <a:ext cx="1526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7391520" y="3048120"/>
            <a:ext cx="1522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219320" y="2895480"/>
            <a:ext cx="2286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29600" y="3276720"/>
            <a:ext cx="0" cy="1600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7315200" y="4876920"/>
            <a:ext cx="9144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>
            <a:off x="2895120" y="4800600"/>
            <a:ext cx="297180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85800" y="4800600"/>
            <a:ext cx="8380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685800" y="3352680"/>
            <a:ext cx="0" cy="1447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Mezcla Promocional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“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 la combinación de métodos promocionales que se utilizan para promover un producto específico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45" name="" descr=""/>
          <p:cNvPicPr/>
          <p:nvPr/>
        </p:nvPicPr>
        <p:blipFill>
          <a:blip r:embed="rId1"/>
          <a:stretch/>
        </p:blipFill>
        <p:spPr>
          <a:xfrm>
            <a:off x="6705720" y="4343400"/>
            <a:ext cx="1523880" cy="133992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/>
          <p:cNvPicPr/>
          <p:nvPr/>
        </p:nvPicPr>
        <p:blipFill>
          <a:blip r:embed="rId2"/>
          <a:stretch/>
        </p:blipFill>
        <p:spPr>
          <a:xfrm>
            <a:off x="3352680" y="4267080"/>
            <a:ext cx="2743200" cy="1371600"/>
          </a:xfrm>
          <a:prstGeom prst="rect">
            <a:avLst/>
          </a:prstGeom>
          <a:ln w="0">
            <a:noFill/>
          </a:ln>
        </p:spPr>
      </p:pic>
      <p:pic>
        <p:nvPicPr>
          <p:cNvPr id="847" name="" descr=""/>
          <p:cNvPicPr/>
          <p:nvPr/>
        </p:nvPicPr>
        <p:blipFill>
          <a:blip r:embed="rId3"/>
          <a:stretch/>
        </p:blipFill>
        <p:spPr>
          <a:xfrm>
            <a:off x="914400" y="3995640"/>
            <a:ext cx="1676520" cy="164016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4952880" y="4876920"/>
            <a:ext cx="1143000" cy="5331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ff0000"/>
                </a:solidFill>
                <a:latin typeface="Times New Roman"/>
              </a:rPr>
              <a:t>Vote  x 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2362320" y="1447920"/>
            <a:ext cx="4647960" cy="4724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648320" y="1447920"/>
            <a:ext cx="0" cy="4724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362320" y="3962520"/>
            <a:ext cx="47242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743200" y="2666880"/>
            <a:ext cx="16002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4952880" y="2666880"/>
            <a:ext cx="160020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ag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95480" y="4343400"/>
            <a:ext cx="160020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952880" y="4343400"/>
            <a:ext cx="1600200" cy="762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moció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6"/>
          <a:stretch/>
        </p:blipFill>
        <p:spPr>
          <a:xfrm>
            <a:off x="2819520" y="1371600"/>
            <a:ext cx="1170000" cy="138420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7"/>
          <a:stretch/>
        </p:blipFill>
        <p:spPr>
          <a:xfrm>
            <a:off x="2514600" y="4876920"/>
            <a:ext cx="1198440" cy="117288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8"/>
          <a:stretch/>
        </p:blipFill>
        <p:spPr>
          <a:xfrm>
            <a:off x="5105520" y="1676520"/>
            <a:ext cx="1981080" cy="776160"/>
          </a:xfrm>
          <a:prstGeom prst="rect">
            <a:avLst/>
          </a:prstGeom>
          <a:ln w="0">
            <a:noFill/>
          </a:ln>
        </p:spPr>
      </p:pic>
      <p:pic>
        <p:nvPicPr>
          <p:cNvPr id="859" name="" descr=""/>
          <p:cNvPicPr/>
          <p:nvPr/>
        </p:nvPicPr>
        <p:blipFill>
          <a:blip r:embed="rId9"/>
          <a:stretch/>
        </p:blipFill>
        <p:spPr>
          <a:xfrm>
            <a:off x="6400800" y="4495680"/>
            <a:ext cx="75096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0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0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1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Elementos de la </a:t>
            </a:r>
            <a:br>
              <a:rPr sz="4400"/>
            </a:b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Mezcla Promocional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09480" y="2666880"/>
            <a:ext cx="7772400" cy="160020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Venta Personal: Es una comunicación personal pagad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que busca informar a los clientes y persuadirlos a la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j: tele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85800" y="4572000"/>
            <a:ext cx="7772400" cy="19051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ublicidad: Es una comunicación no personal pagada acer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na organización  y sus productos, que se transmite a u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udiencia objetivo empleando un medio de comun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sivo. Ej: comerciales de tele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8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380880" y="1828800"/>
            <a:ext cx="8001000" cy="19051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paganda: Es comunicación no personal pagada, acerc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na organización, sus productos o ambos, que se transm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or un medio de comunicación masivo sin ningún co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j: reportajes en rev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57200" y="4038480"/>
            <a:ext cx="7924680" cy="243864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moción de Ventas: Constituye un material o actividad,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actúa como estímulo directo que ofrece valor agregado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incentivos del producto a intermediarios, vend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o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j: Muestras gr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nta Personal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1215720" y="2147760"/>
            <a:ext cx="6808680" cy="4114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en t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res categorías de vendedor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Tomadores de pedi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Vendedores creativ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Vendedores de apoy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1"/>
          <a:stretch/>
        </p:blipFill>
        <p:spPr>
          <a:xfrm>
            <a:off x="4843440" y="4334040"/>
            <a:ext cx="308124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8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8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4000" y="919080"/>
            <a:ext cx="784836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 V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ent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ersonal es un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roceso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ei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tapa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196640" y="2440080"/>
            <a:ext cx="6840360" cy="38224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Búsqueda de prospec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Acerca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Present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anejo de objecio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Cierre – elaboración del pedi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Segui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8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8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8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8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8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8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160640" y="8078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Herramientas para la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romoción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enta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320480" y="2244600"/>
            <a:ext cx="6662520" cy="400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Aparador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Premio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Muestras y demostracion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Cupon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Concursos y rifas para los consumidor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Reembolso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ahoma"/>
              </a:rPr>
              <a:t>Exhibiciones comerciales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2" name=""/>
          <p:cNvSpPr/>
          <p:nvPr/>
        </p:nvSpPr>
        <p:spPr>
          <a:xfrm>
            <a:off x="5791320" y="6324480"/>
            <a:ext cx="1839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7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86" dur="1" fill="hold"/>
                                  <p:tgtEl>
                                    <p:spTgt spid="87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6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143000" y="790200"/>
            <a:ext cx="6950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Medios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ublicitarios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755640" y="2406240"/>
            <a:ext cx="3787920" cy="3638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edios Impre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Periód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Revis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Correo direc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Espectacula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95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5" name=""/>
          <p:cNvSpPr/>
          <p:nvPr/>
        </p:nvSpPr>
        <p:spPr>
          <a:xfrm>
            <a:off x="5791320" y="6324480"/>
            <a:ext cx="1839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761000" y="2386080"/>
            <a:ext cx="3843360" cy="3635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Medio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lectrón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Televis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Anuncio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Interne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n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randomBar dir="vert"/>
  </p:transition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8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8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8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8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8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8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8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125360" y="772920"/>
            <a:ext cx="69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Publicidad en Internet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297080" y="2077920"/>
            <a:ext cx="6683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e pronostica que las utilidades totales por publicidad, contenido pagado y comercio electrónico en Estados Unidos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rá de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3.3 miles de millones de dólares en el año 200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597120" y="5715000"/>
            <a:ext cx="431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ente: “E--MONEY”,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American Demographic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, junio 2001, p. 3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7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Definición de Market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s un sistema de actividades interactivas diseñadas para planificar, fijar precios, promover y distribuir bienes y servicios que satisfagan necesidades de clientes actuales y potenciales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Stanton 197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“ </a:t>
            </a:r>
            <a:r>
              <a:rPr b="0" i="1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s la actividad humana dirigida a satisfacer necesidades y deseos a través del proceso de intercambio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Kotler 1980)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1287360" y="1030320"/>
            <a:ext cx="6786720" cy="12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Estrategias de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mpuje y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tracción</a:t>
            </a:r>
            <a:endParaRPr b="0" i="1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791320" y="6324480"/>
            <a:ext cx="18396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890640" y="2135160"/>
            <a:ext cx="7623360" cy="3263760"/>
            <a:chOff x="890640" y="2135160"/>
            <a:chExt cx="7623360" cy="3263760"/>
          </a:xfrm>
        </p:grpSpPr>
        <p:sp>
          <p:nvSpPr>
            <p:cNvPr id="883" name=""/>
            <p:cNvSpPr/>
            <p:nvPr/>
          </p:nvSpPr>
          <p:spPr>
            <a:xfrm flipV="1">
              <a:off x="7812360" y="5030280"/>
              <a:ext cx="0" cy="368280"/>
            </a:xfrm>
            <a:prstGeom prst="line">
              <a:avLst/>
            </a:prstGeom>
            <a:ln w="28440">
              <a:solidFill>
                <a:srgbClr val="b5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"/>
            <p:cNvGrpSpPr/>
            <p:nvPr/>
          </p:nvGrpSpPr>
          <p:grpSpPr>
            <a:xfrm>
              <a:off x="890640" y="2693880"/>
              <a:ext cx="7569360" cy="2387520"/>
              <a:chOff x="890640" y="2693880"/>
              <a:chExt cx="7569360" cy="2387520"/>
            </a:xfrm>
          </p:grpSpPr>
          <p:grpSp>
            <p:nvGrpSpPr>
              <p:cNvPr id="885" name=""/>
              <p:cNvGrpSpPr/>
              <p:nvPr/>
            </p:nvGrpSpPr>
            <p:grpSpPr>
              <a:xfrm>
                <a:off x="2338560" y="4555800"/>
                <a:ext cx="671040" cy="274680"/>
                <a:chOff x="2338560" y="4555800"/>
                <a:chExt cx="671040" cy="274680"/>
              </a:xfrm>
            </p:grpSpPr>
            <p:sp>
              <p:nvSpPr>
                <p:cNvPr id="886" name=""/>
                <p:cNvSpPr/>
                <p:nvPr/>
              </p:nvSpPr>
              <p:spPr>
                <a:xfrm>
                  <a:off x="2338560" y="4605120"/>
                  <a:ext cx="264960" cy="5868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87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2422440" y="4555800"/>
                  <a:ext cx="58716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88" name=""/>
              <p:cNvGrpSpPr/>
              <p:nvPr/>
            </p:nvGrpSpPr>
            <p:grpSpPr>
              <a:xfrm>
                <a:off x="6427800" y="4555800"/>
                <a:ext cx="671760" cy="274680"/>
                <a:chOff x="6427800" y="4555800"/>
                <a:chExt cx="671760" cy="27468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6427800" y="4605120"/>
                  <a:ext cx="265320" cy="58680"/>
                </a:xfrm>
                <a:prstGeom prst="rect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90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12040" y="4555800"/>
                  <a:ext cx="58752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891" name=""/>
              <p:cNvGrpSpPr/>
              <p:nvPr/>
            </p:nvGrpSpPr>
            <p:grpSpPr>
              <a:xfrm>
                <a:off x="4383360" y="4555800"/>
                <a:ext cx="671040" cy="274680"/>
                <a:chOff x="4383360" y="4555800"/>
                <a:chExt cx="671040" cy="274680"/>
              </a:xfrm>
            </p:grpSpPr>
            <p:sp>
              <p:nvSpPr>
                <p:cNvPr id="892" name=""/>
                <p:cNvSpPr/>
                <p:nvPr/>
              </p:nvSpPr>
              <p:spPr>
                <a:xfrm>
                  <a:off x="4383360" y="4605120"/>
                  <a:ext cx="264960" cy="586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89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467240" y="4555800"/>
                  <a:ext cx="587160" cy="2746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894" name=""/>
              <p:cNvSpPr/>
              <p:nvPr/>
            </p:nvSpPr>
            <p:spPr>
              <a:xfrm>
                <a:off x="890640" y="2693880"/>
                <a:ext cx="1435320" cy="8128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9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333880" y="2965320"/>
                <a:ext cx="68256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"/>
              <p:cNvSpPr/>
              <p:nvPr/>
            </p:nvSpPr>
            <p:spPr>
              <a:xfrm>
                <a:off x="7024680" y="2693880"/>
                <a:ext cx="1435320" cy="812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980240" y="2693880"/>
                <a:ext cx="1434960" cy="8128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935440" y="2693880"/>
                <a:ext cx="1434960" cy="812880"/>
              </a:xfrm>
              <a:prstGeom prst="rect">
                <a:avLst/>
              </a:prstGeom>
              <a:solidFill>
                <a:srgbClr val="e5d0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9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423120" y="2965320"/>
                <a:ext cx="682560" cy="31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378320" y="2965320"/>
                <a:ext cx="682920" cy="318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1" name=""/>
              <p:cNvSpPr/>
              <p:nvPr/>
            </p:nvSpPr>
            <p:spPr>
              <a:xfrm>
                <a:off x="890640" y="4268520"/>
                <a:ext cx="1435320" cy="812880"/>
              </a:xfrm>
              <a:prstGeom prst="rect">
                <a:avLst/>
              </a:prstGeom>
              <a:solidFill>
                <a:srgbClr val="ff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024680" y="4268520"/>
                <a:ext cx="1435320" cy="81288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80240" y="4268520"/>
                <a:ext cx="1434960" cy="812880"/>
              </a:xfrm>
              <a:prstGeom prst="rect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2935440" y="4268520"/>
                <a:ext cx="1434960" cy="812880"/>
              </a:xfrm>
              <a:prstGeom prst="rect">
                <a:avLst/>
              </a:prstGeom>
              <a:solidFill>
                <a:srgbClr val="e5d09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5" name=""/>
            <p:cNvSpPr/>
            <p:nvPr/>
          </p:nvSpPr>
          <p:spPr>
            <a:xfrm>
              <a:off x="1062000" y="28843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du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062000" y="4484520"/>
              <a:ext cx="108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duc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049560" y="288432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yoris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062160" y="448452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ayoris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5113440" y="288432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inoris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113440" y="4484520"/>
              <a:ext cx="115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inoris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6999120" y="2884320"/>
              <a:ext cx="150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sumi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012080" y="4484520"/>
              <a:ext cx="150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onsumido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43040" y="2135160"/>
              <a:ext cx="21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Estrategia de empu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572840" y="3671640"/>
              <a:ext cx="22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Times New Roman"/>
                </a:rPr>
                <a:t>Estrategia de atrac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1563840" y="4052520"/>
              <a:ext cx="0" cy="216000"/>
            </a:xfrm>
            <a:prstGeom prst="line">
              <a:avLst/>
            </a:prstGeom>
            <a:ln w="28440">
              <a:solidFill>
                <a:srgbClr val="b5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551240" y="4039920"/>
              <a:ext cx="6184800" cy="0"/>
            </a:xfrm>
            <a:prstGeom prst="line">
              <a:avLst/>
            </a:prstGeom>
            <a:ln w="28440">
              <a:solidFill>
                <a:srgbClr val="b5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736040" y="4039920"/>
              <a:ext cx="0" cy="228600"/>
            </a:xfrm>
            <a:prstGeom prst="line">
              <a:avLst/>
            </a:prstGeom>
            <a:ln w="2844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640160" y="5398920"/>
              <a:ext cx="6184800" cy="0"/>
            </a:xfrm>
            <a:prstGeom prst="line">
              <a:avLst/>
            </a:prstGeom>
            <a:ln w="28440">
              <a:solidFill>
                <a:srgbClr val="b5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1652760" y="5081400"/>
              <a:ext cx="0" cy="317520"/>
            </a:xfrm>
            <a:prstGeom prst="line">
              <a:avLst/>
            </a:prstGeom>
            <a:ln w="28440">
              <a:solidFill>
                <a:srgbClr val="b5e0e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2933280" y="5743440"/>
            <a:ext cx="36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de las comunic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Bar dir="vert"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4" dur="2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Plaz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Se encarga de disponer de los productos en las cantidades deseadas y en el momento adecuado, para la mayor cantidad de clientes del mercado objetivo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3200400" y="4038480"/>
            <a:ext cx="24382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bjetivos de la Variable Plaza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685800" y="2286000"/>
            <a:ext cx="3429000" cy="12952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tener tan baj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mo sea posible 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stos de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800600" y="2286000"/>
            <a:ext cx="3505320" cy="12952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eleccionar y Motivar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los intermedi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685800" y="4343400"/>
            <a:ext cx="3429000" cy="1676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stablecer y mante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procedimient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ntrol a lo largo de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adena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800600" y="4343400"/>
            <a:ext cx="3505320" cy="1676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Desarrollar y administr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sistema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 almace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191120" y="2895480"/>
            <a:ext cx="5331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2286000" y="3657600"/>
            <a:ext cx="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477120" y="3657600"/>
            <a:ext cx="0" cy="68580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4114800" y="5181480"/>
            <a:ext cx="6094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Calidad Total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Es la coordinación de esfuerzos dirigidos a mejorar todos los aspectos de un negocio, desde la calidad del producto y del servicio, hasta la satisfacción del cliente y de los emplead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5" name="" descr=""/>
          <p:cNvPicPr/>
          <p:nvPr/>
        </p:nvPicPr>
        <p:blipFill>
          <a:blip r:embed="rId1"/>
          <a:stretch/>
        </p:blipFill>
        <p:spPr>
          <a:xfrm>
            <a:off x="3505320" y="4114800"/>
            <a:ext cx="208116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0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11430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Variable Preci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Se relaciona con las decisiones y acciones asociadas al establecimiento de objetivos y políticas de fijación de precios y a la determinación de los precios de los producto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8" name="" descr=""/>
          <p:cNvPicPr/>
          <p:nvPr/>
        </p:nvPicPr>
        <p:blipFill>
          <a:blip r:embed="rId1"/>
          <a:stretch/>
        </p:blipFill>
        <p:spPr>
          <a:xfrm>
            <a:off x="3581280" y="3962520"/>
            <a:ext cx="24498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0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7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bjetivo de la Variable Precio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990720" y="2362320"/>
            <a:ext cx="3962160" cy="2895480"/>
          </a:xfrm>
          <a:prstGeom prst="rect">
            <a:avLst/>
          </a:prstGeom>
          <a:gradFill rotWithShape="0">
            <a:gsLst>
              <a:gs pos="0">
                <a:srgbClr val="5e5235"/>
              </a:gs>
              <a:gs pos="50000">
                <a:srgbClr val="ccb374"/>
              </a:gs>
              <a:gs pos="100000">
                <a:srgbClr val="5e5235"/>
              </a:gs>
            </a:gsLst>
            <a:lin ang="135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Mantener una re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consecuente entre el prec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y el valor entregado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el intercamb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1" name="" descr=""/>
          <p:cNvPicPr/>
          <p:nvPr/>
        </p:nvPicPr>
        <p:blipFill>
          <a:blip r:embed="rId1"/>
          <a:stretch/>
        </p:blipFill>
        <p:spPr>
          <a:xfrm>
            <a:off x="5486400" y="2860560"/>
            <a:ext cx="28954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4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857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Los objetivos más comunes de los precio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042920" y="2349360"/>
            <a:ext cx="7129440" cy="31672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aximizar utilidades y vent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Impulsar la participación en el merc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Mantener el </a:t>
            </a:r>
            <a:r>
              <a:rPr b="0" i="1" lang="es-MX" sz="2800" spc="-1" strike="noStrike">
                <a:solidFill>
                  <a:srgbClr val="000000"/>
                </a:solidFill>
                <a:latin typeface="Tahoma"/>
              </a:rPr>
              <a:t>status qu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Sobreviv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Entorno del Market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Consta de  fuerzas competitivas, económicas, políticas, legales y regulatorias, socioculturales, y tecnológicas. Las cuales rodean a la mezcla de marketing y al consumid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6" name="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1981440" cy="20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0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3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1905120" y="1066680"/>
            <a:ext cx="5486400" cy="5334120"/>
          </a:xfrm>
          <a:prstGeom prst="ellipse">
            <a:avLst/>
          </a:prstGeom>
          <a:solidFill>
            <a:srgbClr val="99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2286000"/>
            <a:ext cx="2971800" cy="2743200"/>
          </a:xfrm>
          <a:prstGeom prst="ellipse">
            <a:avLst/>
          </a:prstGeom>
          <a:solidFill>
            <a:srgbClr val="ffff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038480" y="3048120"/>
            <a:ext cx="1371600" cy="1218960"/>
          </a:xfrm>
          <a:prstGeom prst="ellipse">
            <a:avLst/>
          </a:prstGeom>
          <a:solidFill>
            <a:srgbClr val="ff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809880" y="1447920"/>
            <a:ext cx="167652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er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Sociocultur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3962520" y="5334120"/>
            <a:ext cx="2057400" cy="68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erzas leg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y regulat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362320" y="4724280"/>
            <a:ext cx="1143000" cy="533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erz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tecnológ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5867280" y="2286000"/>
            <a:ext cx="114300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erz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competiti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6248520" y="3809880"/>
            <a:ext cx="914400" cy="838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er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olít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362320" y="2362320"/>
            <a:ext cx="838080" cy="609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Fuerz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Económic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505320" y="2819520"/>
            <a:ext cx="68580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H="1">
            <a:off x="3733560" y="4114800"/>
            <a:ext cx="53316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5257800" y="2743200"/>
            <a:ext cx="533520" cy="5335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4114800" y="2590920"/>
            <a:ext cx="1066680" cy="380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5181480" y="4114800"/>
            <a:ext cx="60984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267080" y="4419720"/>
            <a:ext cx="1143000" cy="304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352680" y="3429000"/>
            <a:ext cx="60984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la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486400" y="3429000"/>
            <a:ext cx="60948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4" name="" descr=""/>
          <p:cNvPicPr/>
          <p:nvPr/>
        </p:nvPicPr>
        <p:blipFill>
          <a:blip r:embed="rId1"/>
          <a:stretch/>
        </p:blipFill>
        <p:spPr>
          <a:xfrm>
            <a:off x="7315200" y="2514600"/>
            <a:ext cx="16225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0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ESTRUCTURA ORGANIZACIONAL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826920" y="2421000"/>
            <a:ext cx="748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istema formal de relaciones de trabajo para la división de tareas y la coordinación de éstas que permita cumplir con eficiencia las metas organizaci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ermite a los empleados trabajar en común eficazmente ya que se asignan las tareas y responsabilidades de cada cual y qué se espera de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Orientaciones del Marketing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2133720"/>
            <a:ext cx="6248520" cy="121896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066680" y="2514600"/>
            <a:ext cx="5486400" cy="762120"/>
          </a:xfrm>
          <a:prstGeom prst="rightArrow">
            <a:avLst>
              <a:gd name="adj1" fmla="val 50000"/>
              <a:gd name="adj2" fmla="val 179972"/>
            </a:avLst>
          </a:prstGeom>
          <a:solidFill>
            <a:srgbClr val="ffec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ORIENTACIÓN  A  LA 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914400" y="3505320"/>
            <a:ext cx="6248520" cy="114300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3809880"/>
            <a:ext cx="2590920" cy="762120"/>
          </a:xfrm>
          <a:prstGeom prst="rightArrow">
            <a:avLst>
              <a:gd name="adj1" fmla="val 50000"/>
              <a:gd name="adj2" fmla="val 84991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ORIENTACIÓN  A  LA 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114800" y="3809880"/>
            <a:ext cx="2666880" cy="762120"/>
          </a:xfrm>
          <a:prstGeom prst="rightArrow">
            <a:avLst>
              <a:gd name="adj1" fmla="val 50000"/>
              <a:gd name="adj2" fmla="val 87482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ORIENTACIÓN  A  LAS 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14400" y="4724280"/>
            <a:ext cx="6248520" cy="1219320"/>
          </a:xfrm>
          <a:prstGeom prst="cube">
            <a:avLst>
              <a:gd name="adj" fmla="val 25000"/>
            </a:avLst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90720" y="5105520"/>
            <a:ext cx="1600200" cy="761760"/>
          </a:xfrm>
          <a:prstGeom prst="rightArrow">
            <a:avLst>
              <a:gd name="adj1" fmla="val 50000"/>
              <a:gd name="adj2" fmla="val 52517"/>
            </a:avLst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ORIENT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  LA  PROD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95480" y="5105520"/>
            <a:ext cx="1676520" cy="761760"/>
          </a:xfrm>
          <a:prstGeom prst="rightArrow">
            <a:avLst>
              <a:gd name="adj1" fmla="val 50000"/>
              <a:gd name="adj2" fmla="val 55021"/>
            </a:avLst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ORIENTACIÓN  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LAS VEN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952880" y="5105520"/>
            <a:ext cx="1447920" cy="761760"/>
          </a:xfrm>
          <a:prstGeom prst="rightArrow">
            <a:avLst>
              <a:gd name="adj1" fmla="val 50000"/>
              <a:gd name="adj2" fmla="val 47519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ORIENTACIÓN  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44920" y="6248520"/>
            <a:ext cx="6444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00"/>
                </a:solidFill>
                <a:latin typeface="Times New Roman"/>
              </a:rPr>
              <a:t>Fines de la década de 1800     Principios de los años 30     Mediados de los años 50      Años 9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761760" y="907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600" spc="-1" strike="noStrike">
                <a:solidFill>
                  <a:srgbClr val="cc6600"/>
                </a:solidFill>
                <a:latin typeface="Times New Roman"/>
              </a:rPr>
              <a:t>ELEMENTOS ESTRUCTURA ORGANIZACIONAL</a:t>
            </a:r>
            <a:endParaRPr b="0" i="1" lang="en-US" sz="2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55640" y="2133720"/>
            <a:ext cx="763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pecializ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identificación de tareas particulares y su asign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andariz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 uniformación y sistematización de los procedimi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ordinación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procedimientos formales e informales para integrar las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Autoridad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recho a decidir y actu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7164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ORGANIGRAMA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826920" y="2943360"/>
            <a:ext cx="7632720" cy="15570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iagrama en que se representan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gráficamente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las relaciones de información entre funciones, departamentos e individuos de una organización. Es un instrument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lustrativ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la estructura formal básica de una organ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"/>
          <p:cNvSpPr/>
          <p:nvPr/>
        </p:nvSpPr>
        <p:spPr>
          <a:xfrm>
            <a:off x="1295280" y="-7632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Book Antiqua"/>
              </a:rPr>
              <a:t>NIVELES  ORGANIZACIONALES  Y  AMBITO   DE  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990720" y="1143000"/>
            <a:ext cx="693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800000"/>
                </a:solidFill>
                <a:latin typeface="Times New Roman"/>
              </a:rPr>
              <a:t>Organización con tramos cortos (piramidal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962520" y="1828800"/>
            <a:ext cx="11430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75248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19112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662940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29528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243828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65760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876920" y="3581280"/>
            <a:ext cx="5331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17220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1520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99072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60020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220968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81952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42900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03848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64832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525780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86728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47712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08660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696080" y="4191120"/>
            <a:ext cx="457200" cy="228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57200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057400" y="25146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69343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0574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523880" y="3429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962520" y="34290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400800" y="3429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05740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457200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5238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27432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9625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1814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400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76201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52388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74320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396252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518148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40080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7620120" y="38862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114300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23623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35812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80060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7238880" y="4038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019920" y="4038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11430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19051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23623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31240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5812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43434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8006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5627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601992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7816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0100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7238880" y="40384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38120" y="4672080"/>
            <a:ext cx="2921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Times New Roman"/>
              </a:rPr>
              <a:t>Ventajas: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Estrecha superv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Estricto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Rápida comunicación 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subordinados y superior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202640" y="4691160"/>
            <a:ext cx="464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Times New Roman"/>
              </a:rPr>
              <a:t>Desventaj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Los superiores tienden a involucrarse 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exceso en el trabajo de los subordin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Muchos niveles administrativ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Altos costos a causa de los numerosos nive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Excesiva distancia entre el nivel más bajo y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más al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"/>
          <p:cNvSpPr/>
          <p:nvPr/>
        </p:nvSpPr>
        <p:spPr>
          <a:xfrm>
            <a:off x="1295280" y="-76320"/>
            <a:ext cx="601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100" spc="-1" strike="noStrike">
                <a:solidFill>
                  <a:srgbClr val="000000"/>
                </a:solidFill>
                <a:latin typeface="Book Antiqua"/>
              </a:rPr>
              <a:t>NIVELES  ORGANIZACIONALES  Y  AMBITO   DE  ADMINISTRACIÓ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990720" y="1143000"/>
            <a:ext cx="6933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800000"/>
                </a:solidFill>
                <a:latin typeface="Times New Roman"/>
              </a:rPr>
              <a:t>Ej: Organización con tramos largos (plan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3809880" y="1828800"/>
            <a:ext cx="11430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175248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403848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32448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129528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251460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733920" y="3581280"/>
            <a:ext cx="5331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434340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5562720" y="3581280"/>
            <a:ext cx="5331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391520" y="3581280"/>
            <a:ext cx="5331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343400" y="2286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371600" y="2514600"/>
            <a:ext cx="617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7057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0574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914400" y="3429000"/>
            <a:ext cx="670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4343400" y="3200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15238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27432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39625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1814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64008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76201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9144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21337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457200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33526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79132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7010280" y="3429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39560" y="4280040"/>
            <a:ext cx="3819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Times New Roman"/>
              </a:rPr>
              <a:t>Ventajas: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Los superiores se ven oblig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a deleg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Se deben establecer políticas cla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Los subordinados deben ser cuidado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samente seleccionado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201920" y="4267080"/>
            <a:ext cx="4868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800000"/>
                </a:solidFill>
                <a:latin typeface="Times New Roman"/>
              </a:rPr>
              <a:t>Desventaj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Tendencia de los superiores sobrecargados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trabajo a convertirse en cuellos de botella en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decis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Riesgo de pérdida de control para el supervis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*  Se requiere de administradores de calid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66"/>
                </a:solidFill>
                <a:latin typeface="Times New Roman"/>
              </a:rPr>
              <a:t>excep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51460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327672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80060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556272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08660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990720" y="2743200"/>
            <a:ext cx="685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75438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59436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51814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36576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289548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37160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95288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17220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78168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312408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1905120" y="3581280"/>
            <a:ext cx="53316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685800" y="3581280"/>
            <a:ext cx="533520" cy="304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116000" y="10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ORGANIZACIO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971640" y="2421000"/>
            <a:ext cx="77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Organizació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el emplazamiento de recursos organizacionales para alcanzar objetivos estratégicos. (Richard  Daf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mplica la creación de  estructuras de relaciones que permitan a los empleados ejecutar los planes y cumplir con las metas establecidas por la dir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DISEÑO ORGANIZACIONAL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403280" y="2963880"/>
            <a:ext cx="6264360" cy="262800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 Narrow"/>
              </a:rPr>
              <a:t>Determinación de la estructura y relaciones de autoridad de una organización para cumplir con las estrategias y planes establec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23640" y="1125000"/>
            <a:ext cx="8351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FACTORES INFLUYENTES DISEÑO ORGANIZACIONAL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826920" y="2652840"/>
            <a:ext cx="698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torn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samient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trategia de la organ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52388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DISEÑO MECANICISTA  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228240" y="2147760"/>
            <a:ext cx="4876920" cy="411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ta especi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ígida departament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lara cadena de man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recho tramo d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entr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ta form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5" name=""/>
          <p:cNvGraphicFramePr/>
          <p:nvPr/>
        </p:nvGraphicFramePr>
        <p:xfrm>
          <a:off x="4648320" y="2147760"/>
          <a:ext cx="3809880" cy="411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2147760"/>
                    <a:ext cx="3809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7" name="" descr=""/>
          <p:cNvPicPr/>
          <p:nvPr/>
        </p:nvPicPr>
        <p:blipFill>
          <a:blip r:embed="rId9"/>
          <a:stretch/>
        </p:blipFill>
        <p:spPr>
          <a:xfrm>
            <a:off x="5029200" y="2057400"/>
            <a:ext cx="3174840" cy="3809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3716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DISEÑO ORGANICO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3809880" cy="411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quipos interfuncio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quipos interjerárqu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ibre flujo de la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mplio tramo de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central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aja formalización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00" name=""/>
          <p:cNvGraphicFramePr/>
          <p:nvPr/>
        </p:nvGraphicFramePr>
        <p:xfrm>
          <a:off x="4648320" y="2200320"/>
          <a:ext cx="4152960" cy="31035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10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48320" y="2200320"/>
                    <a:ext cx="4152960" cy="3103560"/>
                  </a:xfrm>
                  <a:prstGeom prst="rect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3716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6600"/>
                </a:solidFill>
                <a:latin typeface="Times New Roman"/>
              </a:rPr>
              <a:t>Diferenciación/integración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440" y="2147760"/>
            <a:ext cx="8001000" cy="411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Diferenciación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: medida de las diferenci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Integración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: medida de la coordinación entre departamentos en cuanto 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ructur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ar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e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5T12:52:01Z</dcterms:created>
  <dc:creator>Claudio Castañeda</dc:creator>
  <dc:description/>
  <dc:language>en-US</dc:language>
  <cp:lastModifiedBy>Félix Lizama</cp:lastModifiedBy>
  <dcterms:modified xsi:type="dcterms:W3CDTF">2006-01-04T00:02:08Z</dcterms:modified>
  <cp:revision>133</cp:revision>
  <dc:subject/>
  <dc:title>Marketing Social </dc:title>
</cp:coreProperties>
</file>