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7.png" ContentType="image/png"/>
  <Override PartName="/ppt/media/image46.png" ContentType="image/png"/>
  <Override PartName="/ppt/media/image45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wmf" ContentType="image/x-wmf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61.wmf" ContentType="image/x-wmf"/>
  <Override PartName="/ppt/media/image37.png" ContentType="image/png"/>
  <Override PartName="/ppt/media/image36.png" ContentType="image/png"/>
  <Override PartName="/ppt/media/image9.jpeg" ContentType="image/jpeg"/>
  <Override PartName="/ppt/media/image35.wmf" ContentType="image/x-wmf"/>
  <Override PartName="/ppt/media/image78.png" ContentType="image/png"/>
  <Override PartName="/ppt/media/image34.wmf" ContentType="image/x-wmf"/>
  <Override PartName="/ppt/media/image33.wmf" ContentType="image/x-wmf"/>
  <Override PartName="/ppt/media/image32.wmf" ContentType="image/x-wmf"/>
  <Override PartName="/ppt/media/image5.png" ContentType="image/png"/>
  <Override PartName="/ppt/media/image17.png" ContentType="image/png"/>
  <Override PartName="/ppt/media/image21.wmf" ContentType="image/x-wmf"/>
  <Override PartName="/ppt/media/image83.png" ContentType="image/png"/>
  <Override PartName="/ppt/media/image18.png" ContentType="image/png"/>
  <Override PartName="/ppt/media/image58.wmf" ContentType="image/x-wmf"/>
  <Override PartName="/ppt/media/image20.wmf" ContentType="image/x-wmf"/>
  <Override PartName="/ppt/media/image57.wmf" ContentType="image/x-wmf"/>
  <Override PartName="/ppt/media/image22.wmf" ContentType="image/x-wmf"/>
  <Override PartName="/ppt/media/image59.wmf" ContentType="image/x-wmf"/>
  <Override PartName="/ppt/media/image24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9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68.png" ContentType="image/png"/>
  <Override PartName="/ppt/media/image1.png" ContentType="image/png"/>
  <Override PartName="/ppt/media/image29.wmf" ContentType="image/x-wmf"/>
  <Override PartName="/ppt/media/image88.wmf" ContentType="image/x-wmf"/>
  <Override PartName="/ppt/media/image51.wmf" ContentType="image/x-wmf"/>
  <Override PartName="/ppt/media/image87.wmf" ContentType="image/x-wmf"/>
  <Override PartName="/ppt/media/image75.wmf" ContentType="image/x-wmf"/>
  <Override PartName="/ppt/media/image86.wmf" ContentType="image/x-wmf"/>
  <Override PartName="/ppt/media/image74.wmf" ContentType="image/x-wmf"/>
  <Override PartName="/ppt/media/image85.png" ContentType="image/png"/>
  <Override PartName="/ppt/media/image67.wmf" ContentType="image/x-wmf"/>
  <Override PartName="/ppt/media/image27.png" ContentType="image/png"/>
  <Override PartName="/ppt/media/image30.wmf" ContentType="image/x-wmf"/>
  <Override PartName="/ppt/media/image84.png" ContentType="image/png"/>
  <Override PartName="/ppt/media/image82.wmf" ContentType="image/x-wmf"/>
  <Override PartName="/ppt/media/image81.wmf" ContentType="image/x-wmf"/>
  <Override PartName="/ppt/media/image79.wmf" ContentType="image/x-wmf"/>
  <Override PartName="/ppt/media/image73.wmf" ContentType="image/x-wmf"/>
  <Override PartName="/ppt/media/image3.png" ContentType="image/png"/>
  <Override PartName="/ppt/media/image19.wmf" ContentType="image/x-wmf"/>
  <Override PartName="/ppt/media/image80.wmf" ContentType="image/x-wmf"/>
  <Override PartName="/ppt/media/image15.wmf" ContentType="image/x-wmf"/>
  <Override PartName="/ppt/media/image14.wmf" ContentType="image/x-wmf"/>
  <Override PartName="/ppt/media/image66.png" ContentType="image/png"/>
  <Override PartName="/ppt/media/image23.wmf" ContentType="image/x-wmf"/>
  <Override PartName="/ppt/media/image48.png" ContentType="image/png"/>
  <Override PartName="/ppt/media/image70.wmf" ContentType="image/x-wmf"/>
  <Override PartName="/ppt/media/image6.wmf" ContentType="image/x-wmf"/>
  <Override PartName="/ppt/media/image76.jpeg" ContentType="image/jpeg"/>
  <Override PartName="/ppt/media/image11.wmf" ContentType="image/x-wmf"/>
  <Override PartName="/ppt/media/image50.png" ContentType="image/png"/>
  <Override PartName="/ppt/media/image28.png" ContentType="image/png"/>
  <Override PartName="/ppt/media/image31.wmf" ContentType="image/x-wmf"/>
  <Override PartName="/ppt/media/image4.png" ContentType="image/png"/>
  <Override PartName="/ppt/media/image16.png" ContentType="image/png"/>
  <Override PartName="/ppt/media/image7.jpeg" ContentType="image/jpeg"/>
  <Override PartName="/ppt/media/image72.jpeg" ContentType="image/jpeg"/>
  <Override PartName="/ppt/media/image2.png" ContentType="image/png"/>
  <Override PartName="/ppt/media/image10.wmf" ContentType="image/x-wmf"/>
  <Override PartName="/ppt/media/image12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1BC-7682-474C-8E1F-8E90C9B9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968-879E-4185-A908-F365D956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AF7-948E-436C-899A-873E26DF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59E-F55C-42DE-9BFC-59651BA6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6339-B040-4146-A50C-FE854467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4FD6-2A78-44A0-9159-649F554E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C704-FFCB-42B9-B945-15A323E8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1DE1-BF2A-4A14-812B-3FF1FA5A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C53F-4EA3-4213-A551-1FC2A79F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4FA-1B3E-46C6-84CE-A43FCAC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15B0-AB3E-41BE-834B-8D77F1F9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AEC-ACE0-43DE-BEB6-BDBC4ABC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19FB-03C9-4872-A5CC-D3B7CB17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23DB-F499-433C-8BDA-9F475E78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6471-84EE-4AAF-9E3A-51811AFC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6903-0A41-40A6-88F8-F16FF810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32E4-879D-44A2-9A9D-BC6ECF7F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A27-A55C-4454-A30C-9EA2E663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5F3-576E-4BCD-AA5E-06F1F6BA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328-3923-49F8-BCC5-8304524E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545-2B1C-4435-8218-50B79106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C9D-EF92-461C-BF27-C73347A9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5C6-B07E-4BDA-9E03-93613834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47F-CBB8-4D41-8E22-FCFC8348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7BDF-27E9-4467-9BC5-A05C745DE5C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5384-8DD0-494B-86A4-BBDAD0AE8DF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image" Target="../media/image1.png"/><Relationship Id="rId4" Type="http://schemas.openxmlformats.org/officeDocument/2006/relationships/image" Target="../media/image49.png"/><Relationship Id="rId5" Type="http://schemas.openxmlformats.org/officeDocument/2006/relationships/image" Target="../media/image1.png"/><Relationship Id="rId6" Type="http://schemas.openxmlformats.org/officeDocument/2006/relationships/image" Target="../media/image49.png"/><Relationship Id="rId7" Type="http://schemas.openxmlformats.org/officeDocument/2006/relationships/image" Target="../media/image1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5.wmf"/><Relationship Id="rId8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2.jpeg"/><Relationship Id="rId3" Type="http://schemas.openxmlformats.org/officeDocument/2006/relationships/image" Target="../media/image72.jpeg"/><Relationship Id="rId4" Type="http://schemas.openxmlformats.org/officeDocument/2006/relationships/image" Target="../media/image72.jpeg"/><Relationship Id="rId5" Type="http://schemas.openxmlformats.org/officeDocument/2006/relationships/image" Target="../media/image72.jpeg"/><Relationship Id="rId6" Type="http://schemas.openxmlformats.org/officeDocument/2006/relationships/image" Target="../media/image73.wmf"/><Relationship Id="rId7" Type="http://schemas.openxmlformats.org/officeDocument/2006/relationships/image" Target="../media/image71.wmf"/><Relationship Id="rId8" Type="http://schemas.openxmlformats.org/officeDocument/2006/relationships/image" Target="../media/image70.wmf"/><Relationship Id="rId9" Type="http://schemas.openxmlformats.org/officeDocument/2006/relationships/image" Target="../media/image74.wmf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wmf"/><Relationship Id="rId3" Type="http://schemas.openxmlformats.org/officeDocument/2006/relationships/image" Target="../media/image76.jpeg"/><Relationship Id="rId4" Type="http://schemas.openxmlformats.org/officeDocument/2006/relationships/image" Target="../media/image77.wmf"/><Relationship Id="rId5" Type="http://schemas.openxmlformats.org/officeDocument/2006/relationships/image" Target="../media/image76.jpeg"/><Relationship Id="rId6" Type="http://schemas.openxmlformats.org/officeDocument/2006/relationships/image" Target="../media/image77.wmf"/><Relationship Id="rId7" Type="http://schemas.openxmlformats.org/officeDocument/2006/relationships/image" Target="../media/image78.png"/><Relationship Id="rId8" Type="http://schemas.openxmlformats.org/officeDocument/2006/relationships/image" Target="../media/image78.png"/><Relationship Id="rId9" Type="http://schemas.openxmlformats.org/officeDocument/2006/relationships/image" Target="../media/image78.png"/><Relationship Id="rId10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3.png"/><Relationship Id="rId3" Type="http://schemas.openxmlformats.org/officeDocument/2006/relationships/image" Target="../media/image83.png"/><Relationship Id="rId4" Type="http://schemas.openxmlformats.org/officeDocument/2006/relationships/image" Target="../media/image83.png"/><Relationship Id="rId5" Type="http://schemas.openxmlformats.org/officeDocument/2006/relationships/image" Target="../media/image83.png"/><Relationship Id="rId6" Type="http://schemas.openxmlformats.org/officeDocument/2006/relationships/image" Target="../media/image83.png"/><Relationship Id="rId7" Type="http://schemas.openxmlformats.org/officeDocument/2006/relationships/image" Target="../media/image83.png"/><Relationship Id="rId8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4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6.wmf"/><Relationship Id="rId9" Type="http://schemas.openxmlformats.org/officeDocument/2006/relationships/image" Target="../media/image87.wmf"/><Relationship Id="rId10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package" Target="../embeddings/oleObject1.pptx"/><Relationship Id="rId8" Type="http://schemas.openxmlformats.org/officeDocument/2006/relationships/image" Target="../media/image88.wmf"/><Relationship Id="rId9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2362320" y="2666520"/>
            <a:ext cx="5790960" cy="3429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INTRODUCCION AL MUNDO EMPRESARI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ustavo Amtmann 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mtmann@entelchile.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a la Produc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empresas orientadas hacia el producto emprenden el diseño sin tomar en cuenta opiniones de los consumidores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2438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2193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ESTRUCTURA Y TECNOLOGIA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erdependencia tecnoló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ecnología de serv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utinaria (estructura mecanicist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rutinaria (orgáni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95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PROCESAMIENTO DE INFORMACIÓ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cremento en la capacidad de procesamiento de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rtical, Relaciones laterales, Organización Matri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duciendo la necesidad de procesamiento de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ursos de reserva, equipos autónomos, Organización en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77760" y="789120"/>
            <a:ext cx="73281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cc6600"/>
                </a:solidFill>
                <a:latin typeface="Times New Roman"/>
              </a:rPr>
              <a:t>Financiamiento de Proyecto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40920" y="2187720"/>
            <a:ext cx="8505720" cy="297000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El desafío consiste en vender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a.- Ide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b.- Equip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"/>
          <p:cNvSpPr/>
          <p:nvPr/>
        </p:nvSpPr>
        <p:spPr>
          <a:xfrm>
            <a:off x="420840" y="152388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828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Condiciones Buscadas en los Emprendedores y Proyectos</a:t>
            </a:r>
            <a:br>
              <a:rPr sz="3600"/>
            </a:b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33520" y="202716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nicia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mprom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lan de Negocios Profesional y coher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quipo de Trabajo motivado con el Proy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apacidad de Innov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otencial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 Desarrol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Orientación a la Creación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Valores É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510920" y="865080"/>
            <a:ext cx="7327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cc6600"/>
                </a:solidFill>
                <a:latin typeface="Times New Roman"/>
              </a:rPr>
              <a:t>Financiamiento de Proyecto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40920" y="1554120"/>
            <a:ext cx="8505720" cy="506088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¿Cómo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Industria de Fondos de Inversión más que a través del financiamiento banc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Fondo de Inversión Ofre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Financiamiento vía capital y/o deu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apacidad de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trategias de salida en un plazo determin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Incentivos a las Industria del Capital de Riesg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57200" y="2305080"/>
            <a:ext cx="79246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Incentivos a la actividad de 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Oportunidades Atractiva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Incentivos al Capital para 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royecto Escalable a otros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o-Inversión Como Mecanismo de Creación de Va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533520" y="1219320"/>
            <a:ext cx="8388360" cy="5349960"/>
            <a:chOff x="533520" y="1219320"/>
            <a:chExt cx="8388360" cy="5349960"/>
          </a:xfrm>
        </p:grpSpPr>
        <p:sp>
          <p:nvSpPr>
            <p:cNvPr id="1118" name=""/>
            <p:cNvSpPr/>
            <p:nvPr/>
          </p:nvSpPr>
          <p:spPr>
            <a:xfrm>
              <a:off x="565200" y="1219320"/>
              <a:ext cx="77724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17840" y="202536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úmero de Inversionistas por Negocio en U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533520" y="2435040"/>
              <a:ext cx="8388360" cy="4134240"/>
              <a:chOff x="533520" y="2435040"/>
              <a:chExt cx="8388360" cy="4134240"/>
            </a:xfrm>
          </p:grpSpPr>
          <p:grpSp>
            <p:nvGrpSpPr>
              <p:cNvPr id="1121" name=""/>
              <p:cNvGrpSpPr/>
              <p:nvPr/>
            </p:nvGrpSpPr>
            <p:grpSpPr>
              <a:xfrm>
                <a:off x="533520" y="2435040"/>
                <a:ext cx="8388360" cy="4134240"/>
                <a:chOff x="533520" y="2435040"/>
                <a:chExt cx="8388360" cy="4134240"/>
              </a:xfrm>
            </p:grpSpPr>
            <p:graphicFrame>
              <p:nvGraphicFramePr>
                <p:cNvPr id="1122" name=""/>
                <p:cNvGraphicFramePr/>
                <p:nvPr/>
              </p:nvGraphicFramePr>
              <p:xfrm>
                <a:off x="533520" y="2435040"/>
                <a:ext cx="8109000" cy="38728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12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2435040"/>
                          <a:ext cx="8109000" cy="3872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24" name=""/>
                <p:cNvSpPr/>
                <p:nvPr/>
              </p:nvSpPr>
              <p:spPr>
                <a:xfrm>
                  <a:off x="6877080" y="6231960"/>
                  <a:ext cx="2044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Fuente: Venture O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47240" y="3641040"/>
                <a:ext cx="1218600" cy="1447200"/>
                <a:chOff x="7347240" y="3641040"/>
                <a:chExt cx="1218600" cy="14472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347240" y="3641040"/>
                  <a:ext cx="1218600" cy="1447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99440" y="3742200"/>
                  <a:ext cx="73440" cy="10116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509960" y="3684240"/>
                  <a:ext cx="901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5 +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399440" y="4031280"/>
                  <a:ext cx="73440" cy="10116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7510680" y="3973320"/>
                  <a:ext cx="802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4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399440" y="4320720"/>
                  <a:ext cx="73440" cy="101520"/>
                </a:xfrm>
                <a:prstGeom prst="rect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510680" y="4263480"/>
                  <a:ext cx="802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3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399440" y="4610520"/>
                  <a:ext cx="73440" cy="1011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7510680" y="4552560"/>
                  <a:ext cx="802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2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7399440" y="4899960"/>
                  <a:ext cx="73440" cy="1011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7511400" y="4842000"/>
                  <a:ext cx="7444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1 Inversionist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7" name=""/>
          <p:cNvSpPr/>
          <p:nvPr/>
        </p:nvSpPr>
        <p:spPr>
          <a:xfrm>
            <a:off x="1600200" y="7621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a50021"/>
                </a:solidFill>
                <a:latin typeface="Arial"/>
              </a:rPr>
              <a:t>Industria del Capital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a las Venta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concepto de venta afirma que; si a los consumidores se les deja solos, por lo regular, no comprarán suficientes productos de la empresa”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96696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3276720" cy="1473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5410080" y="4267080"/>
            <a:ext cx="30481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al Clien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La clave para alcanzar las metas organizacionales consiste en determinar las necesidades y deseos de los mercados meta, y entregar los satisfactores deseados de forma más eficaz y eficiente que los competidores”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1981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Soci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 labor de las organizaciones es determinar las necesidades, deseos e intereses de  los mercados meta y entregarles los satisfactores  deseados, en forma más eficaz y eficiente que la competencia, de tal manera que se proteja e incremente el bienestar del consumidor y de la sociedad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657600" y="4648320"/>
            <a:ext cx="179388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Evolución del Marketing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986600" cy="441180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Marketing y Orientación al Mercado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09480" y="1819440"/>
            <a:ext cx="7801200" cy="473364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l Consumido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Hace muchos años, Peter Druker determinó, que la labor principal de una compañía es generar clientes ..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... Sin embargo, en la actualidad los consumidores se enfrentan a una variedad muy vasta de productos, marcas, precios y proveedores de donde elegir y satisfacer sus deseos de comprar.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86200" y="5181480"/>
            <a:ext cx="1068480" cy="1219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876920" y="4191120"/>
            <a:ext cx="1066680" cy="685800"/>
          </a:xfrm>
          <a:prstGeom prst="cloudCallout">
            <a:avLst>
              <a:gd name="adj1" fmla="val -65180"/>
              <a:gd name="adj2" fmla="val 129166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iwa, Son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191120"/>
            <a:ext cx="914400" cy="685800"/>
          </a:xfrm>
          <a:prstGeom prst="cloudCallout">
            <a:avLst>
              <a:gd name="adj1" fmla="val 50694"/>
              <a:gd name="adj2" fmla="val 125231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4120" y="5105520"/>
            <a:ext cx="914400" cy="609480"/>
          </a:xfrm>
          <a:prstGeom prst="cloudCallout">
            <a:avLst>
              <a:gd name="adj1" fmla="val -92361"/>
              <a:gd name="adj2" fmla="val 20050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5181480"/>
            <a:ext cx="838080" cy="533520"/>
          </a:xfrm>
          <a:prstGeom prst="cloudCallout">
            <a:avLst>
              <a:gd name="adj1" fmla="val 91097"/>
              <a:gd name="adj2" fmla="val 31847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39560" y="4343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457200" cy="339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5486400" y="5257800"/>
            <a:ext cx="533520" cy="417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82132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5638680"/>
            <a:ext cx="230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j.; Frente al dese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rar una radio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ceso de Compr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5320" y="2590920"/>
            <a:ext cx="1752480" cy="99036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cienci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2590920"/>
            <a:ext cx="1752480" cy="99036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úsqued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4572000"/>
            <a:ext cx="1752480" cy="99072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valuación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4572000"/>
            <a:ext cx="1752840" cy="99072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4572000"/>
            <a:ext cx="1752480" cy="99072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valu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st 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9092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3048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8120" y="5105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924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62720" y="5029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295280" y="2286000"/>
          <a:ext cx="11908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1908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094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Tipos de Compr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9" name="UpRibbonSharp"/>
          <p:cNvSpPr/>
          <p:nvPr/>
        </p:nvSpPr>
        <p:spPr>
          <a:xfrm>
            <a:off x="533520" y="2286000"/>
            <a:ext cx="2895480" cy="1219320"/>
          </a:xfrm>
          <a:custGeom>
            <a:avLst/>
            <a:gdLst>
              <a:gd name="textAreaLeft" fmla="*/ 723960 w 2895480"/>
              <a:gd name="textAreaRight" fmla="*/ 2171880 w 289548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Impul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chocol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UpRibbonSharp"/>
          <p:cNvSpPr/>
          <p:nvPr/>
        </p:nvSpPr>
        <p:spPr>
          <a:xfrm>
            <a:off x="5562720" y="4724280"/>
            <a:ext cx="3276360" cy="1219320"/>
          </a:xfrm>
          <a:custGeom>
            <a:avLst/>
            <a:gdLst>
              <a:gd name="textAreaLeft" fmla="*/ 819000 w 3276360"/>
              <a:gd name="textAreaRight" fmla="*/ 2457360 w 327636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c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UpRibbonSharp"/>
          <p:cNvSpPr/>
          <p:nvPr/>
        </p:nvSpPr>
        <p:spPr>
          <a:xfrm>
            <a:off x="5486400" y="2286000"/>
            <a:ext cx="3352680" cy="12193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computa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UpRibbonSharp"/>
          <p:cNvSpPr/>
          <p:nvPr/>
        </p:nvSpPr>
        <p:spPr>
          <a:xfrm>
            <a:off x="533520" y="4724280"/>
            <a:ext cx="3200400" cy="121932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ro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9383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l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048120"/>
            <a:ext cx="236232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traer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4800600"/>
            <a:ext cx="236232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etener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ct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05120" y="3733920"/>
            <a:ext cx="22860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Objetivo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191120" y="3429000"/>
            <a:ext cx="1676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449568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705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40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GLOBALIZACION DE LA ECONOM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GENCIAS AMBIENTA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ROL PROTAGONICO DEL CLIE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STENCIA DE UNA SOCIEDAD INFORMATIZ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STENCIA DE MUCHOS BIENES Y/O SERVICI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HIPERCOMPETENC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GENCIAS AL PROCESO Y AL PRODUC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COMPETENCIA MULTICONTAC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MPRESAS MAS PEQUEÑAS Y FLEXI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CAMBIO DEL CONCEPTO TRABAJO AL DE EMPLE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692000" y="98100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Times New Roman"/>
              </a:rPr>
              <a:t>TENDENCIAS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Segmentación de Mercad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2147400"/>
            <a:ext cx="792468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s el proceso de dividir un grupo heterogéneo de compradores actuales y/o potenciales, en grupos homogéneos, con características, hábitos, necesidades y deseos relativamente similares”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2743200" cy="2336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324480" y="3733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fes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409720" y="39625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72200" y="52578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Jubi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5334120" y="52574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28800" y="36576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ásica y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4114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54100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stud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cund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5410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43600" y="6095880"/>
            <a:ext cx="167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43600" y="6095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ueñas de 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571640" y="579096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Variables de la Segmenta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1981440" cy="16873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914400" y="2438280"/>
            <a:ext cx="2286000" cy="1067040"/>
          </a:xfrm>
          <a:prstGeom prst="ellipse">
            <a:avLst/>
          </a:prstGeom>
          <a:gradFill rotWithShape="0">
            <a:gsLst>
              <a:gs pos="0">
                <a:srgbClr val="fe5932"/>
              </a:gs>
              <a:gs pos="100000">
                <a:srgbClr val="75291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e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457200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d05646"/>
              </a:gs>
              <a:gs pos="100000">
                <a:srgbClr val="5f272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emográ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43600" y="4724280"/>
            <a:ext cx="2286000" cy="1067040"/>
          </a:xfrm>
          <a:prstGeom prst="ellipse">
            <a:avLst/>
          </a:prstGeom>
          <a:gradFill rotWithShape="0">
            <a:gsLst>
              <a:gs pos="0">
                <a:srgbClr val="f56b5d"/>
              </a:gs>
              <a:gs pos="100000">
                <a:srgbClr val="70312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du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236232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f86956"/>
              </a:gs>
              <a:gs pos="100000">
                <a:srgbClr val="72302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sic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048120"/>
            <a:ext cx="7617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352680" y="472392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333760" y="312408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562360" y="44197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Beneficios de la Segmenta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2286000"/>
            <a:ext cx="9144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124080"/>
            <a:ext cx="91440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3962520"/>
            <a:ext cx="9144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819520" y="4218120"/>
            <a:ext cx="3352680" cy="21812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676520" y="2057400"/>
            <a:ext cx="2514600" cy="1600200"/>
          </a:xfrm>
          <a:prstGeom prst="downArrowCallout">
            <a:avLst>
              <a:gd name="adj1" fmla="val 39289"/>
              <a:gd name="adj2" fmla="val 3928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rovee guía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l diseño de nue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2057400"/>
            <a:ext cx="2514600" cy="1600200"/>
          </a:xfrm>
          <a:prstGeom prst="downArrowCallout">
            <a:avLst>
              <a:gd name="adj1" fmla="val 39289"/>
              <a:gd name="adj2" fmla="val 3928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rovee guía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l 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920" y="4038480"/>
            <a:ext cx="2286000" cy="2057400"/>
          </a:xfrm>
          <a:prstGeom prst="rightArrowCallout">
            <a:avLst>
              <a:gd name="adj1" fmla="val 25002"/>
              <a:gd name="adj2" fmla="val 25000"/>
              <a:gd name="adj3" fmla="val 18519"/>
              <a:gd name="adj4" fmla="val 66667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er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mejo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 asig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4114800"/>
            <a:ext cx="2666880" cy="2133720"/>
          </a:xfrm>
          <a:prstGeom prst="leftArrowCallout">
            <a:avLst>
              <a:gd name="adj1" fmla="val 22326"/>
              <a:gd name="adj2" fmla="val 21653"/>
              <a:gd name="adj3" fmla="val 20310"/>
              <a:gd name="adj4" fmla="val 66673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erm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dent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ondiciones de una Buena Segmenta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2362320"/>
            <a:ext cx="7391520" cy="76176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riterio de la segmentación ha de ser mens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os datos que las describen deben ser obtenib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505320"/>
            <a:ext cx="7391520" cy="144756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egmento de mercado tiene que ser accesible a travé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ituciones actuales de marke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rmediarios, medios publicitarios, fuerzas de ventas de la compañí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un costo mínimo y sin desperdiciar esfuerz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66680" y="5257800"/>
            <a:ext cx="7467840" cy="76212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egmento ha de ser lo bastante grande para que resulte rentabl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ercado Meta u Objetiv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581280" y="4038480"/>
            <a:ext cx="2319480" cy="2183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85800" y="205740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 homogéneo, de compr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y/o potenciales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características, hábitos, neces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deseos relativamente similares, al cual dirigi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nuestros esfuerzos de marketing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Creación y Captura de Valor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838080" y="1893960"/>
            <a:ext cx="7467840" cy="465912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Evaluación y Origen del Valor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62120" y="1744560"/>
            <a:ext cx="7524720" cy="485316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066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ERA DE LEALT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No todas las personas valen lo mismo para la empres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6248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715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13372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1972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4197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6294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696080" y="3580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9320" y="4876920"/>
            <a:ext cx="128412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ospech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5257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54600" y="3657600"/>
            <a:ext cx="122148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86480" y="4267080"/>
            <a:ext cx="108432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09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3392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73920" y="3124080"/>
            <a:ext cx="133596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769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9200" y="5867280"/>
            <a:ext cx="1335960" cy="64260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isf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095880" y="4495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11480" y="4876920"/>
            <a:ext cx="1337400" cy="64260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inci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7162920" y="4190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45360" y="4267080"/>
            <a:ext cx="166680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comend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2296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2590920" y="2362320"/>
          <a:ext cx="411480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590920" y="2362320"/>
                    <a:ext cx="4114800" cy="3124080"/>
                  </a:xfrm>
                  <a:prstGeom prst="rect">
                    <a:avLst/>
                  </a:prstGeom>
                  <a:ln w="1584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572000" y="2362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9625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13160" y="2666880"/>
            <a:ext cx="204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ten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vertir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omend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029560" y="3124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ide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1440" y="426708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umen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5480" y="426708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ntener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o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1160" y="3648240"/>
            <a:ext cx="10494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16360" y="6095880"/>
            <a:ext cx="16239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ide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64120" y="5527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60680" y="55627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49720" y="45720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73760" y="28195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4080" y="1219320"/>
            <a:ext cx="68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cc6600"/>
                </a:solidFill>
                <a:latin typeface="Times New Roman"/>
              </a:rPr>
              <a:t>Segmentación por Valor y Fide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800" y="2680920"/>
            <a:ext cx="7772400" cy="211932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o es su sólo su compra instantánea. Sino que todas las compras que realiza a través de su vida del producto y los nuevos clientes que genera (recomendación)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221120" y="1066680"/>
            <a:ext cx="72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6600"/>
                </a:solidFill>
                <a:latin typeface="Times New Roman"/>
              </a:rPr>
              <a:t>¿ Cuál es el Valor de un Client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88000" y="3789360"/>
            <a:ext cx="3744720" cy="284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92720" y="4708440"/>
            <a:ext cx="2514600" cy="1600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00720" y="5589720"/>
            <a:ext cx="457200" cy="304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81640" y="4070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cr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35640" y="5078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b. 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76320"/>
            <a:ext cx="441972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        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CRO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Leyes y polí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Valores so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        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 COMPETI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Competi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Provee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Compr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Sustitu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Nuevos entr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5520" y="836640"/>
            <a:ext cx="342900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le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soc. Grem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soc. Comer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obier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rupos polít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00680" y="1752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 Cuáles son los Activos más Importantes para la institu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1185840" cy="1519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838080" y="3352680"/>
            <a:ext cx="1600200" cy="1371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914400" y="3200040"/>
            <a:ext cx="1523880" cy="1600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629400" y="3505320"/>
            <a:ext cx="1436760" cy="11221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324480" y="3429000"/>
            <a:ext cx="1905120" cy="12952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248520" y="3352680"/>
            <a:ext cx="1904760" cy="13716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743200" y="5105520"/>
            <a:ext cx="3581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S CLIENTE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3581280" y="3276720"/>
            <a:ext cx="1219320" cy="15746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8120" y="3124080"/>
            <a:ext cx="2209680" cy="190512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Investigación de Mercad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0880" y="2209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“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función que enlaza al consumidor con el comercializa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vés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 la información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tá información se utiliza para identificar y definir 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portunidades y problemas del marketing, así como también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fecciona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y evaluar las acciones del marketing; monitorear el desempeño y mejo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a comprensión del marketing como un proceso</a:t>
            </a:r>
            <a:r>
              <a:rPr b="0" lang="es-ES_tradnl" sz="2000" spc="-1" strike="noStrike" u="sng">
                <a:solidFill>
                  <a:srgbClr val="800080"/>
                </a:solidFill>
                <a:uFillTx/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581280" y="4495680"/>
            <a:ext cx="1973520" cy="18241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09480" y="30481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516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Pasos de la Investigación de Mercado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47920" y="2133720"/>
            <a:ext cx="236196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ecer la 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información (recono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 definir el proble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3505320"/>
            <a:ext cx="2361960" cy="8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inición de 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la Investigación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cesidades de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4572000"/>
            <a:ext cx="2361960" cy="747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pecificar el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la Investigación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entes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47920" y="5486400"/>
            <a:ext cx="236196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arrollar el Métod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olección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15000" y="2133720"/>
            <a:ext cx="1905120" cy="1066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iseño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oced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ues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3809880"/>
            <a:ext cx="1904760" cy="571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dimie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91320" y="4724280"/>
            <a:ext cx="1904760" cy="443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álisi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91320" y="5638680"/>
            <a:ext cx="1904760" cy="541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enta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146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909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909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294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3886200" y="2743200"/>
            <a:ext cx="175248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onducta del Consumido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635280"/>
            <a:ext cx="9144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38080" y="1905120"/>
            <a:ext cx="74678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conjunto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ísicas, procesos mentales y emocionales de dec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os individuos realizan cu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úan, seleccionan, adquieren y utilizan bienes y servi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3962520" y="3809880"/>
            <a:ext cx="116208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Variables que afectan la Conducta del Consumido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4080" y="5029200"/>
            <a:ext cx="1522440" cy="83808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fec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5105520"/>
            <a:ext cx="1676160" cy="83808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6720" y="2743200"/>
            <a:ext cx="1981080" cy="83808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duc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828800" y="3124080"/>
            <a:ext cx="137160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57913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4120" y="3124080"/>
            <a:ext cx="129528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1240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osicionamien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2120" y="1905120"/>
            <a:ext cx="7696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y acciones de una compañía, cuya fi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istinguirla favorablemente de los competidores en la 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gunos grupos de consumidore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876600" cy="7621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4876920" y="5334120"/>
            <a:ext cx="1057320" cy="4093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133720" y="4876920"/>
            <a:ext cx="2057400" cy="6858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3733920" y="3886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5"/>
          <a:stretch/>
        </p:blipFill>
        <p:spPr>
          <a:xfrm>
            <a:off x="5867280" y="3886200"/>
            <a:ext cx="676440" cy="9144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6"/>
          <a:stretch/>
        </p:blipFill>
        <p:spPr>
          <a:xfrm>
            <a:off x="7391520" y="4114800"/>
            <a:ext cx="79992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0" name=""/>
          <p:cNvGraphicFramePr/>
          <p:nvPr/>
        </p:nvGraphicFramePr>
        <p:xfrm>
          <a:off x="6781680" y="5181480"/>
          <a:ext cx="162576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5181480"/>
                    <a:ext cx="162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strategias de Posicionamien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886200" y="3352680"/>
            <a:ext cx="1474920" cy="15224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066680" y="2819520"/>
            <a:ext cx="1600200" cy="761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Atrib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38480" y="52578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Asociad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una Id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0720" y="43434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77120" y="45720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Un compet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48520" y="27432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Categorí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86200" y="2133720"/>
            <a:ext cx="1600200" cy="761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Uso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apa de Posicionamien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905120"/>
            <a:ext cx="365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permite visualiz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ercepción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xiste  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nsumidore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erca de  nuestro produc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iéndonos realizar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aciones pertinen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nuestra estrategia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81680" y="2057400"/>
            <a:ext cx="0" cy="4191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2880" y="3962520"/>
            <a:ext cx="3886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172200" y="3276720"/>
            <a:ext cx="533520" cy="60948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4419720"/>
            <a:ext cx="838440" cy="9144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15200" y="2286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19920" y="5029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286000"/>
            <a:ext cx="380880" cy="4572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48320" y="4191120"/>
            <a:ext cx="1523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6248520"/>
            <a:ext cx="1447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914400" y="1295280"/>
            <a:ext cx="7391520" cy="5334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Book Antiqua"/>
              </a:rPr>
              <a:t>Funciones de la Administ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343400" y="1447920"/>
            <a:ext cx="1523880" cy="14475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Qué 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4724280"/>
            <a:ext cx="1524240" cy="1447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77120" y="2971800"/>
            <a:ext cx="152388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Cómo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33720" y="2971800"/>
            <a:ext cx="1523880" cy="1447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Ver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5120" y="3352680"/>
            <a:ext cx="251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PROCESO  DE 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ADMINIST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19920" y="1905120"/>
            <a:ext cx="1143000" cy="83808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5943600" y="4495680"/>
            <a:ext cx="990720" cy="99072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123720" y="4572000"/>
            <a:ext cx="1219320" cy="91440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276720" y="1980720"/>
            <a:ext cx="990360" cy="83844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2514600"/>
            <a:ext cx="76212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5866920" y="4267080"/>
            <a:ext cx="685800" cy="6098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81280" y="4343400"/>
            <a:ext cx="83844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657600" y="2514600"/>
            <a:ext cx="68580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537960" y="191916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10400" y="19810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7480" y="50292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10400" y="50292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33920" y="3733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2895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lanificación Estratégic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eso administrativo de desarrollar  y mantener la relación entre los recursos y los objetivos de la organización, ante un medio ambiente cambiante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 tiene como objetivo formular y reformular los negocios y productos de una empre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276720" y="4267080"/>
            <a:ext cx="26668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ahoma"/>
              </a:rPr>
              <a:t>Es el estado de privación que siente una persona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*  Son abundantes y complicada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*  Forman parte de la naturaleza 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    human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* Las personas buscan cosas que 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    satisfagan sus necesidade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11430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NECES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066680" y="1436760"/>
            <a:ext cx="7162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 DE PLANIFICACION ESTRATE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miento de misión, visión y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Oportunidades y Amenaz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Fortalezas y Debilidad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ulación de estrate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 de estrate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ol Estraté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685440" y="2930040"/>
            <a:ext cx="7759800" cy="2514600"/>
          </a:xfrm>
          <a:prstGeom prst="rect">
            <a:avLst/>
          </a:prstGeom>
          <a:solidFill>
            <a:srgbClr val="ccffff"/>
          </a:solidFill>
          <a:ln w="12600">
            <a:solidFill>
              <a:srgbClr val="ff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 EL ENUNCIADO DE SU RAZON DE EXISTIR, IDENTIFICANDO LA FUNCION QUE CUMPLE EN LA SOCIEDAD Y, SU CARÁCTER Y FILOSOFIA BASICA.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708560" y="1644480"/>
            <a:ext cx="51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ISION INSTITU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LA PROYECCION QUE SE DESEA DAR A LA INSTITUCION Y COMO SE ESPERA QUE LOS CLIENTES LA VEAN, DESTACANDOSE SUS ATRIBUTOS Y CARACTERISTICAS MAS RELEVA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ólidez financi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ez en la Atenció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1962720" y="1219320"/>
            <a:ext cx="50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ISION INSTITU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383840" y="2636640"/>
            <a:ext cx="6140520" cy="23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 LOS FINES QUE TRATA DE ALCANZAR LA ORGANIZACIÓN POR MEDIO DE SU EXISTENCIA Y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1107720" y="1111320"/>
            <a:ext cx="69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OBJETIVOS INSTITU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615600" y="2292120"/>
            <a:ext cx="8070840" cy="2889000"/>
          </a:xfrm>
          <a:prstGeom prst="rect">
            <a:avLst/>
          </a:prstGeom>
          <a:solidFill>
            <a:srgbClr val="ccffff"/>
          </a:solidFill>
          <a:ln w="12600">
            <a:solidFill>
              <a:srgbClr val="ff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SON LOS FUNDAMENTOS BASICOS SO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LOS CUALES SE CONSTRUYE LA EMPRE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ES Y SER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REALIZARA SU TRA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SERA SU RECURSO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SE RELACIONARA CON SU ENTO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>
            <a:off x="318960" y="1162080"/>
            <a:ext cx="85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PRINCIPIOS Y VALORE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cc6600"/>
                </a:solidFill>
                <a:latin typeface="Times New Roman"/>
              </a:rPr>
              <a:t>FOD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87640" y="1681200"/>
            <a:ext cx="1440000" cy="1440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12000" y="1681200"/>
            <a:ext cx="143964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87640" y="3213000"/>
            <a:ext cx="1440000" cy="1440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98920" y="3192480"/>
            <a:ext cx="1440000" cy="1440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12000" y="3192480"/>
            <a:ext cx="1439640" cy="1440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87640" y="4705200"/>
            <a:ext cx="1440000" cy="1440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98920" y="4705200"/>
            <a:ext cx="1440000" cy="14400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12000" y="4705200"/>
            <a:ext cx="1439640" cy="1440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98920" y="1681200"/>
            <a:ext cx="144000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720" y="17002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13440" y="177336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60720" y="328464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60720" y="486900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527440" y="1314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91400" y="13143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5400000">
            <a:off x="5203080" y="-264240"/>
            <a:ext cx="503280" cy="2952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82200" y="52084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429000"/>
            <a:ext cx="432000" cy="237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8360" y="4300560"/>
            <a:ext cx="11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35240" y="36241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48360" y="2924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08360" y="386064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24360" y="292428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780000" y="5373720"/>
            <a:ext cx="107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59640" y="2924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80000" y="4292640"/>
            <a:ext cx="28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6000" y="2924280"/>
            <a:ext cx="0" cy="24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51280" y="5805360"/>
            <a:ext cx="2665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cc6600"/>
                </a:solidFill>
                <a:latin typeface="Times New Roman"/>
              </a:rPr>
              <a:t>Acciones Estratégicas FOD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 F-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mis fortalezas puede aprovechar las oportunidades que me ofrece el ento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s D-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las oportunidades que me ofrece el entorno, puedo minimizar mis debil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s F-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mis fortalezas puedo minimizar el impacto de las amenazas exter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s D-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mis debilidades hago que el impacto de las amenazas, sea mínimo para la empr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73040" y="-766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6600"/>
                </a:solidFill>
                <a:latin typeface="Times New Roman"/>
              </a:rPr>
              <a:t>PLANIFICACION Y CONTROL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1484280"/>
            <a:ext cx="3429000" cy="441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2046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Comic Sans MS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00000" y="3141720"/>
            <a:ext cx="2880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Establece metas deseadas y planes para cumplirlas que deben verific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Necesita información precisa y oport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216320" y="1547640"/>
            <a:ext cx="4648320" cy="4419360"/>
            <a:chOff x="4216320" y="1547640"/>
            <a:chExt cx="4648320" cy="4419360"/>
          </a:xfrm>
        </p:grpSpPr>
        <p:grpSp>
          <p:nvGrpSpPr>
            <p:cNvPr id="660" name=""/>
            <p:cNvGrpSpPr/>
            <p:nvPr/>
          </p:nvGrpSpPr>
          <p:grpSpPr>
            <a:xfrm>
              <a:off x="4216320" y="1547640"/>
              <a:ext cx="4648320" cy="4419360"/>
              <a:chOff x="4216320" y="1547640"/>
              <a:chExt cx="4648320" cy="4419360"/>
            </a:xfrm>
          </p:grpSpPr>
          <p:sp>
            <p:nvSpPr>
              <p:cNvPr id="661" name=""/>
              <p:cNvSpPr/>
              <p:nvPr/>
            </p:nvSpPr>
            <p:spPr>
              <a:xfrm>
                <a:off x="5435640" y="1547640"/>
                <a:ext cx="3429000" cy="4419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16320" y="2479320"/>
                <a:ext cx="990720" cy="381240"/>
              </a:xfrm>
              <a:prstGeom prst="leftRightArrow">
                <a:avLst>
                  <a:gd name="adj1" fmla="val 50000"/>
                  <a:gd name="adj2" fmla="val 51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5968800" y="2033280"/>
              <a:ext cx="15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r>
                <a:rPr b="1" lang="es-CL" sz="2400" spc="-1" strike="noStrike">
                  <a:solidFill>
                    <a:srgbClr val="ff0000"/>
                  </a:solidFill>
                  <a:latin typeface="Comic Sans MS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7920" y="3128760"/>
              <a:ext cx="304632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CL" sz="2000" spc="-1" strike="noStrike">
                  <a:solidFill>
                    <a:srgbClr val="ff0000"/>
                  </a:solidFill>
                  <a:latin typeface="Comic Sans MS"/>
                </a:rPr>
                <a:t>Mide resultados reales, ayuda a verificar metas y reorientar pla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CL" sz="2000" spc="-1" strike="noStrike">
                  <a:solidFill>
                    <a:srgbClr val="ff0000"/>
                  </a:solidFill>
                  <a:latin typeface="Comic Sans MS"/>
                </a:rPr>
                <a:t>Entregan información que apoya la plan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09320" y="151920"/>
            <a:ext cx="39610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cc6600"/>
                </a:solidFill>
                <a:latin typeface="Times New Roman"/>
              </a:rPr>
              <a:t>CONTRO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42920" y="2133720"/>
            <a:ext cx="727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del desempeño y aplicación de medidas para corregir lo que se está haciendo de manera de cumplir los objetivos de la empresa y los planes establecidos para lograr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n los mecanismos utilizados para verificar el cumplimiento de l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609480" y="1197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UÁL ES LA FUNCIÓN DEL LI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275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luir sobre otros para alcanza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1680" y="3840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ear una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50594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l tanto de los cam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e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57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n la forma que adoptan las necesidades humanas de acuerdo a la cultura y la personalidad individu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* Un hombre en un día muy calurosa compra en Santiago una bebida (en Brasil agua de coco) bien helada (producto-deseo) pero lo que busca realmente es satisfacer su necesidad (Sed).</a:t>
            </a:r>
            <a:r>
              <a:rPr b="1" lang="es-ES_tradnl" sz="3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3393360" y="990720"/>
            <a:ext cx="235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DES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4360" y="1125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ISTICAS DE LOS LI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42920" y="2276640"/>
            <a:ext cx="5334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p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tivación de 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nza en sí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imiento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dad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11280" y="907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DERAZGO v/s ADMINIS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1754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1680" y="2287440"/>
            <a:ext cx="36194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questar el cambio con efe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er el rumbo/visión para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spirar a la gente a realizar su visión ( -&gt; motiv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1754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MINIS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62440" y="2287440"/>
            <a:ext cx="36194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ear y presupuestar rut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r a la organización y dotarla de gente ca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visar su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foque de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5199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mbos, administración de procesos y liderazgo efectivo son importantes y vitales para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684360" y="1052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RECCION Y 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16574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DERAZGO ESTRATE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1680" y="2190600"/>
            <a:ext cx="3619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 propósito y significado a las organ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negocios exige pensamiento estraté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24280" y="166356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DERAZGO DE SUPER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62440" y="2190600"/>
            <a:ext cx="361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rtamiento que ofrece guía, apoyo y retroalimentación de las actividades cotidianas de los miembros de la unidades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52560" y="4705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Filename: BD19908_.wmf&#13;Keywords: businessmen, businesspeople, gestures ...&#13;File Size: 38 KB"/>
          <p:cNvPicPr/>
          <p:nvPr/>
        </p:nvPicPr>
        <p:blipFill>
          <a:blip r:embed="rId1"/>
          <a:stretch/>
        </p:blipFill>
        <p:spPr>
          <a:xfrm>
            <a:off x="2971800" y="4019400"/>
            <a:ext cx="2193840" cy="21942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5334120" y="4324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5222880"/>
            <a:ext cx="22478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samiento 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34120" y="4781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der “lograr que ocurran cosas a pesar de la resistenc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657600" y="3124080"/>
            <a:ext cx="1295280" cy="121932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81080" y="1600200"/>
            <a:ext cx="4800600" cy="46483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52680" y="2971800"/>
            <a:ext cx="1981440" cy="175248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590560" y="4495680"/>
            <a:ext cx="106668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4419720"/>
            <a:ext cx="114300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5105520" y="22860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2743200" y="2209680"/>
            <a:ext cx="91440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05320" y="2286000"/>
            <a:ext cx="182880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05320" y="5410080"/>
            <a:ext cx="1904760" cy="609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09680" y="4114800"/>
            <a:ext cx="114300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10080" y="3124080"/>
            <a:ext cx="1219320" cy="685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05320" y="3581280"/>
            <a:ext cx="167616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838080" cy="8240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1112760" cy="135252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3962520" y="4572000"/>
            <a:ext cx="1137960" cy="10047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3962520" y="1676520"/>
            <a:ext cx="812520" cy="757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1482480" y="1036080"/>
            <a:ext cx="65678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EZCLA COMERCIAL(MARKETING M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iclo de Vida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66680" y="2286000"/>
            <a:ext cx="0" cy="3276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066680" y="5562720"/>
            <a:ext cx="6705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66680" y="2819520"/>
            <a:ext cx="6629400" cy="1676160"/>
          </a:xfrm>
          <a:custGeom>
            <a:avLst/>
            <a:gdLst/>
            <a:ahLst/>
            <a:rect l="l" t="t" r="r" b="b"/>
            <a:pathLst>
              <a:path w="6480" h="2040">
                <a:moveTo>
                  <a:pt x="0" y="2040"/>
                </a:moveTo>
                <a:cubicBezTo>
                  <a:pt x="210" y="2040"/>
                  <a:pt x="420" y="2040"/>
                  <a:pt x="720" y="1860"/>
                </a:cubicBezTo>
                <a:cubicBezTo>
                  <a:pt x="1020" y="1680"/>
                  <a:pt x="1500" y="1230"/>
                  <a:pt x="1800" y="960"/>
                </a:cubicBezTo>
                <a:cubicBezTo>
                  <a:pt x="2100" y="690"/>
                  <a:pt x="2310" y="390"/>
                  <a:pt x="2520" y="240"/>
                </a:cubicBezTo>
                <a:cubicBezTo>
                  <a:pt x="2730" y="90"/>
                  <a:pt x="2730" y="0"/>
                  <a:pt x="3060" y="60"/>
                </a:cubicBezTo>
                <a:cubicBezTo>
                  <a:pt x="3390" y="120"/>
                  <a:pt x="4110" y="450"/>
                  <a:pt x="4500" y="600"/>
                </a:cubicBezTo>
                <a:cubicBezTo>
                  <a:pt x="4890" y="750"/>
                  <a:pt x="5070" y="870"/>
                  <a:pt x="5400" y="960"/>
                </a:cubicBezTo>
                <a:cubicBezTo>
                  <a:pt x="5730" y="1050"/>
                  <a:pt x="6300" y="1110"/>
                  <a:pt x="6480" y="114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13372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213372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5000" y="213372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37160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1952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6708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adu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588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05720" y="57150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6019920" y="3733920"/>
            <a:ext cx="23176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0880" y="21477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aquello que se recibe a cambio de algo, puede ser tangible o intangible y comprende servicios generales o beneficios funcionales sociales y sicológicos. Puede ser una idea, un servicio o un bien, o cualquier combinación de estos tres element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1143000" cy="8794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1260360" cy="152100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6781680" y="44197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533520" y="5486400"/>
            <a:ext cx="2971800" cy="762120"/>
          </a:xfrm>
          <a:prstGeom prst="rect">
            <a:avLst/>
          </a:prstGeom>
          <a:solidFill>
            <a:srgbClr val="3399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ar hasta que duel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adre Hur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 la Variable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2286000"/>
            <a:ext cx="3352680" cy="129528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vestiga los dese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2880" y="2286000"/>
            <a:ext cx="3353040" cy="129528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iseñar producto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caracterí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se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3520" y="4800600"/>
            <a:ext cx="3352680" cy="144792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a o modifica env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 nombres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29200" y="4876920"/>
            <a:ext cx="3352680" cy="144756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a servic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arantía y de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81080" y="3657600"/>
            <a:ext cx="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62520" y="281952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2520" y="556272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00800" y="3657600"/>
            <a:ext cx="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omponentes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Variable Producto está compuesto 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v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946240" cy="27464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3048120" y="56386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038480" y="5105160"/>
            <a:ext cx="60984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19920" y="274320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le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5943600" y="2895480"/>
            <a:ext cx="4572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96080" y="5029200"/>
            <a:ext cx="1219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nv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7162560" y="5105160"/>
            <a:ext cx="53316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 su vez el producto se subdivide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er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2946600" cy="274644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914400" y="525780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uerpo: telev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 metal, con pantall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istal y botones plás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3886200" y="4419720"/>
            <a:ext cx="1219320" cy="12189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62720" y="1219320"/>
            <a:ext cx="3200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Núcleo: Alt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nido stereo ,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6476760" y="22860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"/>
          <p:cNvGraphicFramePr/>
          <p:nvPr/>
        </p:nvGraphicFramePr>
        <p:xfrm>
          <a:off x="1368360" y="2376360"/>
          <a:ext cx="647532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2376360"/>
                    <a:ext cx="64753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1813680" y="5165640"/>
            <a:ext cx="192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51800" y="5241960"/>
            <a:ext cx="12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17280" y="6080040"/>
            <a:ext cx="601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XISTE SATISFACCION DEL DE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51400" y="1295280"/>
            <a:ext cx="55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e5d093"/>
                </a:solidFill>
                <a:latin typeface="Times New Roman"/>
              </a:rPr>
              <a:t>PRODUCTO - DES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DEMANDA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on los deseos respaldados por el poder adquisiti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* En el caso de Chile 15 millones de chilenos demandan 70 millones de Coca Colas en el añ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738680" y="5029200"/>
          <a:ext cx="3957480" cy="14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8680" y="5029200"/>
                    <a:ext cx="39574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iclo de Vida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“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 define como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a demanda agregada durante un largo período para todas las marcas que comprenden la categoría genérica de productos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657600" y="4267080"/>
            <a:ext cx="193032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odelo </a:t>
            </a:r>
            <a:br>
              <a:rPr sz="4400"/>
            </a:b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Boston Consulting Gro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2057400" y="2895480"/>
          <a:ext cx="4952880" cy="3124440"/>
        </p:xfrm>
        <a:graphic>
          <a:graphicData uri="http://schemas.openxmlformats.org/drawingml/2006/table">
            <a:tbl>
              <a:tblPr/>
              <a:tblGrid>
                <a:gridCol w="2514600"/>
                <a:gridCol w="2438280"/>
              </a:tblGrid>
              <a:tr h="15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5105520" y="4724280"/>
            <a:ext cx="1600200" cy="109224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1816200" cy="10652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590920" y="3048120"/>
            <a:ext cx="1269720" cy="1276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5105520" y="3079800"/>
            <a:ext cx="1218960" cy="119376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1981080" y="6172200"/>
            <a:ext cx="5105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articip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4920" y="2971800"/>
            <a:ext cx="1600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57080" y="1149480"/>
            <a:ext cx="684072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mpaq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920000" cy="3949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recipiente externo que contiene y describe el produ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unciones del empa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rote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romo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7"/>
          <a:stretch/>
        </p:blipFill>
        <p:spPr>
          <a:xfrm>
            <a:off x="5626080" y="356220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07600" y="98100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EM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12880" y="1185480"/>
            <a:ext cx="67485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tiquetad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848360" cy="385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a presentación de información importante sobre un paque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 información del contenido del producto está regulada legal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nformación útil – número telefónico gratuito y dirección del fabric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ndicaciones y sugerencias de u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2941560" y="118116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ETIQUE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39800" y="1131480"/>
            <a:ext cx="68752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ff"/>
                </a:solidFill>
                <a:latin typeface="Times New Roman"/>
              </a:rPr>
              <a:t>Calidad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137440" cy="38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l grado al cual un bien, servicio  o idea satisface las demandas y requerimientos de los consumi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 el mercado global, la calidad del producto es un medio fundamental para diferenciarlo y colocarlos sobre la competencia en la mente del consumi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>
            <a:off x="2012040" y="110952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LIDAD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7280" y="981000"/>
            <a:ext cx="68943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strategias de distribució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0920" y="2153880"/>
            <a:ext cx="8064360" cy="403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ahoma"/>
              </a:rPr>
              <a:t>Canales de market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Minoristas (Wal-Mart, Sea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Mayoristas (intermediarios de alimentos para restaurant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Minoristas-E (Amazon.co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ahoma"/>
              </a:rPr>
              <a:t>Administración de la cadena de suministr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Tahoma"/>
              </a:rPr>
              <a:t>Asociaciones a largo plazo entre los miembros del canal de distribución que trabajan para reducir costos, desperdicios y movimientos innecesarios para satisfacer a los consumidor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24000" y="792000"/>
            <a:ext cx="8496000" cy="12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nales para los productos de consum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1320" y="6276960"/>
            <a:ext cx="18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450800" y="2460600"/>
            <a:ext cx="6311880" cy="3454200"/>
            <a:chOff x="1450800" y="2460600"/>
            <a:chExt cx="6311880" cy="3454200"/>
          </a:xfrm>
        </p:grpSpPr>
        <p:sp>
          <p:nvSpPr>
            <p:cNvPr id="781" name=""/>
            <p:cNvSpPr/>
            <p:nvPr/>
          </p:nvSpPr>
          <p:spPr>
            <a:xfrm>
              <a:off x="1450800" y="2460600"/>
              <a:ext cx="140940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52920" y="3174840"/>
              <a:ext cx="140976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nte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52920" y="3889080"/>
              <a:ext cx="1409760" cy="596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52920" y="4603680"/>
              <a:ext cx="1409760" cy="596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52920" y="5317920"/>
              <a:ext cx="140976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84120" y="2460600"/>
              <a:ext cx="140976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717800" y="2460600"/>
              <a:ext cx="140976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352920" y="2460600"/>
              <a:ext cx="140976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17800" y="3889080"/>
              <a:ext cx="1409760" cy="596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84120" y="4603680"/>
              <a:ext cx="1409760" cy="596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717800" y="4603680"/>
              <a:ext cx="1409760" cy="596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50800" y="5317920"/>
              <a:ext cx="140940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84120" y="5317920"/>
              <a:ext cx="140976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717800" y="5317920"/>
              <a:ext cx="140976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49200" y="3057480"/>
              <a:ext cx="0" cy="22096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762000" y="3057480"/>
              <a:ext cx="0" cy="14986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762000" y="5203800"/>
              <a:ext cx="0" cy="12672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1320" y="5203800"/>
              <a:ext cx="0" cy="12672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25560" y="521640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51320" y="449244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25560" y="449244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51320" y="307008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051320" y="3781440"/>
              <a:ext cx="0" cy="12672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12960" y="3082680"/>
              <a:ext cx="0" cy="73656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971360" y="2084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66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477960" y="21034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9900"/>
                </a:solidFill>
                <a:latin typeface="Times New Roman"/>
              </a:rPr>
              <a:t>     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252760" y="2138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37200" y="2157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nal para los Servicio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63160" y="2147760"/>
            <a:ext cx="6807240" cy="4114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or lo general, los servicios 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se producen y consumen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l mismo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4516560" y="3276720"/>
            <a:ext cx="324000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mo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e relaciona con las actividades utilizadas para informar a los individuos o grupos acerca de una organización y sus product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119400" cy="27543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3657600" y="42670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Vote x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 la Variable Promo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9480" y="2286000"/>
            <a:ext cx="3276720" cy="121932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a a conocer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486400" y="2286000"/>
            <a:ext cx="3200400" cy="129528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forma acerca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s nuevo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s ya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4495680"/>
            <a:ext cx="3276720" cy="144792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duca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cerc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410080" y="4495680"/>
            <a:ext cx="3276720" cy="144792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iene el interé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público acer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3581280"/>
            <a:ext cx="0" cy="8384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2819520"/>
            <a:ext cx="12193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6600" y="36576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91120" y="5334120"/>
            <a:ext cx="10666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84320" y="1371600"/>
            <a:ext cx="5791320" cy="4648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35400" y="1371600"/>
            <a:ext cx="4876560" cy="3886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75040" y="1371600"/>
            <a:ext cx="3809880" cy="3048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08560" y="1371600"/>
            <a:ext cx="27432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65760" y="1371600"/>
            <a:ext cx="1904760" cy="1523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32240" y="5410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si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32240" y="45561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32240" y="3733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32240" y="29718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18040" y="21337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to-re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1773360"/>
            <a:ext cx="2663640" cy="3311280"/>
          </a:xfrm>
          <a:prstGeom prst="rightArrowCallout">
            <a:avLst>
              <a:gd name="adj1" fmla="val 31081"/>
              <a:gd name="adj2" fmla="val 31079"/>
              <a:gd name="adj3" fmla="val 16667"/>
              <a:gd name="adj4" fmla="val 66667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rám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ces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Mas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ceso Comunicacion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9000" y="2286000"/>
            <a:ext cx="1981080" cy="1371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os de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81280" y="3124080"/>
            <a:ext cx="1676520" cy="3812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638680" y="2743200"/>
            <a:ext cx="175284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codificac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620120" y="2743200"/>
            <a:ext cx="129528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523880" y="2666880"/>
            <a:ext cx="1600200" cy="6098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8600" y="2666880"/>
            <a:ext cx="103500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867280" y="4495680"/>
            <a:ext cx="1371600" cy="65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23880" y="4495680"/>
            <a:ext cx="1295640" cy="65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24080" y="297180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410080" y="297180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391520" y="304812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19320" y="289548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29600" y="3276720"/>
            <a:ext cx="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7315200" y="487692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895120" y="4800600"/>
            <a:ext cx="2971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85800" y="480060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85800" y="3352680"/>
            <a:ext cx="0" cy="1447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ezcla Promocion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 la combinación de métodos promocionales que se utilizan para promover un producto específico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1523880" cy="133992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743200" cy="137160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3"/>
          <a:stretch/>
        </p:blipFill>
        <p:spPr>
          <a:xfrm>
            <a:off x="914400" y="3995640"/>
            <a:ext cx="1676520" cy="164016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4952880" y="4876920"/>
            <a:ext cx="1143000" cy="5331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</a:rPr>
              <a:t>Vote  x 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362320" y="1447920"/>
            <a:ext cx="4647960" cy="4724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648320" y="1447920"/>
            <a:ext cx="0" cy="4724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62320" y="3962520"/>
            <a:ext cx="4724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43200" y="2666880"/>
            <a:ext cx="16002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952880" y="2666880"/>
            <a:ext cx="160020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95480" y="4343400"/>
            <a:ext cx="160020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4343400"/>
            <a:ext cx="1600200" cy="762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6"/>
          <a:stretch/>
        </p:blipFill>
        <p:spPr>
          <a:xfrm>
            <a:off x="2819520" y="1371600"/>
            <a:ext cx="1170000" cy="13842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7"/>
          <a:stretch/>
        </p:blipFill>
        <p:spPr>
          <a:xfrm>
            <a:off x="2514600" y="4876920"/>
            <a:ext cx="1198440" cy="117288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8"/>
          <a:stretch/>
        </p:blipFill>
        <p:spPr>
          <a:xfrm>
            <a:off x="5105520" y="1676520"/>
            <a:ext cx="1981080" cy="7761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9"/>
          <a:stretch/>
        </p:blipFill>
        <p:spPr>
          <a:xfrm>
            <a:off x="6400800" y="4495680"/>
            <a:ext cx="7509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lementos de la </a:t>
            </a:r>
            <a:br>
              <a:rPr sz="4400"/>
            </a:b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ezcla Promocion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480" y="2666880"/>
            <a:ext cx="7772400" cy="1600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Venta Personal: Es una comunicación personal paga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ue busca informar a los clientes y persuadirlos a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j: tele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5800" y="4572000"/>
            <a:ext cx="7772400" cy="19051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ublicidad: Es una comunicación no personal pagada acer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a organización  y sus productos, que se transmite a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udiencia objetivo empleando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sivo. Ej: comerciales de tele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80880" y="1828800"/>
            <a:ext cx="8001000" cy="19051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paganda: Es comunicación no personal pagada, acerc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a organización, sus productos o ambos, que se transm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or un medio de comunicación masivo sin ningún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j: reportajes en rev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7200" y="4038480"/>
            <a:ext cx="7924680" cy="243864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moción de Ventas: Constituye un material o actividad,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ctúa como estímulo directo que ofrece valor agregad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centivos del producto a intermediarios, vend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j: Muestra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 Personal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215720" y="2147760"/>
            <a:ext cx="68086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en t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es categorías de vendedo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Tomadores de pedi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Vendedores crea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Vendedores de apoy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4843440" y="4334040"/>
            <a:ext cx="30812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4000" y="919080"/>
            <a:ext cx="784836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 V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nt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rsonal es u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roceso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i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tapa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196640" y="2440080"/>
            <a:ext cx="6840360" cy="3822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Búsqueda de prospec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cerc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anejo de obje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ierre – elaboración del pedi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60640" y="807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Herramientas para l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romoción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nta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320480" y="2244600"/>
            <a:ext cx="6662520" cy="400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Aparado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Premi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Muestras y demostracion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Cupon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Concursos y rifas para los consumido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Reembols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Exhibiciones comercial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"/>
          <p:cNvSpPr/>
          <p:nvPr/>
        </p:nvSpPr>
        <p:spPr>
          <a:xfrm>
            <a:off x="5791320" y="6324480"/>
            <a:ext cx="183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7" dur="1" fill="hold"/>
                                  <p:tgtEl>
                                    <p:spTgt spid="8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43000" y="790200"/>
            <a:ext cx="69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Medio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ublicitario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55640" y="2406240"/>
            <a:ext cx="3787920" cy="363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dios Impre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eriód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evi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rreo dir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pectacula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"/>
          <p:cNvSpPr/>
          <p:nvPr/>
        </p:nvSpPr>
        <p:spPr>
          <a:xfrm>
            <a:off x="5791320" y="6324480"/>
            <a:ext cx="183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61000" y="2386080"/>
            <a:ext cx="3843360" cy="363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dio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ectr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elevi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nuncio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Interne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n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25360" y="772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Publicidad en Internet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297080" y="2077920"/>
            <a:ext cx="668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e pronostica que las utilidades totales por publicidad, contenido pagado y comercio electrónico en Estados Unidos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á de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3.3 miles de millones de dólares en el año 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97120" y="5715000"/>
            <a:ext cx="431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ente: “E--MONEY”,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American Demographic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junio 2001, p.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Definición de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 un sistema de actividades interactivas diseñadas para planificar, fijar precios, promover y distribuir bienes y servicios que satisfagan necesidades de clientes actuales y potenciale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Stanton 197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“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 la actividad humana dirigida a satisfacer necesidades y deseos a través del proceso de intercambi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Kotler 1980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87360" y="1030320"/>
            <a:ext cx="678672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strategias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mpuje 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tracció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791320" y="6324480"/>
            <a:ext cx="183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890640" y="2135160"/>
            <a:ext cx="7623360" cy="3263760"/>
            <a:chOff x="890640" y="2135160"/>
            <a:chExt cx="7623360" cy="3263760"/>
          </a:xfrm>
        </p:grpSpPr>
        <p:sp>
          <p:nvSpPr>
            <p:cNvPr id="883" name=""/>
            <p:cNvSpPr/>
            <p:nvPr/>
          </p:nvSpPr>
          <p:spPr>
            <a:xfrm flipV="1">
              <a:off x="7812360" y="5030280"/>
              <a:ext cx="0" cy="36828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90640" y="2693880"/>
              <a:ext cx="7569360" cy="2387520"/>
              <a:chOff x="890640" y="2693880"/>
              <a:chExt cx="7569360" cy="2387520"/>
            </a:xfrm>
          </p:grpSpPr>
          <p:grpSp>
            <p:nvGrpSpPr>
              <p:cNvPr id="885" name=""/>
              <p:cNvGrpSpPr/>
              <p:nvPr/>
            </p:nvGrpSpPr>
            <p:grpSpPr>
              <a:xfrm>
                <a:off x="2338560" y="4555800"/>
                <a:ext cx="671040" cy="274680"/>
                <a:chOff x="2338560" y="4555800"/>
                <a:chExt cx="671040" cy="27468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2338560" y="4605120"/>
                  <a:ext cx="264960" cy="586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22440" y="4555800"/>
                  <a:ext cx="58716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8" name=""/>
              <p:cNvGrpSpPr/>
              <p:nvPr/>
            </p:nvGrpSpPr>
            <p:grpSpPr>
              <a:xfrm>
                <a:off x="6427800" y="4555800"/>
                <a:ext cx="671760" cy="274680"/>
                <a:chOff x="6427800" y="4555800"/>
                <a:chExt cx="671760" cy="27468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6427800" y="4605120"/>
                  <a:ext cx="265320" cy="58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9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12040" y="4555800"/>
                  <a:ext cx="58752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91" name=""/>
              <p:cNvGrpSpPr/>
              <p:nvPr/>
            </p:nvGrpSpPr>
            <p:grpSpPr>
              <a:xfrm>
                <a:off x="4383360" y="4555800"/>
                <a:ext cx="671040" cy="274680"/>
                <a:chOff x="4383360" y="4555800"/>
                <a:chExt cx="671040" cy="27468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4383360" y="4605120"/>
                  <a:ext cx="264960" cy="58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67240" y="4555800"/>
                  <a:ext cx="58716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94" name=""/>
              <p:cNvSpPr/>
              <p:nvPr/>
            </p:nvSpPr>
            <p:spPr>
              <a:xfrm>
                <a:off x="890640" y="2693880"/>
                <a:ext cx="1435320" cy="8128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333880" y="2965320"/>
                <a:ext cx="68256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7024680" y="2693880"/>
                <a:ext cx="1435320" cy="812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980240" y="2693880"/>
                <a:ext cx="1434960" cy="8128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35440" y="2693880"/>
                <a:ext cx="1434960" cy="812880"/>
              </a:xfrm>
              <a:prstGeom prst="rect">
                <a:avLst/>
              </a:prstGeom>
              <a:solidFill>
                <a:srgbClr val="e5d0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423120" y="2965320"/>
                <a:ext cx="6825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378320" y="2965320"/>
                <a:ext cx="6829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1" name=""/>
              <p:cNvSpPr/>
              <p:nvPr/>
            </p:nvSpPr>
            <p:spPr>
              <a:xfrm>
                <a:off x="890640" y="4268520"/>
                <a:ext cx="1435320" cy="8128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24680" y="4268520"/>
                <a:ext cx="1435320" cy="812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80240" y="4268520"/>
                <a:ext cx="1434960" cy="8128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935440" y="4268520"/>
                <a:ext cx="1434960" cy="812880"/>
              </a:xfrm>
              <a:prstGeom prst="rect">
                <a:avLst/>
              </a:prstGeom>
              <a:solidFill>
                <a:srgbClr val="e5d0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1062000" y="28843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62000" y="44845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049560" y="288432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062160" y="448452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13440" y="288432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13440" y="448452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999120" y="288432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012080" y="448452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43040" y="2135160"/>
              <a:ext cx="21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strategia de empu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72840" y="3671640"/>
              <a:ext cx="22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strategia de atr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1563840" y="4052520"/>
              <a:ext cx="0" cy="21600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51240" y="4039920"/>
              <a:ext cx="6184800" cy="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36040" y="4039920"/>
              <a:ext cx="0" cy="22860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40160" y="5398920"/>
              <a:ext cx="6184800" cy="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1652760" y="5081400"/>
              <a:ext cx="0" cy="31752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2933280" y="574344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las 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5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laz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e encarga de disponer de los productos en las cantidades deseadas y en el momento adecuado, para la mayor cantidad de clientes del mercado objetiv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4382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 la Variable Plaz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2286000"/>
            <a:ext cx="3429000" cy="12952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er tan 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mo sea posibl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800600" y="2286000"/>
            <a:ext cx="3505320" cy="12952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eleccionar y Motiv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s intermedi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85800" y="4343400"/>
            <a:ext cx="3429000" cy="1676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ablecer y mante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cedimien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trol a lo larg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dena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00600" y="4343400"/>
            <a:ext cx="3505320" cy="1676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sarrollar y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 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191120" y="289548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36576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77120" y="365760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114800" y="518148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alidad Tot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Es la coordinación de esfuerzos dirigidos a mejorar todos los aspectos de un negocio, desde la calidad del producto y del servicio, hasta la satisfacción del cliente y de los emple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0811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Variable Preci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e relaciona con las decisiones y acciones asociadas al establecimiento de objetivos y políticas de fijación de precios y a la determinación de los precios de los product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24498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 de la Variable Preci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990720" y="2362320"/>
            <a:ext cx="3962160" cy="289548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50000">
                <a:srgbClr val="ccb374"/>
              </a:gs>
              <a:gs pos="100000">
                <a:srgbClr val="5e5235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er una 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secuente entre el pre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 el valor entregado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inter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5486400" y="2860560"/>
            <a:ext cx="28954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Los objetivos más comunes de los precio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129440" cy="3167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aximizar utilidades y v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mpulsar la participación en el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antener el </a:t>
            </a: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status q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obreviv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ntorno del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Consta de  fuerzas competitivas, económicas, políticas, legales y regulatorias, socioculturales, y tecnológicas. Las cuales rodean a la mezcla de marketing y al consumi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19814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1905120" y="1066680"/>
            <a:ext cx="5486400" cy="533412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2286000"/>
            <a:ext cx="2971800" cy="274320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38480" y="3048120"/>
            <a:ext cx="1371600" cy="121896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9880" y="1447920"/>
            <a:ext cx="167652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ociocultu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962520" y="5334120"/>
            <a:ext cx="205740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y regulat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62320" y="4724280"/>
            <a:ext cx="114300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ecnológ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867280" y="2286000"/>
            <a:ext cx="1143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eti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248520" y="3809880"/>
            <a:ext cx="914400" cy="838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í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362320" y="2362320"/>
            <a:ext cx="8380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conó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05320" y="2819520"/>
            <a:ext cx="6858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3733560" y="4114800"/>
            <a:ext cx="53316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257800" y="2743200"/>
            <a:ext cx="53352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2590920"/>
            <a:ext cx="106668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181480" y="4114800"/>
            <a:ext cx="6098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267080" y="4419720"/>
            <a:ext cx="1143000" cy="304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52680" y="3429000"/>
            <a:ext cx="60984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la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3429000"/>
            <a:ext cx="6094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7315200" y="251460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ESTRUCTURA ORGANIZACIONA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26920" y="242100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formal de relaciones de trabajo para la división de tareas y la coordinación de éstas que permita cumplir con eficiencia las metas organiz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mite a los empleados trabajar en común eficazmente ya que se asignan las tareas y responsabilidades de cada cual y qué se espera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ones del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2133720"/>
            <a:ext cx="6248520" cy="12189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2514600"/>
            <a:ext cx="5486400" cy="762120"/>
          </a:xfrm>
          <a:prstGeom prst="rightArrow">
            <a:avLst>
              <a:gd name="adj1" fmla="val 50000"/>
              <a:gd name="adj2" fmla="val 179972"/>
            </a:avLst>
          </a:prstGeom>
          <a:solidFill>
            <a:srgbClr val="ffec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 LA 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3505320"/>
            <a:ext cx="6248520" cy="1143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3809880"/>
            <a:ext cx="2590920" cy="762120"/>
          </a:xfrm>
          <a:prstGeom prst="rightArrow">
            <a:avLst>
              <a:gd name="adj1" fmla="val 50000"/>
              <a:gd name="adj2" fmla="val 8499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 LA 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3809880"/>
            <a:ext cx="2666880" cy="762120"/>
          </a:xfrm>
          <a:prstGeom prst="rightArrow">
            <a:avLst>
              <a:gd name="adj1" fmla="val 50000"/>
              <a:gd name="adj2" fmla="val 8748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 LAS 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4724280"/>
            <a:ext cx="6248520" cy="121932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5105520"/>
            <a:ext cx="1600200" cy="761760"/>
          </a:xfrm>
          <a:prstGeom prst="rightArrow">
            <a:avLst>
              <a:gd name="adj1" fmla="val 50000"/>
              <a:gd name="adj2" fmla="val 5251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  LA 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95480" y="5105520"/>
            <a:ext cx="1676520" cy="761760"/>
          </a:xfrm>
          <a:prstGeom prst="rightArrow">
            <a:avLst>
              <a:gd name="adj1" fmla="val 50000"/>
              <a:gd name="adj2" fmla="val 55021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LAS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5105520"/>
            <a:ext cx="1447920" cy="761760"/>
          </a:xfrm>
          <a:prstGeom prst="rightArrow">
            <a:avLst>
              <a:gd name="adj1" fmla="val 50000"/>
              <a:gd name="adj2" fmla="val 47519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4920" y="6248520"/>
            <a:ext cx="6444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Fines de la década de 1800     Principios de los años 30     Mediados de los años 50      Años 9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1760" y="90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cc6600"/>
                </a:solidFill>
                <a:latin typeface="Times New Roman"/>
              </a:rPr>
              <a:t>ELEMENTOS ESTRUCTURA ORGANIZACIONAL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55640" y="213372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ecializ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identificación de tareas particulares y su asig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ndariz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niformación y sistematización de los procedimi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rdinación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ocedimientos formales e informales para integrar las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utorida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recho a decidir y actu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ORGANIGRAMA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26920" y="2943360"/>
            <a:ext cx="7632720" cy="15570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 en que se represent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as relaciones de información entre funciones, departamentos e individuos de una organización. Es un instrument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lustra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a estructura formal básica de un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1295280" y="-763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Book Antiqua"/>
              </a:rPr>
              <a:t>NIVELES  ORGANIZACIONALES  Y  AMBITO   DE 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90720" y="1143000"/>
            <a:ext cx="693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00000"/>
                </a:solidFill>
                <a:latin typeface="Times New Roman"/>
              </a:rPr>
              <a:t>Organización con tramos cortos (piramida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962520" y="1828800"/>
            <a:ext cx="11430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752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6294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2952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382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6576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8769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722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152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907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096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195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4290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0384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6483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2578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8672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4771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0866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6960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57400" y="25146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9343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0574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52388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2520" y="3429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40080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0574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523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743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2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181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620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4320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6252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40080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2012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14300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3623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0060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238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0199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1430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9051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240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5812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006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627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99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010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8120" y="4672080"/>
            <a:ext cx="292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Ventajas: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Estrecha super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Estricto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Rápida comunicación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subordinados y superi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202640" y="4691160"/>
            <a:ext cx="464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Des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Los superiores tienden a involucrarse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xceso en el trabajo de los subordi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Muchos niveles administrativ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Altos costos a causa de los numeros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Excesiva distancia entre el nivel más bajo y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más al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1295280" y="-7632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0000"/>
                </a:solidFill>
                <a:latin typeface="Book Antiqua"/>
              </a:rPr>
              <a:t>NIVELES  ORGANIZACIONALES  Y  AMBITO   DE  ADMINISTR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990720" y="1143000"/>
            <a:ext cx="693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00000"/>
                </a:solidFill>
                <a:latin typeface="Times New Roman"/>
              </a:rPr>
              <a:t>Ej: Organización con tramos largos (pla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809880" y="1828800"/>
            <a:ext cx="11430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752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038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324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2952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5146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7339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3434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3915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3434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371600" y="2514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7057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0574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44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523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743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62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81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620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14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133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572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791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010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39560" y="4280040"/>
            <a:ext cx="381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Ventajas: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Los superiores se ven oblig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 dele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Se deben establecer políticas cla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Los subordinados deben ser cuidad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samente seleccion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201920" y="4267080"/>
            <a:ext cx="486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Des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Tendencia de los superiores sobrecargado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rabajo a convertirse en cuellos de botella en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eci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Riesgo de pérdida de control para el supervi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Se requiere de administradores de cal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xcep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5146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767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8006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5627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0866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9907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438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43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1814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57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8954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71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28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1722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816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9051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858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1600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ORGANIZAC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71640" y="242100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emplazamiento de recursos organizacionales para alcanzar objetivos estratégicos. (Richard  Daf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lica la creación de  estructuras de relaciones que permitan a los empleados ejecutar los planes y cumplir con las metas establecidas por la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SEÑO ORGANIZACIONA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403280" y="2963880"/>
            <a:ext cx="6264360" cy="26280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 Narrow"/>
              </a:rPr>
              <a:t>Determinación de la estructura y relaciones de autoridad de una organización para cumplir con las estrategias y planes establ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FACTORES INFLUYENTES DISEÑO ORGANIZACIONAL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826920" y="265284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amien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ategia de la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5238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SEÑO MECANICISTA 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28240" y="2147760"/>
            <a:ext cx="487692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ta especi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ígida departament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ra cadena de man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echo tramo d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ta form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4648320" y="2147760"/>
          <a:ext cx="3809880" cy="411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14776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7" name="" descr=""/>
          <p:cNvPicPr/>
          <p:nvPr/>
        </p:nvPicPr>
        <p:blipFill>
          <a:blip r:embed="rId9"/>
          <a:stretch/>
        </p:blipFill>
        <p:spPr>
          <a:xfrm>
            <a:off x="5029200" y="2057400"/>
            <a:ext cx="317484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SEÑO ORGANIC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quipos inter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quipos interjerárqu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ibre flujo de la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mplio tramo de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central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aja formalización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4648320" y="2200320"/>
          <a:ext cx="4152960" cy="31035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200320"/>
                    <a:ext cx="4152960" cy="310356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ferenciación/integració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800100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ferenciación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medida de las difer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ntegración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medida de la coordinación entre departamentos en cuanto 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ruc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2:52:01Z</dcterms:created>
  <dc:creator>Claudio Castañeda</dc:creator>
  <dc:description/>
  <dc:language>en-US</dc:language>
  <cp:lastModifiedBy>Félix Lizama</cp:lastModifiedBy>
  <dcterms:modified xsi:type="dcterms:W3CDTF">2006-01-04T00:02:08Z</dcterms:modified>
  <cp:revision>133</cp:revision>
  <dc:subject/>
  <dc:title>Marketing Social </dc:title>
</cp:coreProperties>
</file>