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7.png" ContentType="image/png"/>
  <Override PartName="/ppt/media/image46.png" ContentType="image/png"/>
  <Override PartName="/ppt/media/image45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61.wmf" ContentType="image/x-wmf"/>
  <Override PartName="/ppt/media/image37.png" ContentType="image/png"/>
  <Override PartName="/ppt/media/image36.png" ContentType="image/png"/>
  <Override PartName="/ppt/media/image9.jpeg" ContentType="image/jpeg"/>
  <Override PartName="/ppt/media/image35.wmf" ContentType="image/x-wmf"/>
  <Override PartName="/ppt/media/image78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5.png" ContentType="image/png"/>
  <Override PartName="/ppt/media/image17.png" ContentType="image/png"/>
  <Override PartName="/ppt/media/image21.wmf" ContentType="image/x-wmf"/>
  <Override PartName="/ppt/media/image83.png" ContentType="image/png"/>
  <Override PartName="/ppt/media/image18.png" ContentType="image/png"/>
  <Override PartName="/ppt/media/image58.wmf" ContentType="image/x-wmf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9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88.wmf" ContentType="image/x-wmf"/>
  <Override PartName="/ppt/media/image51.wmf" ContentType="image/x-wmf"/>
  <Override PartName="/ppt/media/image87.wmf" ContentType="image/x-wmf"/>
  <Override PartName="/ppt/media/image75.wmf" ContentType="image/x-wmf"/>
  <Override PartName="/ppt/media/image86.wmf" ContentType="image/x-wmf"/>
  <Override PartName="/ppt/media/image74.wmf" ContentType="image/x-wmf"/>
  <Override PartName="/ppt/media/image85.png" ContentType="image/png"/>
  <Override PartName="/ppt/media/image67.wmf" ContentType="image/x-wmf"/>
  <Override PartName="/ppt/media/image27.png" ContentType="image/png"/>
  <Override PartName="/ppt/media/image30.wmf" ContentType="image/x-wmf"/>
  <Override PartName="/ppt/media/image84.png" ContentType="image/png"/>
  <Override PartName="/ppt/media/image82.wmf" ContentType="image/x-wmf"/>
  <Override PartName="/ppt/media/image81.wmf" ContentType="image/x-wmf"/>
  <Override PartName="/ppt/media/image79.wmf" ContentType="image/x-wmf"/>
  <Override PartName="/ppt/media/image73.wmf" ContentType="image/x-wmf"/>
  <Override PartName="/ppt/media/image3.png" ContentType="image/png"/>
  <Override PartName="/ppt/media/image19.wmf" ContentType="image/x-wmf"/>
  <Override PartName="/ppt/media/image80.wmf" ContentType="image/x-wmf"/>
  <Override PartName="/ppt/media/image15.wmf" ContentType="image/x-wmf"/>
  <Override PartName="/ppt/media/image14.wmf" ContentType="image/x-wmf"/>
  <Override PartName="/ppt/media/image66.png" ContentType="image/png"/>
  <Override PartName="/ppt/media/image23.wmf" ContentType="image/x-wmf"/>
  <Override PartName="/ppt/media/image48.png" ContentType="image/png"/>
  <Override PartName="/ppt/media/image70.wmf" ContentType="image/x-wmf"/>
  <Override PartName="/ppt/media/image6.wmf" ContentType="image/x-wmf"/>
  <Override PartName="/ppt/media/image76.jpeg" ContentType="image/jpeg"/>
  <Override PartName="/ppt/media/image11.wmf" ContentType="image/x-wmf"/>
  <Override PartName="/ppt/media/image50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16.png" ContentType="image/png"/>
  <Override PartName="/ppt/media/image7.jpeg" ContentType="image/jpeg"/>
  <Override PartName="/ppt/media/image72.jpeg" ContentType="image/jpeg"/>
  <Override PartName="/ppt/media/image2.png" ContentType="image/png"/>
  <Override PartName="/ppt/media/image10.wmf" ContentType="image/x-wmf"/>
  <Override PartName="/ppt/media/image12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51C-E473-44CF-A1FF-3DC98CE5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C7F-DBAC-46A6-BCCE-0276D68C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A16-22BA-42EA-BDB6-47F68B4C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B4C-2C50-4581-A41E-3D963F67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23E6-55D0-4AB6-A2CA-811AD87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6337-B537-4A43-A813-437669F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4D2-47FD-49D2-A7D6-8965937C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AA09-91FD-4D99-BE55-4D253630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0C8-B65E-4ED7-9BF4-BA74E9C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99D-37C0-4CF2-9E65-E267759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864E-4918-482C-AEAE-0080BC97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557-9206-4D82-BDF4-015785A8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242E-AEEA-418C-8C09-1698546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EEE6-1D15-4FFB-92EF-3D4C434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D69C-2073-4077-89CE-0484155D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181D-8065-442C-8783-CC34CDC0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B733-26F3-42EF-AB21-613025EB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0FB-5C1E-4FDC-BBA9-CBBD5F2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06F-6A7B-4DB3-BE9F-50C366C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04C-3EE3-4FA0-986E-0EB8896F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9CF-E4C2-4A69-B83A-ABDE1528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BDF-5DF5-438F-B512-661619C2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6FE-71FA-44BD-B007-CFDE8ABC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2B2-98A0-4557-A0C1-CC179954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DBF8-C50F-41E3-90BE-897BCACD0B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9F9B-552F-49BC-A0F8-2662AEB45D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1.png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image" Target="../media/image49.png"/><Relationship Id="rId7" Type="http://schemas.openxmlformats.org/officeDocument/2006/relationships/image" Target="../media/image1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5.wmf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2.jpeg"/><Relationship Id="rId3" Type="http://schemas.openxmlformats.org/officeDocument/2006/relationships/image" Target="../media/image72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wmf"/><Relationship Id="rId7" Type="http://schemas.openxmlformats.org/officeDocument/2006/relationships/image" Target="../media/image71.wmf"/><Relationship Id="rId8" Type="http://schemas.openxmlformats.org/officeDocument/2006/relationships/image" Target="../media/image70.wmf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wmf"/><Relationship Id="rId3" Type="http://schemas.openxmlformats.org/officeDocument/2006/relationships/image" Target="../media/image76.jpeg"/><Relationship Id="rId4" Type="http://schemas.openxmlformats.org/officeDocument/2006/relationships/image" Target="../media/image77.wmf"/><Relationship Id="rId5" Type="http://schemas.openxmlformats.org/officeDocument/2006/relationships/image" Target="../media/image76.jpeg"/><Relationship Id="rId6" Type="http://schemas.openxmlformats.org/officeDocument/2006/relationships/image" Target="../media/image77.wmf"/><Relationship Id="rId7" Type="http://schemas.openxmlformats.org/officeDocument/2006/relationships/image" Target="../media/image78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3.png"/><Relationship Id="rId3" Type="http://schemas.openxmlformats.org/officeDocument/2006/relationships/image" Target="../media/image83.png"/><Relationship Id="rId4" Type="http://schemas.openxmlformats.org/officeDocument/2006/relationships/image" Target="../media/image83.png"/><Relationship Id="rId5" Type="http://schemas.openxmlformats.org/officeDocument/2006/relationships/image" Target="../media/image83.png"/><Relationship Id="rId6" Type="http://schemas.openxmlformats.org/officeDocument/2006/relationships/image" Target="../media/image83.png"/><Relationship Id="rId7" Type="http://schemas.openxmlformats.org/officeDocument/2006/relationships/image" Target="../media/image83.png"/><Relationship Id="rId8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pptx"/><Relationship Id="rId8" Type="http://schemas.openxmlformats.org/officeDocument/2006/relationships/image" Target="../media/image88.wmf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362320" y="2666520"/>
            <a:ext cx="5790960" cy="3429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INTRODUCCION AL MUNDO EMPRESAR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stavo Amtmann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mtmann@entelchile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 la Produc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empresas orientadas hacia el producto emprenden el diseño sin tomar en cuenta opiniones de los consumidore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438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193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TRUCTURA Y TECNOLOGI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dependencia tecnoló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cnología de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utinaria (estructura mecanicis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utinaria (orgán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PROCESAMIENTO DE INFORMA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cremento en la capacidad de procesamiento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tical, Relaciones laterales, Organización Matr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duciendo la necesidad de procesamiento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ursos de reserva, equipos autónomos, Organización en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77760" y="789120"/>
            <a:ext cx="73281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cc6600"/>
                </a:solidFill>
                <a:latin typeface="Times New Roman"/>
              </a:rPr>
              <a:t>Financiamiento de Proyecto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40920" y="2187720"/>
            <a:ext cx="8505720" cy="29700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El desafío consiste en vender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a.- Ide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b.- Equip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"/>
          <p:cNvSpPr/>
          <p:nvPr/>
        </p:nvSpPr>
        <p:spPr>
          <a:xfrm>
            <a:off x="420840" y="152388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828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Condiciones Buscadas en los Emprendedores y Proyectos</a:t>
            </a:r>
            <a:br>
              <a:rPr sz="3600"/>
            </a:b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20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ici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 de Negocios Profesional y coher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quipo de Trabajo motivado con 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Innov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otencial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 Desarrol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rientación a la Creación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es É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10920" y="865080"/>
            <a:ext cx="7327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cc6600"/>
                </a:solidFill>
                <a:latin typeface="Times New Roman"/>
              </a:rPr>
              <a:t>Financiamiento de Proyecto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40920" y="1554120"/>
            <a:ext cx="8505720" cy="50608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¿Cóm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Industria de Fondos de Inversión más que a través del financiamiento banc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ondo de Inversión Ofre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inanciamiento vía capital y/o deu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rategias de salida en un plazo determin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Incentivos a las Industria del Capital de Riesg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57200" y="2305080"/>
            <a:ext cx="79246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centivos a la actividad de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Oportunidades Atractiva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centivos al Capital para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royecto Escalable a otros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-Inversión Como Mecanismo de Creación de Va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533520" y="1219320"/>
            <a:ext cx="8388360" cy="5349960"/>
            <a:chOff x="533520" y="1219320"/>
            <a:chExt cx="8388360" cy="5349960"/>
          </a:xfrm>
        </p:grpSpPr>
        <p:sp>
          <p:nvSpPr>
            <p:cNvPr id="1118" name=""/>
            <p:cNvSpPr/>
            <p:nvPr/>
          </p:nvSpPr>
          <p:spPr>
            <a:xfrm>
              <a:off x="565200" y="1219320"/>
              <a:ext cx="777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7840" y="20253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úmero de Inversionistas por Negocio en 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533520" y="2435040"/>
              <a:ext cx="8388360" cy="4134240"/>
              <a:chOff x="533520" y="2435040"/>
              <a:chExt cx="8388360" cy="41342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533520" y="2435040"/>
                <a:ext cx="8388360" cy="4134240"/>
                <a:chOff x="533520" y="2435040"/>
                <a:chExt cx="8388360" cy="4134240"/>
              </a:xfrm>
            </p:grpSpPr>
            <p:graphicFrame>
              <p:nvGraphicFramePr>
                <p:cNvPr id="1122" name=""/>
                <p:cNvGraphicFramePr/>
                <p:nvPr/>
              </p:nvGraphicFramePr>
              <p:xfrm>
                <a:off x="533520" y="2435040"/>
                <a:ext cx="8109000" cy="38728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12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2435040"/>
                          <a:ext cx="8109000" cy="3872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24" name=""/>
                <p:cNvSpPr/>
                <p:nvPr/>
              </p:nvSpPr>
              <p:spPr>
                <a:xfrm>
                  <a:off x="6877080" y="6231960"/>
                  <a:ext cx="2044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Fuente: Venture O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47240" y="3641040"/>
                <a:ext cx="1218600" cy="1447200"/>
                <a:chOff x="7347240" y="3641040"/>
                <a:chExt cx="1218600" cy="14472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347240" y="3641040"/>
                  <a:ext cx="1218600" cy="144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99440" y="3742200"/>
                  <a:ext cx="73440" cy="1011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509960" y="3684240"/>
                  <a:ext cx="901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5 +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399440" y="4031280"/>
                  <a:ext cx="73440" cy="1011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510680" y="397332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4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399440" y="4320720"/>
                  <a:ext cx="73440" cy="101520"/>
                </a:xfrm>
                <a:prstGeom prst="rect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510680" y="426348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3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399440" y="4610520"/>
                  <a:ext cx="73440" cy="1011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510680" y="455256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2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399440" y="4899960"/>
                  <a:ext cx="73440" cy="1011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511400" y="4842000"/>
                  <a:ext cx="744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1 Inversionist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7" name=""/>
          <p:cNvSpPr/>
          <p:nvPr/>
        </p:nvSpPr>
        <p:spPr>
          <a:xfrm>
            <a:off x="1600200" y="7621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a50021"/>
                </a:solidFill>
                <a:latin typeface="Arial"/>
              </a:rPr>
              <a:t>Industria del Capital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 las Vent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concepto de venta afirma que; si a los consumidores se les deja solos, por lo regular, no comprarán suficientes productos de la empresa”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96696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3276720" cy="147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30481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l Clien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La clave para alcanzar las metas organizacionales consiste en determinar las necesidades y deseos de los mercados meta, y entregar los satisfactores deseados de forma más eficaz y eficiente que los competidores”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981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Soci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labor de las organizaciones es determinar las necesidades, deseos e intereses de  los mercados meta y entregarles los satisfactores  deseados, en forma más eficaz y eficiente que la competencia, de tal manera que se proteja e incremente el bienestar del consumidor y de la sociedad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657600" y="4648320"/>
            <a:ext cx="17938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Evolución del Marketing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86600" cy="44118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Marketing y Orientación al Merc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09480" y="1819440"/>
            <a:ext cx="7801200" cy="473364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Hace muchos años, Peter Druker determinó, que la labor principal de una compañía es generar clientes ..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... Sin embargo, en la actualidad los consumidores se enfrentan a una variedad muy vasta de productos, marcas, precios y proveedores de donde elegir y satisfacer sus deseos de comprar.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86200" y="5181480"/>
            <a:ext cx="1068480" cy="1219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876920" y="4191120"/>
            <a:ext cx="1066680" cy="685800"/>
          </a:xfrm>
          <a:prstGeom prst="cloudCallout">
            <a:avLst>
              <a:gd name="adj1" fmla="val -65180"/>
              <a:gd name="adj2" fmla="val 129166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iwa, Son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191120"/>
            <a:ext cx="914400" cy="685800"/>
          </a:xfrm>
          <a:prstGeom prst="cloudCallout">
            <a:avLst>
              <a:gd name="adj1" fmla="val 50694"/>
              <a:gd name="adj2" fmla="val 125231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5105520"/>
            <a:ext cx="914400" cy="609480"/>
          </a:xfrm>
          <a:prstGeom prst="cloudCallout">
            <a:avLst>
              <a:gd name="adj1" fmla="val -92361"/>
              <a:gd name="adj2" fmla="val 20050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5181480"/>
            <a:ext cx="838080" cy="533520"/>
          </a:xfrm>
          <a:prstGeom prst="cloudCallout">
            <a:avLst>
              <a:gd name="adj1" fmla="val 91097"/>
              <a:gd name="adj2" fmla="val 31847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9560" y="4343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486400" y="5257800"/>
            <a:ext cx="533520" cy="417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82132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563868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j.; Frente al dese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ar una radio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ceso de Compr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2590920"/>
            <a:ext cx="1752480" cy="99036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ci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2590920"/>
            <a:ext cx="1752480" cy="99036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4572000"/>
            <a:ext cx="175248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572000"/>
            <a:ext cx="175284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4572000"/>
            <a:ext cx="175248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st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3048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295280" y="2286000"/>
          <a:ext cx="11908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1908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094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Tipos de Compr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9" name="UpRibbonSharp"/>
          <p:cNvSpPr/>
          <p:nvPr/>
        </p:nvSpPr>
        <p:spPr>
          <a:xfrm>
            <a:off x="533520" y="2286000"/>
            <a:ext cx="2895480" cy="12193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Impul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hoco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UpRibbonSharp"/>
          <p:cNvSpPr/>
          <p:nvPr/>
        </p:nvSpPr>
        <p:spPr>
          <a:xfrm>
            <a:off x="5562720" y="4724280"/>
            <a:ext cx="3276360" cy="1219320"/>
          </a:xfrm>
          <a:custGeom>
            <a:avLst/>
            <a:gdLst>
              <a:gd name="textAreaLeft" fmla="*/ 819000 w 3276360"/>
              <a:gd name="textAreaRight" fmla="*/ 2457360 w 327636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UpRibbonSharp"/>
          <p:cNvSpPr/>
          <p:nvPr/>
        </p:nvSpPr>
        <p:spPr>
          <a:xfrm>
            <a:off x="5486400" y="2286000"/>
            <a:ext cx="3352680" cy="12193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omputa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UpRibbonSharp"/>
          <p:cNvSpPr/>
          <p:nvPr/>
        </p:nvSpPr>
        <p:spPr>
          <a:xfrm>
            <a:off x="533520" y="4724280"/>
            <a:ext cx="3200400" cy="121932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r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9383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048120"/>
            <a:ext cx="236232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traer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4800600"/>
            <a:ext cx="2362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tener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c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3733920"/>
            <a:ext cx="2286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191120" y="34290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449568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705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40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GLOBALIZACION DE LA ECONOM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GENCIAS AMBIENT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ROL PROTAGONICO DEL CLI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STENCIA DE UNA SOCIEDAD INFORMATIZ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STENCIA DE MUCHOS BIENES Y/O SERVIC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HIPERCOMPET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GENCIAS AL PROCESO Y AL PRODUC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COMPETENCIA MULTICONTAC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MPRESAS MAS PEQUEÑAS Y FLEXI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CAMBIO DEL CONCEPTO TRABAJO AL DE EMPLE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692000" y="98100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Times New Roman"/>
              </a:rPr>
              <a:t>TENDENCIAS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Segmentación de Merc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47400"/>
            <a:ext cx="792468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s el proceso de dividir un grupo heterogéneo de compradores actuales y/o potenciales, en grupos homogéneos, con características, hábitos, necesidades y deseos relativamente similares”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2743200" cy="2336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324480" y="3733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fes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409720" y="39625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52578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Jubi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334120" y="52574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3657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ásica y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4114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4100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ud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cund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5410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60958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3600" y="6095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ueñas de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571640" y="57909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s de l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1981440" cy="1687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914400" y="24382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fe5932"/>
              </a:gs>
              <a:gs pos="100000">
                <a:srgbClr val="75291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45720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d05646"/>
              </a:gs>
              <a:gs pos="100000">
                <a:srgbClr val="5f272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m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47242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f56b5d"/>
              </a:gs>
              <a:gs pos="100000">
                <a:srgbClr val="70312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du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23623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f86956"/>
              </a:gs>
              <a:gs pos="100000">
                <a:srgbClr val="72302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sic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04812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472392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333760" y="312408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562360" y="44197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Beneficios de l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228600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124080"/>
            <a:ext cx="9144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962520"/>
            <a:ext cx="9144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819520" y="4218120"/>
            <a:ext cx="3352680" cy="2181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676520" y="2057400"/>
            <a:ext cx="2514600" cy="1600200"/>
          </a:xfrm>
          <a:prstGeom prst="downArrowCallout">
            <a:avLst>
              <a:gd name="adj1" fmla="val 39289"/>
              <a:gd name="adj2" fmla="val 3928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vee guía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diseño de 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057400"/>
            <a:ext cx="2514600" cy="1600200"/>
          </a:xfrm>
          <a:prstGeom prst="downArrowCallout">
            <a:avLst>
              <a:gd name="adj1" fmla="val 39289"/>
              <a:gd name="adj2" fmla="val 3928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vee guía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4038480"/>
            <a:ext cx="2286000" cy="2057400"/>
          </a:xfrm>
          <a:prstGeom prst="rightArrowCallout">
            <a:avLst>
              <a:gd name="adj1" fmla="val 25002"/>
              <a:gd name="adj2" fmla="val 25000"/>
              <a:gd name="adj3" fmla="val 18519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asig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114800"/>
            <a:ext cx="2666880" cy="2133720"/>
          </a:xfrm>
          <a:prstGeom prst="leftArrowCallout">
            <a:avLst>
              <a:gd name="adj1" fmla="val 22326"/>
              <a:gd name="adj2" fmla="val 21653"/>
              <a:gd name="adj3" fmla="val 20310"/>
              <a:gd name="adj4" fmla="val 66673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m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dent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ndiciones de una Buen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362320"/>
            <a:ext cx="7391520" cy="7617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riterio de la segmentación ha de ser mens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s datos que las describen deben ser obteni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505320"/>
            <a:ext cx="7391520" cy="14475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egmento de mercado tiene que ser accesible a travé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ituciones actuales de mark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mediarios, medios publicitarios, fuerzas de ventas de la compañí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costo mínimo y sin desperdiciar esfuerz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66680" y="5257800"/>
            <a:ext cx="7467840" cy="76212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gmento ha de ser lo bastante grande para que resulte rentabl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rcado Meta u Objetiv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2319480" cy="2183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85800" y="205740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homogéneo, de compr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y/o potenciales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características, hábitos, neces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deseos relativamente similares, al cual dirigi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nuestros esfuerzos de marketing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Creación y Captura de Valo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838080" y="1893960"/>
            <a:ext cx="7467840" cy="46591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Evaluación y Origen del Valo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62120" y="1744560"/>
            <a:ext cx="7524720" cy="485316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066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ERA DE LEALT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No todas las personas valen lo mismo para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133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197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4197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629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9320" y="4876920"/>
            <a:ext cx="128412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ospech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54600" y="3657600"/>
            <a:ext cx="12214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6480" y="4267080"/>
            <a:ext cx="108432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339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73920" y="3124080"/>
            <a:ext cx="133596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69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9200" y="5867280"/>
            <a:ext cx="133596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09588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11480" y="4876920"/>
            <a:ext cx="133740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inc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16292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45360" y="4267080"/>
            <a:ext cx="166680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comend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2296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2590920" y="2362320"/>
          <a:ext cx="411480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590920" y="2362320"/>
                    <a:ext cx="4114800" cy="3124080"/>
                  </a:xfrm>
                  <a:prstGeom prst="rect">
                    <a:avLst/>
                  </a:prstGeom>
                  <a:ln w="1584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572000" y="2362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9625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3160" y="266688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ten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vertir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29560" y="3124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de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1440" y="426708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um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5480" y="426708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tene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1160" y="3648240"/>
            <a:ext cx="10494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6360" y="6095880"/>
            <a:ext cx="16239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de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64120" y="5527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0680" y="55627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9720" y="45720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3760" y="28195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4080" y="121932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cc6600"/>
                </a:solidFill>
                <a:latin typeface="Times New Roman"/>
              </a:rPr>
              <a:t>Segmentación por Valor y Fide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800" y="2680920"/>
            <a:ext cx="7772400" cy="21193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 es su sólo su compra instantánea. Sino que todas las compras que realiza a través de su vida del producto y los nuevos clientes que genera (recomendación)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221120" y="1066680"/>
            <a:ext cx="72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6600"/>
                </a:solidFill>
                <a:latin typeface="Times New Roman"/>
              </a:rPr>
              <a:t>¿ Cuál es el Valor de un Client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88000" y="3789360"/>
            <a:ext cx="3744720" cy="284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2720" y="4708440"/>
            <a:ext cx="251460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00720" y="5589720"/>
            <a:ext cx="457200" cy="30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1640" y="4070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cr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35640" y="507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b. 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76320"/>
            <a:ext cx="44197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        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CRO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Leyes y polí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Valore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        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COMPETI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eti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ovee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r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Sustitu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Nuevos entr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836640"/>
            <a:ext cx="34290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oc. Grem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oc.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obier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upos polít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0068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 Cuáles son los Activos más Importantes para la institu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1185840" cy="1519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914400" y="3200040"/>
            <a:ext cx="1523880" cy="1600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629400" y="3505320"/>
            <a:ext cx="1436760" cy="112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324480" y="3429000"/>
            <a:ext cx="1905120" cy="12952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248520" y="3352680"/>
            <a:ext cx="1904760" cy="13716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743200" y="5105520"/>
            <a:ext cx="358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S CLIENT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1219320" cy="1574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8120" y="3124080"/>
            <a:ext cx="2209680" cy="19051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Investigación de Merc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2209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función que enlaza al consumidor con el comercializ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vés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 la información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á información se utiliza para identificar y definir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portunidades y problemas del marketing, así como también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fecciona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y evaluar las acciones del marketing; monitorear el desempeño y mejo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mprensión del marketing como un proceso</a:t>
            </a:r>
            <a:r>
              <a:rPr b="0" lang="es-ES_tradnl" sz="2000" spc="-1" strike="noStrike" u="sng">
                <a:solidFill>
                  <a:srgbClr val="800080"/>
                </a:solidFill>
                <a:uFillTx/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1973520" cy="1824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09480" y="30481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516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Pasos de la Investigación de Merc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2133720"/>
            <a:ext cx="236196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ecer la 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información (recono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 definir el probl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3505320"/>
            <a:ext cx="2361960" cy="8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ción de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a Investiga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cesidades de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572000"/>
            <a:ext cx="2361960" cy="74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pecificar el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a Investiga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5486400"/>
            <a:ext cx="23619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ar el Méto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15000" y="2133720"/>
            <a:ext cx="1905120" cy="1066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eño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es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809880"/>
            <a:ext cx="1904760" cy="571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dimie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4724280"/>
            <a:ext cx="1904760" cy="443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1320" y="5638680"/>
            <a:ext cx="1904760" cy="54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ent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294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886200" y="2743200"/>
            <a:ext cx="17524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nducta d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635280"/>
            <a:ext cx="9144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1905120"/>
            <a:ext cx="7467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onjunto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ísicas, procesos mentales y emocionales de dec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os individuos realizan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úan, seleccionan, adquieren y utilizan bienes y serv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11620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s que afectan la Conducta d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4080" y="5029200"/>
            <a:ext cx="152244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fec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5105520"/>
            <a:ext cx="167616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6720" y="2743200"/>
            <a:ext cx="198108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duc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828800" y="3124080"/>
            <a:ext cx="137160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5791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4120" y="3124080"/>
            <a:ext cx="129528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124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1905120"/>
            <a:ext cx="7696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y acciones de una compañía, cuya fi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istinguirla favorablemente de los competidores en 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gunos grupos de consumidor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876600" cy="762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876920" y="5334120"/>
            <a:ext cx="1057320" cy="4093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133720" y="4876920"/>
            <a:ext cx="2057400" cy="6858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5867280" y="3886200"/>
            <a:ext cx="676440" cy="9144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7391520" y="4114800"/>
            <a:ext cx="79992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0" name=""/>
          <p:cNvGraphicFramePr/>
          <p:nvPr/>
        </p:nvGraphicFramePr>
        <p:xfrm>
          <a:off x="6781680" y="5181480"/>
          <a:ext cx="162576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5181480"/>
                    <a:ext cx="162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strategias de 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474920" cy="1522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066680" y="2819520"/>
            <a:ext cx="160020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Atrib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52578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Asociad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na I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43434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77120" y="45720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n compet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48520" y="27432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Categorí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133720"/>
            <a:ext cx="160020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so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apa de 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905120"/>
            <a:ext cx="365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permite visualiz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ercepción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xiste 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nsumidore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erca de  nuestro produc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iéndonos realiza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ciones pertinen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uestra estrategia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2057400"/>
            <a:ext cx="0" cy="4191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3962520"/>
            <a:ext cx="3886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3276720"/>
            <a:ext cx="533520" cy="60948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4419720"/>
            <a:ext cx="838440" cy="9144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15200" y="2286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5029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286000"/>
            <a:ext cx="380880" cy="4572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48320" y="41911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62485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14400" y="1295280"/>
            <a:ext cx="7391520" cy="533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Book Antiqua"/>
              </a:rPr>
              <a:t>Funciones de la Admini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43400" y="1447920"/>
            <a:ext cx="1523880" cy="1447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Qué 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4724280"/>
            <a:ext cx="1524240" cy="1447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2971800"/>
            <a:ext cx="152388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Cómo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33720" y="2971800"/>
            <a:ext cx="1523880" cy="1447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Ver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5120" y="3352680"/>
            <a:ext cx="25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PROCESO  DE 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ADMINIST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1905120"/>
            <a:ext cx="1143000" cy="83808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943600" y="4495680"/>
            <a:ext cx="990720" cy="99072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123720" y="4572000"/>
            <a:ext cx="1219320" cy="91440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276720" y="1980720"/>
            <a:ext cx="990360" cy="83844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2514600"/>
            <a:ext cx="76212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866920" y="42670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4343400"/>
            <a:ext cx="83844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657600" y="2514600"/>
            <a:ext cx="68580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37960" y="1919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10400" y="19810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7480" y="50292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10400" y="50292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33920" y="3733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lanificación Estratégic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so administrativo de desarrollar  y mantener la relación entre los recursos y los objetivos de la organización, ante un medio ambiente cambiante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 tiene como objetivo formular y reformular los negocios y productos de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26668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ahoma"/>
              </a:rPr>
              <a:t>Es el estado de privación que siente una person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 Son abundantes y complicada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 Forman parte de la naturaleza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   human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Las personas buscan cosas que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   satisfagan sus necesidad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11430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ECES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066680" y="1436760"/>
            <a:ext cx="7162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DE PLANIFICACION ESTRATE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miento de misión, visión y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Oportunidades y Amenaz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Fortalezas y Debilidad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ulación de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 de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685440" y="2930040"/>
            <a:ext cx="7759800" cy="25146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 EL ENUNCIADO DE SU RAZON DE EXISTIR, IDENTIFICANDO LA FUNCION QUE CUMPLE EN LA SOCIEDAD Y, SU CARÁCTER Y FILOSOFIA BASICA.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708560" y="1644480"/>
            <a:ext cx="51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ISION INSTITU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PROYECCION QUE SE DESEA DAR A LA INSTITUCION Y COMO SE ESPERA QUE LOS CLIENTES LA VEAN, DESTACANDOSE SUS ATRIBUTOS Y CARACTERISTICAS MAS RELEV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idez financi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ez en la Aten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1962720" y="1219320"/>
            <a:ext cx="50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ISION INSTITU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383840" y="2636640"/>
            <a:ext cx="614052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 LOS FINES QUE TRATA DE ALCANZAR LA ORGANIZACIÓN POR MEDIO DE SU EXISTENCIA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107720" y="111132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OBJETIVOS INSTITU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615600" y="2292120"/>
            <a:ext cx="8070840" cy="28890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ON LOS FUNDAMENTOS BASICOS SO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LOS CUALES SE CONSTRUYE LA EMPRE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ES Y SE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REALIZARA SU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SERA SU RECURSO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SE RELACIONARA CON SU EN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318960" y="1162080"/>
            <a:ext cx="85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PRINCIPIOS Y VALORE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cc6600"/>
                </a:solidFill>
                <a:latin typeface="Times New Roman"/>
              </a:rPr>
              <a:t>FO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87640" y="1681200"/>
            <a:ext cx="1440000" cy="1440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12000" y="1681200"/>
            <a:ext cx="143964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87640" y="3213000"/>
            <a:ext cx="1440000" cy="1440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98920" y="3192480"/>
            <a:ext cx="1440000" cy="1440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3192480"/>
            <a:ext cx="1439640" cy="144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4705200"/>
            <a:ext cx="144000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8920" y="4705200"/>
            <a:ext cx="1440000" cy="1440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2000" y="4705200"/>
            <a:ext cx="1439640" cy="1440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98920" y="168120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720" y="17002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3440" y="177336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60720" y="328464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60720" y="486900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27440" y="1314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91400" y="1314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5203080" y="-264240"/>
            <a:ext cx="503280" cy="2952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82200" y="5208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429000"/>
            <a:ext cx="432000" cy="237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8360" y="4300560"/>
            <a:ext cx="11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35240" y="3624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2924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08360" y="38606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24360" y="292428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80000" y="537372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59640" y="2924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80000" y="4292640"/>
            <a:ext cx="28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6000" y="2924280"/>
            <a:ext cx="0" cy="24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51280" y="580536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cc6600"/>
                </a:solidFill>
                <a:latin typeface="Times New Roman"/>
              </a:rPr>
              <a:t>Acciones Estratégicas FO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 F-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fortalezas puede aprovechar las oportunidades que me ofrece el ento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D-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las oportunidades que me ofrece el entorno, puedo minimizar mis debil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F-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fortalezas puedo minimizar el impacto de las amenazas exter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D-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debilidades hago que el impacto de las amenazas, sea mínimo par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73040" y="-766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6600"/>
                </a:solidFill>
                <a:latin typeface="Times New Roman"/>
              </a:rPr>
              <a:t>PLANIFICACION Y CONTRO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1484280"/>
            <a:ext cx="34290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2046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omic Sans MS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00000" y="3141720"/>
            <a:ext cx="2880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stablece metas deseadas y planes para cumplirlas que deben verific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Necesita información precisa y oport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216320" y="1547640"/>
            <a:ext cx="4648320" cy="4419360"/>
            <a:chOff x="4216320" y="1547640"/>
            <a:chExt cx="4648320" cy="4419360"/>
          </a:xfrm>
        </p:grpSpPr>
        <p:grpSp>
          <p:nvGrpSpPr>
            <p:cNvPr id="660" name=""/>
            <p:cNvGrpSpPr/>
            <p:nvPr/>
          </p:nvGrpSpPr>
          <p:grpSpPr>
            <a:xfrm>
              <a:off x="4216320" y="1547640"/>
              <a:ext cx="4648320" cy="4419360"/>
              <a:chOff x="4216320" y="1547640"/>
              <a:chExt cx="4648320" cy="4419360"/>
            </a:xfrm>
          </p:grpSpPr>
          <p:sp>
            <p:nvSpPr>
              <p:cNvPr id="661" name=""/>
              <p:cNvSpPr/>
              <p:nvPr/>
            </p:nvSpPr>
            <p:spPr>
              <a:xfrm>
                <a:off x="5435640" y="1547640"/>
                <a:ext cx="3429000" cy="4419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16320" y="2479320"/>
                <a:ext cx="990720" cy="381240"/>
              </a:xfrm>
              <a:prstGeom prst="leftRightArrow">
                <a:avLst>
                  <a:gd name="adj1" fmla="val 50000"/>
                  <a:gd name="adj2" fmla="val 51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968800" y="2033280"/>
              <a:ext cx="15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es-CL" sz="2400" spc="-1" strike="noStrike">
                  <a:solidFill>
                    <a:srgbClr val="ff0000"/>
                  </a:solidFill>
                  <a:latin typeface="Comic Sans MS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7920" y="3128760"/>
              <a:ext cx="304632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Mide resultados reales, ayuda a verificar metas y reorientar p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Entregan información que apoya la plan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09320" y="151920"/>
            <a:ext cx="3961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cc6600"/>
                </a:solidFill>
                <a:latin typeface="Times New Roman"/>
              </a:rPr>
              <a:t>CONTRO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42920" y="2133720"/>
            <a:ext cx="727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del desempeño y aplicación de medidas para corregir lo que se está haciendo de manera de cumplir los objetivos de la empresa y los planes establecidos para lograr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n los mecanismos utilizados para verificar el cumplimiento de l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09480" y="119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LA FUNCIÓN DEL LI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275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luir sobre otr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680" y="3840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ar una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0594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l tanto de los cam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e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n la forma que adoptan las necesidades humanas de acuerdo a la cultura y la personalidad individ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* Un hombre en un día muy calurosa compra en Santiago una bebida (en Brasil agua de coco) bien helada (producto-deseo) pero lo que busca realmente es satisfacer su necesidad (Sed).</a:t>
            </a:r>
            <a:r>
              <a:rPr b="1" lang="es-ES_tradnl" sz="3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393360" y="990720"/>
            <a:ext cx="23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DES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4360" y="1125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ISTICAS DE LOS LI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42920" y="227664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ción de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nza en 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miento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dad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11280" y="907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DERAZGO v/s 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1754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2287440"/>
            <a:ext cx="3619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questar el cambio con efe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r el rumbo/visión para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pirar a la gente a realizar su visión ( -&gt; motiv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1754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MIN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440" y="2287440"/>
            <a:ext cx="3619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ear y presupuestar ru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r a la organización y dotarla de gente ca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visar su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que de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5199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mbos, administración de procesos y liderazgo efectivo son importantes y vitales para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8436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RECCION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16574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ZGO ESTRATE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680" y="2190600"/>
            <a:ext cx="361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 propósito y significado a las organ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negocios exige pensamient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16635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ZGO DE SUPER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62440" y="2190600"/>
            <a:ext cx="361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 que ofrece guía, apoyo y retroalimentación de las actividades cotidianas de los miembros de la unidade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52560" y="4705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Filename: BD19908_.wmf&#13;Keywords: businessmen, businesspeople, gestures ...&#13;File Size: 38 KB"/>
          <p:cNvPicPr/>
          <p:nvPr/>
        </p:nvPicPr>
        <p:blipFill>
          <a:blip r:embed="rId1"/>
          <a:stretch/>
        </p:blipFill>
        <p:spPr>
          <a:xfrm>
            <a:off x="2971800" y="4019400"/>
            <a:ext cx="2193840" cy="21942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334120" y="4324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5222880"/>
            <a:ext cx="22478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4120" y="4781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r “lograr que ocurran cosas a pesar de la resiste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657600" y="3124080"/>
            <a:ext cx="1295280" cy="12193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1600200"/>
            <a:ext cx="4800600" cy="46483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2971800"/>
            <a:ext cx="1981440" cy="175248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590560" y="4495680"/>
            <a:ext cx="10666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4419720"/>
            <a:ext cx="114300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5105520" y="22860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2743200" y="2209680"/>
            <a:ext cx="9144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2286000"/>
            <a:ext cx="182880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05320" y="5410080"/>
            <a:ext cx="1904760" cy="609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09680" y="4114800"/>
            <a:ext cx="114300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0080" y="3124080"/>
            <a:ext cx="121932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3581280"/>
            <a:ext cx="167616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838080" cy="824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1112760" cy="13525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1137960" cy="10047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812520" cy="757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482480" y="1036080"/>
            <a:ext cx="65678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ZCLA COMERCIAL(MARKETING 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iclo de Vida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66680" y="2286000"/>
            <a:ext cx="0" cy="3276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066680" y="5562720"/>
            <a:ext cx="6705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2819520"/>
            <a:ext cx="6629400" cy="1676160"/>
          </a:xfrm>
          <a:custGeom>
            <a:avLst/>
            <a:gdLst/>
            <a:ahLst/>
            <a:rect l="l" t="t" r="r" b="b"/>
            <a:pathLst>
              <a:path w="6480" h="2040">
                <a:moveTo>
                  <a:pt x="0" y="2040"/>
                </a:moveTo>
                <a:cubicBezTo>
                  <a:pt x="210" y="2040"/>
                  <a:pt x="420" y="2040"/>
                  <a:pt x="720" y="1860"/>
                </a:cubicBezTo>
                <a:cubicBezTo>
                  <a:pt x="1020" y="1680"/>
                  <a:pt x="1500" y="1230"/>
                  <a:pt x="1800" y="960"/>
                </a:cubicBezTo>
                <a:cubicBezTo>
                  <a:pt x="2100" y="690"/>
                  <a:pt x="2310" y="390"/>
                  <a:pt x="2520" y="240"/>
                </a:cubicBezTo>
                <a:cubicBezTo>
                  <a:pt x="2730" y="90"/>
                  <a:pt x="2730" y="0"/>
                  <a:pt x="3060" y="60"/>
                </a:cubicBezTo>
                <a:cubicBezTo>
                  <a:pt x="3390" y="120"/>
                  <a:pt x="4110" y="450"/>
                  <a:pt x="4500" y="600"/>
                </a:cubicBezTo>
                <a:cubicBezTo>
                  <a:pt x="4890" y="750"/>
                  <a:pt x="5070" y="870"/>
                  <a:pt x="5400" y="960"/>
                </a:cubicBezTo>
                <a:cubicBezTo>
                  <a:pt x="5730" y="1050"/>
                  <a:pt x="6300" y="1110"/>
                  <a:pt x="6480" y="11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1952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6708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du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588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5715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3176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aquello que se recibe a cambio de algo, puede ser tangible o intangible y comprende servicios generales o beneficios funcionales sociales y sicológicos. Puede ser una idea, un servicio o un bien, o cualquier combinación de estos tres elemen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1260360" cy="15210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533520" y="5486400"/>
            <a:ext cx="2971800" cy="762120"/>
          </a:xfrm>
          <a:prstGeom prst="rect">
            <a:avLst/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ar hasta que due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adre Hur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2286000"/>
            <a:ext cx="3352680" cy="129528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vestiga los dese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2286000"/>
            <a:ext cx="3353040" cy="129528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iseñar product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se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520" y="4800600"/>
            <a:ext cx="3352680" cy="144792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a o modifica env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nombres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4876920"/>
            <a:ext cx="3352680" cy="14475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a servic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arantía y de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81080" y="365760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281952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55627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00800" y="365760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mponentes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Variable Producto está compuesto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v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946240" cy="27464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04812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038480" y="5105160"/>
            <a:ext cx="60984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19920" y="27432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le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943600" y="2895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6080" y="5029200"/>
            <a:ext cx="121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nv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7162560" y="5105160"/>
            <a:ext cx="5331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 su vez el producto se subdivide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er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2946600" cy="274644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914400" y="525780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uerpo: tele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 metal, con pantall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istal y botones plás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886200" y="4419720"/>
            <a:ext cx="1219320" cy="1218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62720" y="121932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úcleo: Alt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nido stereo ,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6476760" y="22860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"/>
          <p:cNvGraphicFramePr/>
          <p:nvPr/>
        </p:nvGraphicFramePr>
        <p:xfrm>
          <a:off x="1368360" y="2376360"/>
          <a:ext cx="64753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376360"/>
                    <a:ext cx="64753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1813680" y="5165640"/>
            <a:ext cx="192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51800" y="524196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17280" y="6080040"/>
            <a:ext cx="601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XISTE SATISFACCION DEL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1400" y="1295280"/>
            <a:ext cx="55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e5d093"/>
                </a:solidFill>
                <a:latin typeface="Times New Roman"/>
              </a:rPr>
              <a:t>PRODUCTO - DES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DEMAND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on los deseos respaldados por el poder adquisi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* En el caso de Chile 15 millones de chilenos demandan 70 millones de Coca Colas en el añ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738680" y="5029200"/>
          <a:ext cx="3957480" cy="14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5029200"/>
                    <a:ext cx="39574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iclo de Vida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 define como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 demanda agregada durante un largo período para todas las marcas que comprenden la categoría genérica de productos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19303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odelo </a:t>
            </a:r>
            <a:br>
              <a:rPr sz="4400"/>
            </a:b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Boston Consulting Gro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057400" y="2895480"/>
          <a:ext cx="4952880" cy="312444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</a:tblGrid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105520" y="4724280"/>
            <a:ext cx="1600200" cy="109224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1816200" cy="10652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590920" y="3048120"/>
            <a:ext cx="1269720" cy="1276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5105520" y="3079800"/>
            <a:ext cx="1218960" cy="11937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981080" y="617220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articip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4920" y="2971800"/>
            <a:ext cx="1600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7080" y="1149480"/>
            <a:ext cx="68407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mpa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394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recipiente externo que contiene y describe el produ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unciones del empa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mo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7"/>
          <a:stretch/>
        </p:blipFill>
        <p:spPr>
          <a:xfrm>
            <a:off x="5626080" y="356220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07600" y="98100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EM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12880" y="1185480"/>
            <a:ext cx="67485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tiquet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85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presentación de información importante sobre un paque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 información del contenido del producto está regulada legal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formación útil – número telefónico gratuito y dirección del fabric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dicaciones y sugerencias de u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2941560" y="118116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ETIQUE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39800" y="1131480"/>
            <a:ext cx="68752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ff"/>
                </a:solidFill>
                <a:latin typeface="Times New Roman"/>
              </a:rPr>
              <a:t>Calidad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1374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l grado al cual un bien, servicio  o idea satisface las demandas y requerimientos de los consum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 el mercado global, la calidad del producto es un medio fundamental para diferenciarlo y colocarlos sobre la competencia en la mente del consumi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2012040" y="11095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LIDAD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7280" y="981000"/>
            <a:ext cx="6894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strategias de distribu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0920" y="2153880"/>
            <a:ext cx="8064360" cy="403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Canales de marke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inoristas (Wal-Mart, Sea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ayoristas (intermediarios de alimentos para restaurant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inoristas-E (Amazon.co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Administración de la cadena de suminist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Tahoma"/>
              </a:rPr>
              <a:t>Asociaciones a largo plazo entre los miembros del canal de distribución que trabajan para reducir costos, desperdicios y movimientos innecesarios para satisfacer a los consumido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24000" y="792000"/>
            <a:ext cx="8496000" cy="12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ales para los productos de consum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627696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450800" y="2460600"/>
            <a:ext cx="6311880" cy="3454200"/>
            <a:chOff x="1450800" y="2460600"/>
            <a:chExt cx="6311880" cy="3454200"/>
          </a:xfrm>
        </p:grpSpPr>
        <p:sp>
          <p:nvSpPr>
            <p:cNvPr id="781" name=""/>
            <p:cNvSpPr/>
            <p:nvPr/>
          </p:nvSpPr>
          <p:spPr>
            <a:xfrm>
              <a:off x="1450800" y="2460600"/>
              <a:ext cx="140940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52920" y="3174840"/>
              <a:ext cx="1409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nt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2920" y="3889080"/>
              <a:ext cx="1409760" cy="59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5292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5292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8412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1780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5292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17800" y="3889080"/>
              <a:ext cx="1409760" cy="59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8412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71780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50800" y="5317920"/>
              <a:ext cx="140940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8412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71780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49200" y="3057480"/>
              <a:ext cx="0" cy="22096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62000" y="3057480"/>
              <a:ext cx="0" cy="14986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62000" y="520380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1320" y="520380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25560" y="521640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51320" y="449244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5560" y="449244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51320" y="307008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51320" y="378144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12960" y="3082680"/>
              <a:ext cx="0" cy="73656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971360" y="2084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77960" y="21034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00"/>
                </a:solidFill>
                <a:latin typeface="Times New Roman"/>
              </a:rPr>
              <a:t>    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252760" y="2138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37200" y="2157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al para los Servici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63160" y="2147760"/>
            <a:ext cx="6807240" cy="4114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r lo general, los servicios 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 producen y consumen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l mismo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4516560" y="3276720"/>
            <a:ext cx="32400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mo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relaciona con las actividades utilizadas para informar a los individuos o grupos acerca de una organización y sus produc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119400" cy="27543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3657600" y="42670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Vote x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romo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9480" y="2286000"/>
            <a:ext cx="3276720" cy="12193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a a conocer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86400" y="2286000"/>
            <a:ext cx="3200400" cy="129528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a acerca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s nuevo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s ya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duca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erc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1008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iene el interé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úblico a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581280"/>
            <a:ext cx="0" cy="838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281952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6600" y="36576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1120" y="5334120"/>
            <a:ext cx="10666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4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84320" y="1371600"/>
            <a:ext cx="5791320" cy="4648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35400" y="1371600"/>
            <a:ext cx="4876560" cy="388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75040" y="1371600"/>
            <a:ext cx="3809880" cy="304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08560" y="1371600"/>
            <a:ext cx="27432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65760" y="1371600"/>
            <a:ext cx="1904760" cy="1523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2240" y="541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si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32240" y="45561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32240" y="3733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32240" y="29718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18040" y="21337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o-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773360"/>
            <a:ext cx="2663640" cy="3311280"/>
          </a:xfrm>
          <a:prstGeom prst="rightArrowCallout">
            <a:avLst>
              <a:gd name="adj1" fmla="val 31081"/>
              <a:gd name="adj2" fmla="val 31079"/>
              <a:gd name="adj3" fmla="val 16667"/>
              <a:gd name="adj4" fmla="val 6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rám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Ma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ceso Comunica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9000" y="2286000"/>
            <a:ext cx="1981080" cy="137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os de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124080"/>
            <a:ext cx="1676520" cy="3812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38680" y="2743200"/>
            <a:ext cx="175284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codificac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20120" y="2743200"/>
            <a:ext cx="129528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2666880"/>
            <a:ext cx="1600200" cy="6098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" y="2666880"/>
            <a:ext cx="103500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67280" y="4495680"/>
            <a:ext cx="1371600" cy="65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3880" y="4495680"/>
            <a:ext cx="1295640" cy="65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29718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410080" y="297180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91520" y="30481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9320" y="28954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9600" y="327672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7315200" y="48769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895120" y="480060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85800" y="480060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85800" y="3352680"/>
            <a:ext cx="0" cy="1447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zcla Promo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 la combinación de métodos promocionales que se utilizan para promover un producto específic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1523880" cy="13399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743200" cy="13716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914400" y="3995640"/>
            <a:ext cx="1676520" cy="164016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4952880" y="4876920"/>
            <a:ext cx="1143000" cy="533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</a:rPr>
              <a:t>Vote  x 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362320" y="1447920"/>
            <a:ext cx="4647960" cy="4724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648320" y="1447920"/>
            <a:ext cx="0" cy="4724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62320" y="3962520"/>
            <a:ext cx="4724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43200" y="2666880"/>
            <a:ext cx="16002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52880" y="2666880"/>
            <a:ext cx="160020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4343400"/>
            <a:ext cx="160020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4343400"/>
            <a:ext cx="1600200" cy="762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6"/>
          <a:stretch/>
        </p:blipFill>
        <p:spPr>
          <a:xfrm>
            <a:off x="2819520" y="137160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2514600" y="4876920"/>
            <a:ext cx="1198440" cy="117288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8"/>
          <a:stretch/>
        </p:blipFill>
        <p:spPr>
          <a:xfrm>
            <a:off x="5105520" y="1676520"/>
            <a:ext cx="1981080" cy="7761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"/>
          <a:stretch/>
        </p:blipFill>
        <p:spPr>
          <a:xfrm>
            <a:off x="6400800" y="4495680"/>
            <a:ext cx="7509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lementos de la </a:t>
            </a:r>
            <a:br>
              <a:rPr sz="4400"/>
            </a:b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zcla Promo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480" y="2666880"/>
            <a:ext cx="77724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Venta Personal: Es una comunicación personal pag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ue busca informar a los clientes y persuadirlo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tele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5800" y="4572000"/>
            <a:ext cx="7772400" cy="1905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idad: Es una comunicación no personal pagada a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organización  y sus productos, que se transmite a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udiencia objetivo empleando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sivo. Ej: comerciales de tele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80880" y="1828800"/>
            <a:ext cx="8001000" cy="1905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paganda: Es comunicación no personal pagada, acerc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organización, sus productos o ambos, que se transm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r un medio de comunicación masivo sin ningún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reportajes en rev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" y="4038480"/>
            <a:ext cx="7924680" cy="24386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moción de Ventas: Constituye un material o actividad,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túa como estímulo directo que ofrece valor agregad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centivos del producto a intermediarios, 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Muestra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 Persona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15720" y="2147760"/>
            <a:ext cx="680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t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es categorías de vendedo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Tomadores de ped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ndedores crea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ndedores de apo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4843440" y="4334040"/>
            <a:ext cx="30812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4000" y="919080"/>
            <a:ext cx="78483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V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nt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rsonal es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roceso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ap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96640" y="2440080"/>
            <a:ext cx="6840360" cy="3822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Búsqueda de prospe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cerc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nejo de obje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ierre – elaboración del ped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60640" y="807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Herramientas para l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romoción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nt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320480" y="2244600"/>
            <a:ext cx="6662520" cy="400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Aparado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Premi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Muestras y demostraci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Cup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Concursos y rifas para los consumido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Reembols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Exhibiciones comercia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5" dur="1" fill="hold"/>
                                  <p:tgtEl>
                                    <p:spTgt spid="8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43000" y="790200"/>
            <a:ext cx="69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edio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ublicitari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55640" y="2406240"/>
            <a:ext cx="3787920" cy="363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dios Impre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v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rreo dir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pectacula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61000" y="2386080"/>
            <a:ext cx="3843360" cy="36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dio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ectr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elevi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nuncio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Interne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n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25360" y="772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ublicidad en Interne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97080" y="2077920"/>
            <a:ext cx="668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e pronostica que las utilidades totales por publicidad, contenido pagado y comercio electrónico en Estados Unido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á de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3.3 miles de millones de dólares en el año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97120" y="5715000"/>
            <a:ext cx="431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ente: “E--MONEY”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American Demographic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junio 2001, p.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Definición de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un sistema de actividades interactivas diseñadas para planificar, fijar precios, promover y distribuir bienes y servicios que satisfagan necesidades de clientes actuales y potenciale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Stanton 197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la actividad humana dirigida a satisfacer necesidades y deseos a través del proceso de intercambi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Kotler 1980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87360" y="1030320"/>
            <a:ext cx="67867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strategia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puje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rac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890640" y="2135160"/>
            <a:ext cx="7623360" cy="3263760"/>
            <a:chOff x="890640" y="2135160"/>
            <a:chExt cx="7623360" cy="3263760"/>
          </a:xfrm>
        </p:grpSpPr>
        <p:sp>
          <p:nvSpPr>
            <p:cNvPr id="883" name=""/>
            <p:cNvSpPr/>
            <p:nvPr/>
          </p:nvSpPr>
          <p:spPr>
            <a:xfrm flipV="1">
              <a:off x="7812360" y="5030280"/>
              <a:ext cx="0" cy="36828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90640" y="2693880"/>
              <a:ext cx="7569360" cy="2387520"/>
              <a:chOff x="890640" y="2693880"/>
              <a:chExt cx="7569360" cy="238752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2338560" y="4555800"/>
                <a:ext cx="671040" cy="274680"/>
                <a:chOff x="2338560" y="4555800"/>
                <a:chExt cx="671040" cy="27468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2338560" y="4605120"/>
                  <a:ext cx="264960" cy="586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22440" y="4555800"/>
                  <a:ext cx="5871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8" name=""/>
              <p:cNvGrpSpPr/>
              <p:nvPr/>
            </p:nvGrpSpPr>
            <p:grpSpPr>
              <a:xfrm>
                <a:off x="6427800" y="4555800"/>
                <a:ext cx="671760" cy="274680"/>
                <a:chOff x="6427800" y="4555800"/>
                <a:chExt cx="671760" cy="27468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27800" y="4605120"/>
                  <a:ext cx="265320" cy="58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12040" y="4555800"/>
                  <a:ext cx="58752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1" name=""/>
              <p:cNvGrpSpPr/>
              <p:nvPr/>
            </p:nvGrpSpPr>
            <p:grpSpPr>
              <a:xfrm>
                <a:off x="4383360" y="4555800"/>
                <a:ext cx="671040" cy="274680"/>
                <a:chOff x="4383360" y="4555800"/>
                <a:chExt cx="671040" cy="27468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4383360" y="4605120"/>
                  <a:ext cx="264960" cy="58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67240" y="4555800"/>
                  <a:ext cx="5871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94" name=""/>
              <p:cNvSpPr/>
              <p:nvPr/>
            </p:nvSpPr>
            <p:spPr>
              <a:xfrm>
                <a:off x="890640" y="2693880"/>
                <a:ext cx="1435320" cy="8128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33880" y="2965320"/>
                <a:ext cx="6825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7024680" y="2693880"/>
                <a:ext cx="1435320" cy="812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980240" y="2693880"/>
                <a:ext cx="1434960" cy="8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35440" y="2693880"/>
                <a:ext cx="1434960" cy="812880"/>
              </a:xfrm>
              <a:prstGeom prst="rect">
                <a:avLst/>
              </a:prstGeom>
              <a:solidFill>
                <a:srgbClr val="e5d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3120" y="2965320"/>
                <a:ext cx="6825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78320" y="2965320"/>
                <a:ext cx="6829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"/>
              <p:cNvSpPr/>
              <p:nvPr/>
            </p:nvSpPr>
            <p:spPr>
              <a:xfrm>
                <a:off x="890640" y="4268520"/>
                <a:ext cx="1435320" cy="8128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24680" y="4268520"/>
                <a:ext cx="1435320" cy="812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80240" y="4268520"/>
                <a:ext cx="1434960" cy="8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935440" y="4268520"/>
                <a:ext cx="1434960" cy="812880"/>
              </a:xfrm>
              <a:prstGeom prst="rect">
                <a:avLst/>
              </a:prstGeom>
              <a:solidFill>
                <a:srgbClr val="e5d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062000" y="28843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62000" y="44845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49560" y="28843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62160" y="44845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3440" y="28843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13440" y="44845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99120" y="288432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12080" y="448452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3040" y="2135160"/>
              <a:ext cx="21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strategia de empu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2840" y="367164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strategia de atr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1563840" y="4052520"/>
              <a:ext cx="0" cy="21600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51240" y="4039920"/>
              <a:ext cx="6184800" cy="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36040" y="4039920"/>
              <a:ext cx="0" cy="22860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40160" y="5398920"/>
              <a:ext cx="6184800" cy="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1652760" y="5081400"/>
              <a:ext cx="0" cy="31752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2933280" y="574344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las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laz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encarga de disponer de los productos en las cantidades deseadas y en el momento adecuado, para la mayor cantidad de clientes del mercado objetiv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438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laz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2286000"/>
            <a:ext cx="3429000" cy="1295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er tan 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mo sea posibl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2286000"/>
            <a:ext cx="3505320" cy="1295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leccionar y Motiv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s intermedi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4343400"/>
            <a:ext cx="3429000" cy="1676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ablecer y mant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cedimien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trol a lo larg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dena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00600" y="4343400"/>
            <a:ext cx="3505320" cy="1676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sarrollar y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191120" y="289548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36576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65760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14800" y="518148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alidad Tot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Es la coordinación de esfuerzos dirigidos a mejorar todos los aspectos de un negocio, desde la calidad del producto y del servicio, hasta la satisfacción del cliente y de los emple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0811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 Pre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relaciona con las decisiones y acciones asociadas al establecimiento de objetivos y políticas de fijación de precios y a la determinación de los precios de los produc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24498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 de la Variable Pre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990720" y="2362320"/>
            <a:ext cx="3962160" cy="289548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50000">
                <a:srgbClr val="ccb374"/>
              </a:gs>
              <a:gs pos="100000">
                <a:srgbClr val="5e5235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er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ecuente entre el pre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el valor entregad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5486400" y="2860560"/>
            <a:ext cx="28954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Los objetivos más comunes de los precio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129440" cy="3167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ximizar utilidades y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mpulsar la participación en el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ntener el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status q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breviv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ntorno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Consta de  fuerzas competitivas, económicas, políticas, legales y regulatorias, socioculturales, y tecnológicas. Las cuales rodean a la mezcla de marketing y al consumi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19814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1905120" y="1066680"/>
            <a:ext cx="5486400" cy="533412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2286000"/>
            <a:ext cx="2971800" cy="27432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38480" y="3048120"/>
            <a:ext cx="1371600" cy="121896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9880" y="1447920"/>
            <a:ext cx="167652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ociocultu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62520" y="5334120"/>
            <a:ext cx="20574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y regula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62320" y="4724280"/>
            <a:ext cx="114300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ecnológ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867280" y="2286000"/>
            <a:ext cx="1143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eti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48520" y="3809880"/>
            <a:ext cx="914400" cy="838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362320" y="2362320"/>
            <a:ext cx="8380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conó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2819520"/>
            <a:ext cx="6858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733560" y="4114800"/>
            <a:ext cx="53316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257800" y="2743200"/>
            <a:ext cx="53352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2590920"/>
            <a:ext cx="106668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4114800"/>
            <a:ext cx="6098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267080" y="4419720"/>
            <a:ext cx="11430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3429000"/>
            <a:ext cx="6098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3429000"/>
            <a:ext cx="6094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7315200" y="251460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TRUCTURA ORGANIZACION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26920" y="242100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formal de relaciones de trabajo para la división de tareas y la coordinación de éstas que permita cumplir con eficiencia las metas organiz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mite a los empleados trabajar en común eficazmente ya que se asignan las tareas y responsabilidades de cada cual y qué se esp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ones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2133720"/>
            <a:ext cx="6248520" cy="1218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2514600"/>
            <a:ext cx="5486400" cy="762120"/>
          </a:xfrm>
          <a:prstGeom prst="rightArrow">
            <a:avLst>
              <a:gd name="adj1" fmla="val 50000"/>
              <a:gd name="adj2" fmla="val 179972"/>
            </a:avLst>
          </a:prstGeom>
          <a:solidFill>
            <a:srgbClr val="ffec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505320"/>
            <a:ext cx="6248520" cy="1143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3809880"/>
            <a:ext cx="2590920" cy="762120"/>
          </a:xfrm>
          <a:prstGeom prst="rightArrow">
            <a:avLst>
              <a:gd name="adj1" fmla="val 50000"/>
              <a:gd name="adj2" fmla="val 8499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3809880"/>
            <a:ext cx="2666880" cy="762120"/>
          </a:xfrm>
          <a:prstGeom prst="rightArrow">
            <a:avLst>
              <a:gd name="adj1" fmla="val 50000"/>
              <a:gd name="adj2" fmla="val 8748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S 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4724280"/>
            <a:ext cx="6248520" cy="121932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5105520"/>
            <a:ext cx="1600200" cy="761760"/>
          </a:xfrm>
          <a:prstGeom prst="rightArrow">
            <a:avLst>
              <a:gd name="adj1" fmla="val 50000"/>
              <a:gd name="adj2" fmla="val 5251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5105520"/>
            <a:ext cx="1676520" cy="761760"/>
          </a:xfrm>
          <a:prstGeom prst="rightArrow">
            <a:avLst>
              <a:gd name="adj1" fmla="val 50000"/>
              <a:gd name="adj2" fmla="val 5502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LAS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5105520"/>
            <a:ext cx="1447920" cy="761760"/>
          </a:xfrm>
          <a:prstGeom prst="rightArrow">
            <a:avLst>
              <a:gd name="adj1" fmla="val 50000"/>
              <a:gd name="adj2" fmla="val 47519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4920" y="6248520"/>
            <a:ext cx="6444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Fines de la década de 1800     Principios de los años 30     Mediados de los años 50      Años 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1760" y="90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cc6600"/>
                </a:solidFill>
                <a:latin typeface="Times New Roman"/>
              </a:rPr>
              <a:t>ELEMENTOS ESTRUCTURA ORGANIZACIONAL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55640" y="213372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ecial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identificación de tareas particulares y su asig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ndar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niformación y sistematización de los proced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rdina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cedimientos formales e informales para integrar las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torida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recho a decidir y actu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RGANIGRAM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26920" y="2943360"/>
            <a:ext cx="7632720" cy="1557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en que se represent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s relaciones de información entre funciones, departamentos e individuos de una organización. Es un instrument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estructura formal básica de un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2952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NIVELES  ORGANIZACIONALES  Y  AMBITO   DE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90720" y="114300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0000"/>
                </a:solidFill>
                <a:latin typeface="Times New Roman"/>
              </a:rPr>
              <a:t>Organización con tramos cortos (piramida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62520" y="1828800"/>
            <a:ext cx="1143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752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6294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95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576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769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72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15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907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096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195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0384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483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578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672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771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0866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960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57400" y="25146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52388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25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4008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57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625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008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01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430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623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238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19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43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051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240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81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62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9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01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8120" y="4672080"/>
            <a:ext cx="292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Ventajas: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strecha super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stricto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Rápida comunicación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subordinados y superi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02640" y="4691160"/>
            <a:ext cx="464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Des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periores tienden a involucrarse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so en el trabajo de los subordi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Muchos niveles administrat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Altos costos a causa de los numeros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xcesiva distancia entre el nivel más bajo y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más al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295280" y="-763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Book Antiqua"/>
              </a:rPr>
              <a:t>NIVELES  ORGANIZACIONALES  Y  AMBITO   DE  ADMINISTR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990720" y="114300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0000"/>
                </a:solidFill>
                <a:latin typeface="Times New Roman"/>
              </a:rPr>
              <a:t>Ej: Organización con tramos largos (pl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09880" y="1828800"/>
            <a:ext cx="1143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2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38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24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95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146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339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3434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3915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1600" y="2514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057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44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14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33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1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010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9560" y="4280040"/>
            <a:ext cx="381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Ventajas: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periores se ven obli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 dele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Se deben establecer políticas cla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bordinados deben ser cuidad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samente seleccion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201920" y="4267080"/>
            <a:ext cx="48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Des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Tendencia de los superiores sobrecargad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rabajo a convertirse en cuellos de botella en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ec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Riesgo de pérdida de control para el supervi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Se requiere de administradores de ca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14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0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562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86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90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438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43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181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57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71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28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72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816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9051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858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160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RGANIZAC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71640" y="242100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emplazamiento de recursos organizacionales para alcanzar objetivos estratégicos. (Richard  Daf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ica la creación de  estructuras de relaciones que permitan a los empleados ejecutar los planes y cumplir con las metas establecidas por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ORGANIZACION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03280" y="2963880"/>
            <a:ext cx="6264360" cy="2628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Determinación de la estructura y relaciones de autoridad de una organización para cumplir con las estrategias y planes estab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FACTORES INFLUYENTES DISEÑO ORGANIZACIONAL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26920" y="265284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amien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ategia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23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MECANICISTA 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240" y="2147760"/>
            <a:ext cx="487692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a especi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ígida departament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ra cadena de ma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echo tramo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a form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4648320" y="2147760"/>
          <a:ext cx="3809880" cy="411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14776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7" name="" descr=""/>
          <p:cNvPicPr/>
          <p:nvPr/>
        </p:nvPicPr>
        <p:blipFill>
          <a:blip r:embed="rId9"/>
          <a:stretch/>
        </p:blipFill>
        <p:spPr>
          <a:xfrm>
            <a:off x="5029200" y="2057400"/>
            <a:ext cx="317484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ORGANIC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quipos inter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quipos interjerárqu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ibre flujo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plio tramo d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ja formalización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4648320" y="2200320"/>
          <a:ext cx="4152960" cy="31035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200320"/>
                    <a:ext cx="4152960" cy="310356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ferenciación/integració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010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medida de las 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ntegr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medida de la coordinación entre departamentos en cuanto 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2:52:01Z</dcterms:created>
  <dc:creator>Claudio Castañeda</dc:creator>
  <dc:description/>
  <dc:language>en-US</dc:language>
  <cp:lastModifiedBy>Félix Lizama</cp:lastModifiedBy>
  <dcterms:modified xsi:type="dcterms:W3CDTF">2006-01-04T00:02:08Z</dcterms:modified>
  <cp:revision>133</cp:revision>
  <dc:subject/>
  <dc:title>Marketing Social </dc:title>
</cp:coreProperties>
</file>