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92F-CC5B-4D56-A7DF-59E690F5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229-3772-4520-B8FE-12099A2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209-D8F1-45A5-A620-6C7BA9B0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DD2-ECE4-4F0F-9521-795DE38E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E3B-3E25-4D29-AA5C-E2B29F5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686-2723-4B01-B20B-40C42C19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FC5-ADEA-46EB-B5B7-33E2000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9BF-0B6F-4E95-990A-781C37B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246-8474-4CAD-8EF2-89995DFA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6E3-3D68-4B13-9FA6-0C9A147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3F2-E3A5-4533-88F5-052983B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5A8-F638-4F29-B83C-205AF027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D46-36BF-40CE-9239-8E5F364BC5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649520"/>
            <a:ext cx="860400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Respiración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Procesos degradativos y oxidativos de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alimentos para obtener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2840" y="266760"/>
          <a:ext cx="7286760" cy="63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266760"/>
                    <a:ext cx="72867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676520" y="-60948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66760" y="1001880"/>
            <a:ext cx="7292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) Oxidación del Piruvato (mitocond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66920" y="2492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9080" y="2179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773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484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42920" y="177336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2708280"/>
            <a:ext cx="18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5840" y="242100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0560" y="3284640"/>
            <a:ext cx="151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5080" y="4024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4720" y="6093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143000" y="-2057400"/>
            <a:ext cx="1143000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5120" y="733320"/>
            <a:ext cx="78264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racterísticas Ciclo Kre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curre en la 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El C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sale de la mitocondria y abandona la cé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3) Se consumen 3 moléculas de 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4) Se produce 3 moléculas de NADH y 1 de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5) Se produce 1 ATP (fosforilación a nivel de sust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001" t="19335" r="24002" b="11334"/>
          <a:stretch/>
        </p:blipFill>
        <p:spPr>
          <a:xfrm>
            <a:off x="1066680" y="304920"/>
            <a:ext cx="5486400" cy="3962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5003" t="34001" r="25004" b="56669"/>
          <a:stretch/>
        </p:blipFill>
        <p:spPr>
          <a:xfrm>
            <a:off x="1143000" y="4267080"/>
            <a:ext cx="53341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001" t="42002" r="23001" b="19335"/>
          <a:stretch/>
        </p:blipFill>
        <p:spPr>
          <a:xfrm>
            <a:off x="380880" y="4495680"/>
            <a:ext cx="8458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5720" y="784080"/>
            <a:ext cx="96552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ísticas de la Fosforilación oxid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NADH y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ransfieren los electrones al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) Este proceso ocurre por una cadena transportador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ectrones ubicada en la cara interna de la 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) En cada transferencia los electrones van cayendo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vel más bajo de energía hasta llegar al oxí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) Esta energía liberada se aprovecha en bombear los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compartimento mitocondrial  interno a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574560"/>
            <a:ext cx="89946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La síntesis de ATP está acoplada al transporte de electrone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l transporte de electrones ocurre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transportadora de electrones localizada en la membrana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de la mitocondria hasta llegar al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. Existe consumo de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Desacopladores del transporte de electrones- fosforilación oxid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Sólo existe transporte de electrones pero no producción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j: 2,4 dinitrofe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Inhibidores del transporte de electrones- 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j: oligo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mido%20e%20transport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5120" y="18900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dena transp de e y 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77548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atpsyn2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000" y="53481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esis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33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highered.mcgraw-hill.com/sites/0072437316/student_view0/chapter9/animations.html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970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brookscole.com/chemistry_d/templates/student_resources/shared_resources/animations/oxidative/oxidativephosphoryl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5434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992" t="29988" r="27021" b="41769"/>
          <a:stretch/>
        </p:blipFill>
        <p:spPr>
          <a:xfrm>
            <a:off x="533520" y="2637000"/>
            <a:ext cx="7683480" cy="225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573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o simplificado de la oxidación completa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91320" y="6172200"/>
            <a:ext cx="33526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86200"/>
            <a:ext cx="31240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0"/>
            <a:ext cx="335304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28600"/>
            <a:ext cx="3047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066680"/>
            <a:ext cx="838080" cy="976320"/>
          </a:xfrm>
          <a:prstGeom prst="downArrow">
            <a:avLst>
              <a:gd name="adj1" fmla="val 50000"/>
              <a:gd name="adj2" fmla="val 291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182880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U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200400"/>
            <a:ext cx="485640" cy="1281240"/>
          </a:xfrm>
          <a:prstGeom prst="downArrow">
            <a:avLst>
              <a:gd name="adj1" fmla="val 50000"/>
              <a:gd name="adj2" fmla="val 659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cety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33412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5278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6440" y="3459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61722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17160" y="12333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ico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990720"/>
            <a:ext cx="2819520" cy="457200"/>
          </a:xfrm>
          <a:prstGeom prst="rightArrow">
            <a:avLst>
              <a:gd name="adj1" fmla="val 50000"/>
              <a:gd name="adj2" fmla="val 1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352680"/>
            <a:ext cx="2971800" cy="457200"/>
          </a:xfrm>
          <a:prstGeom prst="rightArrow">
            <a:avLst>
              <a:gd name="adj1" fmla="val 50000"/>
              <a:gd name="adj2" fmla="val 1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133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38480"/>
            <a:ext cx="3276720" cy="533520"/>
          </a:xfrm>
          <a:prstGeom prst="rightArrow">
            <a:avLst>
              <a:gd name="adj1" fmla="val 50000"/>
              <a:gd name="adj2" fmla="val 1535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02920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0600" y="8794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5760" y="213372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133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5960" y="20224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-6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9200" y="32418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2960" y="32418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324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4920" y="40035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2080" y="49942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0292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51240" y="499428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63868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7680" y="56800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63868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3520" y="56037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0280" y="62485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O  36-38 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76000" y="24177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457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 la Foto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905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bsorción de l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Formación de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or lisis de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ción de NADP a NADPH y generación de poder electromotr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íntesis de AT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Conversión de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 Hidratos de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9273" t="39942" r="51916" b="31248"/>
          <a:stretch/>
        </p:blipFill>
        <p:spPr>
          <a:xfrm>
            <a:off x="1752480" y="1219320"/>
            <a:ext cx="57294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7240" y="765000"/>
            <a:ext cx="861336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Fase Lumi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embrana fotosintetiz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 + ADP + Pi + NADP                       ATP + NADPH + H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+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+ 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Fase O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+ ATP + NADPH + H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+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Carbohidratos + NADP+  + ADP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 + 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Reacción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                                  Carbohidratos + 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63700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4365720"/>
            <a:ext cx="720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6093000"/>
            <a:ext cx="1297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55736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203560"/>
            <a:ext cx="0" cy="288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46360" y="11124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1998" t="17999" r="27002" b="16670"/>
          <a:stretch/>
        </p:blipFill>
        <p:spPr>
          <a:xfrm>
            <a:off x="2209680" y="1066680"/>
            <a:ext cx="5410440" cy="373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3000" t="64670" r="35004" b="8669"/>
          <a:stretch/>
        </p:blipFill>
        <p:spPr>
          <a:xfrm>
            <a:off x="2286000" y="4800600"/>
            <a:ext cx="4724280" cy="1523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72840" y="2937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TOSÍN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1984" t="15309" r="27021" b="11340"/>
          <a:stretch/>
        </p:blipFill>
        <p:spPr>
          <a:xfrm>
            <a:off x="912960" y="457200"/>
            <a:ext cx="7140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838080" y="1295280"/>
            <a:ext cx="7081920" cy="5384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5040" y="4208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bios en el potencial REDOX durante la foto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287440"/>
            <a:ext cx="81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Oxidación de l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mprende 3 etap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1) Glic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Oxidación del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3)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998" t="16670" r="23001" b="12669"/>
          <a:stretch/>
        </p:blipFill>
        <p:spPr>
          <a:xfrm>
            <a:off x="609480" y="914400"/>
            <a:ext cx="5715000" cy="403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3000" t="35337" r="25004" b="38002"/>
          <a:stretch/>
        </p:blipFill>
        <p:spPr>
          <a:xfrm>
            <a:off x="533520" y="4952880"/>
            <a:ext cx="5486400" cy="1524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0080" y="268200"/>
            <a:ext cx="84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clo de fijación del C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se forman moléculas orgá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120" y="134136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2.kumc.edu/netlearning/examples/flash/photosyn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0560" y="208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photosynthesis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93372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cst.cmich.edu/users/baile1re/bio101fall/enzphoto/photoanima.htm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084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ttp://highered.mcgraw-hill.com/sites/0072437316/student_view0/chapter10/animations.html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804960"/>
            <a:ext cx="794052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Glic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lucosa + 2 ADP + 2 Pi + 2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 Piruvato + 2 ATP + 2 NADH + 2H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+ 2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070080"/>
            <a:ext cx="0" cy="57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9480" y="876240"/>
            <a:ext cx="848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Ocurre en el cito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2) Produce ATP a nivel de sustrato y v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r reductor (NAD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3) Es anaerób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4) Ancestral: bajo rendimiento: 2 ATP n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5) Produce 2 moléculas de piru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001" t="22000" r="28003" b="11334"/>
          <a:stretch/>
        </p:blipFill>
        <p:spPr>
          <a:xfrm>
            <a:off x="914400" y="7632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001" t="32672" r="28003" b="22000"/>
          <a:stretch/>
        </p:blipFill>
        <p:spPr>
          <a:xfrm>
            <a:off x="1143000" y="3886200"/>
            <a:ext cx="518148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76360" y="3697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Glic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080" y="639720"/>
            <a:ext cx="91440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 qué manera los NADH sintetizados en el citoplasma pueden generar ATP por quimiosmosi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ben entrar a la mitocondria y debe haber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ómo entran a la mitocondria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NADH no pueden atravesar la mitocondria y ocupan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istema lanzade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sisten en transferir los equivalentes reducidos  a o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oléculas que sí pueden atravesar la membr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xisten 2 sistemas lanzader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66720" y="765000"/>
            <a:ext cx="808200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licerol 3- fosf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NADH + DiOH cetona                        G-3P  + 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-3P + F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                 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+ DiOH cet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(en la membrana mitocondr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equivalentes reducidos del NADH se transfieren al Glicerolfosfato que a través de una 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ubicada en la membrana mitocondrial  reduce al FAD dentro de la mitocondria a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: 2 ATP por cada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(cerebro y mús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7336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492280"/>
            <a:ext cx="1224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2637000"/>
            <a:ext cx="0" cy="72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2800" y="784080"/>
            <a:ext cx="828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 Malato-Asparta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NADH + OAA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Malato +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gresa a la mitocondria donde nue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e regenera el NADH pero ahora intra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alato+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AA + NAD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e generan 3 ATP por NADH (hígado, riñón  y coraz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131920"/>
            <a:ext cx="0" cy="433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501336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1773360"/>
            <a:ext cx="1513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6:55:28Z</dcterms:created>
  <dc:creator>Ana Maria Ronco</dc:creator>
  <dc:description/>
  <dc:language>en-US</dc:language>
  <cp:lastModifiedBy>CRISTOBAL NOSEDA R.</cp:lastModifiedBy>
  <dcterms:modified xsi:type="dcterms:W3CDTF">2007-01-09T12:22:04Z</dcterms:modified>
  <cp:revision>50</cp:revision>
  <dc:subject/>
  <dc:title>Presentación de PowerPoint</dc:title>
</cp:coreProperties>
</file>