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A1C-8251-4641-86D0-918087E2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609-9677-4073-B7C0-3A4542B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CE3-51E7-423F-8DB5-8F4402C4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73D-DC9B-41B5-93A1-4E092839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4E0-066F-4B26-845F-51F31F87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F2C-A029-4EE3-8BF2-79032D3E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80B-1D9E-4A02-99A5-2C92B979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257-08CD-414B-B9F4-24741888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7CD-8504-4D57-9EA8-56E62D30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7A4-4F8C-4BBB-A92F-A77523D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8C8-08E5-42DC-8C34-D61ECAE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DC1-188E-4FC1-92AD-ACB453F5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901-5738-4F3C-833A-FF596784B5E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649520"/>
            <a:ext cx="860400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Respiración Cel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Procesos degradativos y oxidativos de 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alimentos para obtener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2840" y="266760"/>
          <a:ext cx="7286760" cy="63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266760"/>
                    <a:ext cx="728676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676520" y="-609480"/>
            <a:ext cx="121921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66760" y="1001880"/>
            <a:ext cx="7292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) Oxidación del Piruvato (mitocond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 C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66920" y="2492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9080" y="2179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03400" y="1773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148428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842920" y="177336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2708280"/>
            <a:ext cx="18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5840" y="242100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050560" y="3284640"/>
            <a:ext cx="1513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5080" y="4024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08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4720" y="60930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143000" y="-2057400"/>
            <a:ext cx="1143000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5120" y="733320"/>
            <a:ext cx="7826400" cy="4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aracterísticas Ciclo Kre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curre en la 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2) El CO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sale de la mitocondria y abandona la cél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3) Se consumen 3 moléculas de 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4) Se produce 3 moléculas de NADH y 1 de FAD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5) Se produce 1 ATP (fosforilación a nivel de sustra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4001" t="19335" r="24002" b="11334"/>
          <a:stretch/>
        </p:blipFill>
        <p:spPr>
          <a:xfrm>
            <a:off x="1066680" y="304920"/>
            <a:ext cx="5486400" cy="3962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5003" t="34001" r="25004" b="56669"/>
          <a:stretch/>
        </p:blipFill>
        <p:spPr>
          <a:xfrm>
            <a:off x="1143000" y="4267080"/>
            <a:ext cx="533412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1001" t="42002" r="23001" b="19335"/>
          <a:stretch/>
        </p:blipFill>
        <p:spPr>
          <a:xfrm>
            <a:off x="380880" y="4495680"/>
            <a:ext cx="8458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5720" y="784080"/>
            <a:ext cx="96552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acterísticas de la Fosforilación oxid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s NADH y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ransfieren los electrones al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) Este proceso ocurre por una cadena transportador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ectrones ubicada en la cara interna de la 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) En cada transferencia los electrones van cayendo a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ivel más bajo de energía hasta llegar al oxíg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) Esta energía liberada se aprovecha en bombear los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de el compartimento mitocondrial  interno a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14720" y="952560"/>
            <a:ext cx="4714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574560"/>
            <a:ext cx="89946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La síntesis de ATP está acoplada al transporte de electrone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fosforilación oxid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El transporte de electrones ocurre a través de la cad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transportadora de electrones localizada en la membrana in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de la mitocondria hasta llegar al O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. Existe consumo de O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Desacopladores del transporte de electrones- fosforilación oxid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Sólo existe transporte de electrones pero no producción de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Ej: 2,4 dinitrofe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Inhibidores del transporte de electrones- fosforilación oxid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Ej: oligom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001" t="19335" r="28003" b="11334"/>
          <a:stretch/>
        </p:blipFill>
        <p:spPr>
          <a:xfrm>
            <a:off x="838080" y="0"/>
            <a:ext cx="5410440" cy="3962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001" t="51339" r="28003" b="11334"/>
          <a:stretch/>
        </p:blipFill>
        <p:spPr>
          <a:xfrm>
            <a:off x="838080" y="3962520"/>
            <a:ext cx="5410440" cy="213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1" t="59340" r="14998" b="30001"/>
          <a:stretch/>
        </p:blipFill>
        <p:spPr>
          <a:xfrm>
            <a:off x="838080" y="6095880"/>
            <a:ext cx="6400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stolaf.edu/people/giannini/flashanimat/metabolism/mido%20e%20transport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5120" y="18900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adena transp de e y Fosforilación oxid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77548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stolaf.edu/people/giannini/flashanimat/metabolism/atpsyn2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000" y="53481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esis de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3372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highered.mcgraw-hill.com/sites/0072437316/student_view0/chapter9/animations.html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9704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brookscole.com/chemistry_d/templates/student_resources/shared_resources/animations/oxidative/oxidativephosphoryla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54348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n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992" t="29988" r="27021" b="41769"/>
          <a:stretch/>
        </p:blipFill>
        <p:spPr>
          <a:xfrm>
            <a:off x="533520" y="2637000"/>
            <a:ext cx="7683480" cy="225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573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o simplificado de la oxidación completa de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tr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791320" y="6172200"/>
            <a:ext cx="335268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886200"/>
            <a:ext cx="31240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0"/>
            <a:ext cx="335304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28600"/>
            <a:ext cx="30477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066680"/>
            <a:ext cx="838080" cy="976320"/>
          </a:xfrm>
          <a:prstGeom prst="downArrow">
            <a:avLst>
              <a:gd name="adj1" fmla="val 50000"/>
              <a:gd name="adj2" fmla="val 291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86000"/>
            <a:ext cx="182880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U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200400"/>
            <a:ext cx="485640" cy="1281240"/>
          </a:xfrm>
          <a:prstGeom prst="downArrow">
            <a:avLst>
              <a:gd name="adj1" fmla="val 50000"/>
              <a:gd name="adj2" fmla="val 659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648320"/>
            <a:ext cx="22096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cety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334120"/>
            <a:ext cx="838440" cy="1143000"/>
          </a:xfrm>
          <a:custGeom>
            <a:avLst/>
            <a:gdLst>
              <a:gd name="textAreaLeft" fmla="*/ 112320 w 838440"/>
              <a:gd name="textAreaRight" fmla="*/ 726120 w 8384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3341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52780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6440" y="34596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o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61722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17160" y="12333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ico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990720"/>
            <a:ext cx="2819520" cy="457200"/>
          </a:xfrm>
          <a:prstGeom prst="rightArrow">
            <a:avLst>
              <a:gd name="adj1" fmla="val 50000"/>
              <a:gd name="adj2" fmla="val 154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352680"/>
            <a:ext cx="2971800" cy="457200"/>
          </a:xfrm>
          <a:prstGeom prst="rightArrow">
            <a:avLst>
              <a:gd name="adj1" fmla="val 50000"/>
              <a:gd name="adj2" fmla="val 1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133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038480"/>
            <a:ext cx="3276720" cy="533520"/>
          </a:xfrm>
          <a:prstGeom prst="rightArrow">
            <a:avLst>
              <a:gd name="adj1" fmla="val 50000"/>
              <a:gd name="adj2" fmla="val 1535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5029200"/>
            <a:ext cx="1447920" cy="4572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90600" y="8794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5760" y="213372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133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5960" y="20224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-6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19200" y="324180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2960" y="32418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324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4920" y="40035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2080" y="49942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02920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51240" y="499428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5638680"/>
            <a:ext cx="1447920" cy="4572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7680" y="56800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563868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3520" y="56037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30280" y="624852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O  36-38 A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76000" y="24177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tosínt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457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 la Foto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905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Absorción de lu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Formación de 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or lisis de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,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ucción de NADP a NADPH y generación de poder electromotr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íntesis de AT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Conversión de 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 Hidratos de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19273" t="39942" r="51916" b="31248"/>
          <a:stretch/>
        </p:blipFill>
        <p:spPr>
          <a:xfrm>
            <a:off x="1752480" y="1219320"/>
            <a:ext cx="57294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7240" y="765000"/>
            <a:ext cx="861336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Fase Lumin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Membrana fotosintetiza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O + ADP + Pi + NADP                       ATP + NADPH + H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+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+ O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Fase Osc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+ ATP + NADPH + H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+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Carbohidratos + NADP+  + ADP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i + H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Reacción 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O                                  Carbohidratos + O</a:t>
            </a:r>
            <a:r>
              <a:rPr b="1" lang="es-E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263700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6920" y="4365720"/>
            <a:ext cx="7207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6093000"/>
            <a:ext cx="12970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155736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203560"/>
            <a:ext cx="0" cy="288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46360" y="11124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1998" t="17999" r="27002" b="16670"/>
          <a:stretch/>
        </p:blipFill>
        <p:spPr>
          <a:xfrm>
            <a:off x="2209680" y="1066680"/>
            <a:ext cx="5410440" cy="3733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3000" t="64670" r="35004" b="8669"/>
          <a:stretch/>
        </p:blipFill>
        <p:spPr>
          <a:xfrm>
            <a:off x="2286000" y="4800600"/>
            <a:ext cx="4724280" cy="1523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72840" y="2937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TOSÍN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1984" t="15309" r="27021" b="11340"/>
          <a:stretch/>
        </p:blipFill>
        <p:spPr>
          <a:xfrm>
            <a:off x="912960" y="457200"/>
            <a:ext cx="71406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992" t="16695" r="28013" b="11340"/>
          <a:stretch/>
        </p:blipFill>
        <p:spPr>
          <a:xfrm>
            <a:off x="838080" y="1295280"/>
            <a:ext cx="7081920" cy="5384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5040" y="420840"/>
            <a:ext cx="81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mbios en el potencial REDOX durante la fotosí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2287440"/>
            <a:ext cx="8137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Oxidación de la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gl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mprende 3 etap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1) Glico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2) Oxidación del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3) 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1998" t="16670" r="23001" b="12669"/>
          <a:stretch/>
        </p:blipFill>
        <p:spPr>
          <a:xfrm>
            <a:off x="609480" y="914400"/>
            <a:ext cx="5715000" cy="4038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3000" t="35337" r="25004" b="38002"/>
          <a:stretch/>
        </p:blipFill>
        <p:spPr>
          <a:xfrm>
            <a:off x="533520" y="4952880"/>
            <a:ext cx="5486400" cy="1524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0080" y="268200"/>
            <a:ext cx="843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clo de fijación del CO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se forman moléculas orgá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120" y="1341360"/>
            <a:ext cx="83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2.kumc.edu/netlearning/examples/flash/photosyn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0560" y="208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234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stolaf.edu/people/giannini/flashanimat/metabolism/photosynthesis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93372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cst.cmich.edu/users/baile1re/bio101fall/enzphoto/photoanima.htm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50846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ttp://highered.mcgraw-hill.com/sites/0072437316/student_view0/chapter10/animations.html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804960"/>
            <a:ext cx="7940520" cy="40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Glico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Glucosa + 2 ADP + 2 Pi + 2 N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2 Piruvato + 2 ATP + 2 NADH + 2H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+ 2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070080"/>
            <a:ext cx="0" cy="57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9480" y="876240"/>
            <a:ext cx="8483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Ocurre en el cito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2) Produce ATP a nivel de sustrato y v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der reductor (NAD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3) Es anaerób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4) Ancestral: bajo rendimiento: 2 ATP n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5) Produce 2 moléculas de piruv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001" t="22000" r="28003" b="11334"/>
          <a:stretch/>
        </p:blipFill>
        <p:spPr>
          <a:xfrm>
            <a:off x="914400" y="76320"/>
            <a:ext cx="541008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4001" t="32672" r="28003" b="22000"/>
          <a:stretch/>
        </p:blipFill>
        <p:spPr>
          <a:xfrm>
            <a:off x="1143000" y="3886200"/>
            <a:ext cx="518148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76360" y="3697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Glico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1080" y="639720"/>
            <a:ext cx="91440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De qué manera los NADH sintetizados en el citoplasma pueden generar ATP por quimiosmosis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Deben entrar a la mitocondria y debe haber O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ómo entran a la mitocondria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NADH no pueden atravesar la mitocondria y ocupan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istema lanzade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nsisten en transferir los equivalentes reducidos  a o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oléculas que sí pueden atravesar la membr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xisten 2 sistemas lanzader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66720" y="765000"/>
            <a:ext cx="808200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Glicerol 3- fosf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NADH + DiOH cetona                        G-3P  +  N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G-3P + F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                          FAD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+ DiOH cet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(en la membrana mitocondri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equivalentes reducidos del NADH se transfieren al Glicerolfosfato que a través de una enz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ubicada en la membrana mitocondrial  reduce al FAD dentro de la mitocondria a FAD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: 2 ATP por cada FAD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(cerebro y mús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7336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2492280"/>
            <a:ext cx="1224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2637000"/>
            <a:ext cx="0" cy="720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2800" y="784080"/>
            <a:ext cx="8283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2)  Malato-Asparta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NADH + OAA    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Malato + N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ingresa a la mitocondria donde nue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e regenera el NADH pero ahora intra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alato+ NAD</a:t>
            </a:r>
            <a:r>
              <a:rPr b="1" lang="es-E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AA + NAD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e generan 3 ATP por NADH (hígado, riñón  y coraz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131920"/>
            <a:ext cx="0" cy="4334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501336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1773360"/>
            <a:ext cx="15130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6:55:28Z</dcterms:created>
  <dc:creator>Ana Maria Ronco</dc:creator>
  <dc:description/>
  <dc:language>en-US</dc:language>
  <cp:lastModifiedBy>CRISTOBAL NOSEDA R.</cp:lastModifiedBy>
  <dcterms:modified xsi:type="dcterms:W3CDTF">2007-01-09T12:22:04Z</dcterms:modified>
  <cp:revision>50</cp:revision>
  <dc:subject/>
  <dc:title>Presentación de PowerPoint</dc:title>
</cp:coreProperties>
</file>