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D4D-4F86-40A3-9728-02DAB125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87E-07B1-43BB-BAA4-8893AAC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818-65AE-4CD1-B921-51976BBF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705-C964-42EE-BAE3-1D71142D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68B-610A-452D-B744-7F49D90B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9D70-0946-4299-96B5-8FBE4C1C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8CD2-5063-4A09-B6F8-26A3B37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DBB-496B-4330-AECD-8AA966A6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C3B-815C-443A-BCB8-FF1E19FD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E0F-60A2-4DB0-B98D-FAC7CFC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798-1866-4CE0-994B-379D63B4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EFA-7945-4C43-A407-9AC800B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03F1-08A4-4CBE-8972-E515E4DF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00520" y="2084400"/>
            <a:ext cx="7058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ción al Metabol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97480" y="1628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¿Cómo se regula una vía metabó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2852640"/>
            <a:ext cx="676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2.- Regulación de la actividad enzimática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(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11403"/>
                </a:solidFill>
                <a:latin typeface="Arial"/>
              </a:rPr>
              <a:t>b- Modificación covalente: Ej </a:t>
            </a:r>
            <a:r>
              <a:rPr b="1" lang="es-ES" sz="2400" spc="-1" strike="noStrike">
                <a:solidFill>
                  <a:srgbClr val="f1140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11403"/>
                </a:solidFill>
                <a:latin typeface="Arial"/>
              </a:rPr>
              <a:t>fosforilación y desfosfor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20640" y="498600"/>
            <a:ext cx="48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dificación Covalente de Enz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581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zima no fosfori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1120" y="35053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nzima fosfori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7640" y="54100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99"/>
                </a:solidFill>
                <a:latin typeface="Times New Roman"/>
              </a:rPr>
              <a:t>Fosfat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2847960"/>
            <a:ext cx="5105520" cy="733320"/>
          </a:xfrm>
          <a:custGeom>
            <a:avLst/>
            <a:gdLst>
              <a:gd name="textAreaLeft" fmla="*/ 893520 w 5105520"/>
              <a:gd name="textAreaRight" fmla="*/ 3701520 w 510552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4067280"/>
            <a:ext cx="60948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4067280"/>
            <a:ext cx="838080" cy="3808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599480" y="4600440"/>
            <a:ext cx="5181480" cy="733680"/>
          </a:xfrm>
          <a:custGeom>
            <a:avLst/>
            <a:gdLst>
              <a:gd name="textAreaLeft" fmla="*/ 906480 w 5181480"/>
              <a:gd name="textAreaRight" fmla="*/ 3756600 w 51814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2133720"/>
            <a:ext cx="4647960" cy="733320"/>
          </a:xfrm>
          <a:custGeom>
            <a:avLst/>
            <a:gdLst>
              <a:gd name="textAreaLeft" fmla="*/ 813240 w 4647960"/>
              <a:gd name="textAreaRight" fmla="*/ 3369960 w 46479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5375160"/>
            <a:ext cx="500040" cy="568440"/>
          </a:xfrm>
          <a:custGeom>
            <a:avLst/>
            <a:gdLst>
              <a:gd name="textAreaLeft" fmla="*/ 66960 w 500040"/>
              <a:gd name="textAreaRight" fmla="*/ 433080 w 500040"/>
              <a:gd name="textAreaTop" fmla="*/ 99360 h 568440"/>
              <a:gd name="textAreaBottom" fmla="*/ 412200 h 56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57913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8640" y="182880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Proteína Ki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97480" y="1628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¿Cómo se regula una vía metabó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285264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3.-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Regulación de la cantidad de enzima 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(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Implica activar o inhibir  la expresión  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de genes en el núcleo (proceso de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transcripción y de traducción: síntesis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prote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838080"/>
            <a:ext cx="9016920" cy="5300280"/>
            <a:chOff x="0" y="838080"/>
            <a:chExt cx="9016920" cy="5300280"/>
          </a:xfrm>
        </p:grpSpPr>
        <p:sp>
          <p:nvSpPr>
            <p:cNvPr id="77" name=""/>
            <p:cNvSpPr/>
            <p:nvPr/>
          </p:nvSpPr>
          <p:spPr>
            <a:xfrm>
              <a:off x="742680" y="1650960"/>
              <a:ext cx="1892520" cy="23493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004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81720" y="1650960"/>
              <a:ext cx="1892160" cy="234936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004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120" y="838080"/>
              <a:ext cx="2401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4e47"/>
                  </a:solidFill>
                  <a:latin typeface="Arial"/>
                </a:rPr>
                <a:t>ENVIRON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89080" y="838080"/>
              <a:ext cx="1312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4e47"/>
                  </a:solidFill>
                  <a:latin typeface="Arial"/>
                </a:rPr>
                <a:t>GENE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73360" y="2003400"/>
              <a:ext cx="16567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up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vail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37160" y="2003400"/>
              <a:ext cx="1857960" cy="17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ges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bsor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tor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xcre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81120" y="5622840"/>
              <a:ext cx="4120920" cy="515520"/>
            </a:xfrm>
            <a:prstGeom prst="rect">
              <a:avLst/>
            </a:prstGeom>
            <a:solidFill>
              <a:srgbClr val="00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0fef9"/>
                  </a:solidFill>
                  <a:latin typeface="Arial"/>
                </a:rPr>
                <a:t>NUTRITIONAL HEALT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006800"/>
              <a:ext cx="9016920" cy="0"/>
            </a:xfrm>
            <a:prstGeom prst="line">
              <a:avLst/>
            </a:prstGeom>
            <a:ln w="50760">
              <a:solidFill>
                <a:srgbClr val="004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19400" y="4012920"/>
              <a:ext cx="978120" cy="1054080"/>
            </a:xfrm>
            <a:prstGeom prst="triangle">
              <a:avLst>
                <a:gd name="adj" fmla="val 49995"/>
              </a:avLst>
            </a:prstGeom>
            <a:solidFill>
              <a:srgbClr val="004e47"/>
            </a:solidFill>
            <a:ln w="12600">
              <a:solidFill>
                <a:srgbClr val="004e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41640" y="6699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41640" y="22701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51360" y="3641760"/>
            <a:ext cx="111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18640" y="5165640"/>
            <a:ext cx="1757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TE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12952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4191120"/>
            <a:ext cx="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08280" y="1432080"/>
            <a:ext cx="189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08280" y="2803680"/>
            <a:ext cx="219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84600" y="425124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279f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560" y="1120680"/>
            <a:ext cx="404640" cy="3750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133720"/>
            <a:ext cx="2425680" cy="368280"/>
          </a:xfrm>
          <a:prstGeom prst="rightArrow">
            <a:avLst>
              <a:gd name="adj1" fmla="val 50000"/>
              <a:gd name="adj2" fmla="val 159540"/>
            </a:avLst>
          </a:prstGeom>
          <a:solidFill>
            <a:srgbClr val="00cc99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054240"/>
            <a:ext cx="2425680" cy="368280"/>
          </a:xfrm>
          <a:prstGeom prst="leftArrow">
            <a:avLst>
              <a:gd name="adj1" fmla="val 50000"/>
              <a:gd name="adj2" fmla="val 159479"/>
            </a:avLst>
          </a:prstGeom>
          <a:solidFill>
            <a:srgbClr val="ff4545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41400" y="1782720"/>
            <a:ext cx="117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84640" y="3382920"/>
            <a:ext cx="1923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t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metabolism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2760" y="2752560"/>
            <a:ext cx="67896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7840" y="2614680"/>
            <a:ext cx="1442520" cy="64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rip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i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2720" y="2752560"/>
            <a:ext cx="88164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01240" y="2752560"/>
            <a:ext cx="88164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73640" y="700200"/>
            <a:ext cx="180972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RNA in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13120" y="4861080"/>
            <a:ext cx="1099440" cy="36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84160" y="3567240"/>
            <a:ext cx="169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crip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22040" y="3567240"/>
            <a:ext cx="163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ces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18160" y="3567240"/>
            <a:ext cx="1253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6160" y="3666960"/>
            <a:ext cx="142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6160" y="1677960"/>
            <a:ext cx="142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trol d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30520" y="294804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71960" y="294804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91160" y="1176480"/>
            <a:ext cx="1408320" cy="1739880"/>
          </a:xfrm>
          <a:custGeom>
            <a:avLst/>
            <a:gdLst/>
            <a:ahLst/>
            <a:rect l="l" t="t" r="r" b="b"/>
            <a:pathLst>
              <a:path w="887" h="1096">
                <a:moveTo>
                  <a:pt x="0" y="1095"/>
                </a:moveTo>
                <a:lnTo>
                  <a:pt x="886" y="1095"/>
                </a:lnTo>
                <a:lnTo>
                  <a:pt x="88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91160" y="3014640"/>
            <a:ext cx="1408320" cy="1739880"/>
          </a:xfrm>
          <a:custGeom>
            <a:avLst/>
            <a:gdLst/>
            <a:ahLst/>
            <a:rect l="l" t="t" r="r" b="b"/>
            <a:pathLst>
              <a:path w="887" h="1096">
                <a:moveTo>
                  <a:pt x="0" y="0"/>
                </a:moveTo>
                <a:lnTo>
                  <a:pt x="886" y="0"/>
                </a:lnTo>
                <a:lnTo>
                  <a:pt x="886" y="10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06600" y="29480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39800" y="3112920"/>
            <a:ext cx="147600" cy="354240"/>
          </a:xfrm>
          <a:prstGeom prst="upArrow">
            <a:avLst>
              <a:gd name="adj1" fmla="val 50000"/>
              <a:gd name="adj2" fmla="val 119989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18000" y="3112920"/>
            <a:ext cx="147600" cy="354240"/>
          </a:xfrm>
          <a:prstGeom prst="upArrow">
            <a:avLst>
              <a:gd name="adj1" fmla="val 50000"/>
              <a:gd name="adj2" fmla="val 119989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62400" y="3112920"/>
            <a:ext cx="147960" cy="354240"/>
          </a:xfrm>
          <a:prstGeom prst="upArrow">
            <a:avLst>
              <a:gd name="adj1" fmla="val 50000"/>
              <a:gd name="adj2" fmla="val 11969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820000">
            <a:off x="7219440" y="3251160"/>
            <a:ext cx="147600" cy="353880"/>
          </a:xfrm>
          <a:prstGeom prst="upArrow">
            <a:avLst>
              <a:gd name="adj1" fmla="val 50000"/>
              <a:gd name="adj2" fmla="val 1198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7980000">
            <a:off x="7219440" y="2257200"/>
            <a:ext cx="147600" cy="353880"/>
          </a:xfrm>
          <a:prstGeom prst="upArrow">
            <a:avLst>
              <a:gd name="adj1" fmla="val 50000"/>
              <a:gd name="adj2" fmla="val 1198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59440" y="360360"/>
            <a:ext cx="101520" cy="2422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9440" y="4133880"/>
            <a:ext cx="101520" cy="2422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76360" y="577224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3840" y="5772240"/>
            <a:ext cx="169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560" y="297000"/>
            <a:ext cx="4368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iveles de Control de la Ex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énica en Eucario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97480" y="1628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¿Cómo se regula una vía metabó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2852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.- Carga energ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V="1">
            <a:off x="1600200" y="159984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541008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1562040"/>
            <a:ext cx="4737240" cy="3924360"/>
          </a:xfrm>
          <a:custGeom>
            <a:avLst/>
            <a:gdLst/>
            <a:ahLst/>
            <a:rect l="l" t="t" r="r" b="b"/>
            <a:pathLst>
              <a:path w="2984" h="2472">
                <a:moveTo>
                  <a:pt x="0" y="120"/>
                </a:moveTo>
                <a:cubicBezTo>
                  <a:pt x="176" y="60"/>
                  <a:pt x="352" y="0"/>
                  <a:pt x="816" y="360"/>
                </a:cubicBezTo>
                <a:cubicBezTo>
                  <a:pt x="1280" y="720"/>
                  <a:pt x="2584" y="2088"/>
                  <a:pt x="2784" y="2280"/>
                </a:cubicBezTo>
                <a:cubicBezTo>
                  <a:pt x="2984" y="2472"/>
                  <a:pt x="2152" y="1648"/>
                  <a:pt x="2016" y="15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041480"/>
            <a:ext cx="3733920" cy="4064040"/>
          </a:xfrm>
          <a:custGeom>
            <a:avLst/>
            <a:gdLst/>
            <a:ahLst/>
            <a:rect l="l" t="t" r="r" b="b"/>
            <a:pathLst>
              <a:path w="2352" h="2560">
                <a:moveTo>
                  <a:pt x="0" y="2560"/>
                </a:moveTo>
                <a:cubicBezTo>
                  <a:pt x="488" y="2484"/>
                  <a:pt x="976" y="2408"/>
                  <a:pt x="1344" y="2032"/>
                </a:cubicBezTo>
                <a:cubicBezTo>
                  <a:pt x="1712" y="1656"/>
                  <a:pt x="2064" y="608"/>
                  <a:pt x="2208" y="304"/>
                </a:cubicBezTo>
                <a:cubicBezTo>
                  <a:pt x="2352" y="0"/>
                  <a:pt x="2200" y="224"/>
                  <a:pt x="2208" y="2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5400000">
            <a:off x="-62640" y="34117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locidad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24240" y="219240"/>
            <a:ext cx="27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rg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1480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7280" y="55008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8560" y="550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8320" y="121932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a generadora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70360" y="4952880"/>
            <a:ext cx="32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ía utilizadora de 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42880" y="542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T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79320" y="330120"/>
            <a:ext cx="7860240" cy="75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ff3300"/>
                </a:solidFill>
                <a:latin typeface="Times New Roman"/>
              </a:rPr>
              <a:t>Regulación de las ví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1.- Suministro de Nutrientes (sustra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2.- Regulación de la actividad enzimática (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a.- Efectos alosté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b- Modificación covalente: Ej fosforilación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desfosfori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3.- Cantidad de Enzimas  (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Control sobre la síntesis y degra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</a:rPr>
              <a:t>4.- Carga energ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49880" y="907920"/>
            <a:ext cx="80492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Qué facilita el control del metabolismo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1) Compartimen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as vías metabólicas se localizan en difer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mpartimentos cel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: Glicolisis en el 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Síntesis proteica en el citopla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iclo de Krebs en la mitoc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71960" y="590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77360" y="1268280"/>
            <a:ext cx="800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etabolism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junto de reacciones químicas que ocur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entro de una cél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9560" y="752400"/>
            <a:ext cx="849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) Al ser regulada vía síntesis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vía de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8920" y="2565360"/>
            <a:ext cx="492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ómo saber si una vía es regulad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+B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C+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500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752120" y="364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378936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93800" y="3141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17800" y="41958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d = kd 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88360" y="486900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 = ki [C] 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40600" y="49528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40600" y="44956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] 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435360" y="4572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d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8320" y="4917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54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8920" y="59086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70160" y="590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880" y="5867280"/>
            <a:ext cx="25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A] [B]= ki [C] 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99480" y="54658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el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4348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98920" y="1133640"/>
            <a:ext cx="8116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reacciones no reguladas llegan  al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uando una vía es regulada: no se llega al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s reacciones se hacen ir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Cómo se sabe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e mide la razón M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Si M/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 Keq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000066"/>
                </a:solidFill>
                <a:latin typeface="Times New Roman"/>
              </a:rPr>
              <a:t>vía regul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5257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7800" y="60199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A]ss [B]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7800" y="55627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[C]ss [D]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56840" y="5603760"/>
            <a:ext cx="9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/A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69000" y="60199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] [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69000" y="55627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C] [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38480" y="5756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Keq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6019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1600" y="5729400"/>
            <a:ext cx="4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24382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30680" y="549360"/>
            <a:ext cx="7666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n general los procesos metabólicos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rganizan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Vías Metabó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ransformación de un sustrato inicial en 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ducto final a través de reac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medi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ada una de las reacciones está cat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r una enzima dif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285840"/>
          <a:ext cx="8382240" cy="634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5840"/>
                    <a:ext cx="838224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19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highered.mcgraw-hill.com/sites/0072437316/student_view0/chapter8/animations.html#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95480" y="12891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a metabólica o bio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97480" y="1628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¿Cómo se regula una vía metabó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2852640"/>
            <a:ext cx="676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Suministro de Nutrientes (sustratos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51725" b="0"/>
          <a:stretch/>
        </p:blipFill>
        <p:spPr>
          <a:xfrm>
            <a:off x="2397240" y="285840"/>
            <a:ext cx="4046400" cy="6340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95640" y="54936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404640"/>
            <a:ext cx="180000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e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13200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9480" y="5583240"/>
            <a:ext cx="33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ía metabólica muy a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97480" y="1628640"/>
            <a:ext cx="74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¿Cómo se regula una vía metabóli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852640"/>
            <a:ext cx="676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2.- Regulación de la actividad enzimática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(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11403"/>
                </a:solidFill>
                <a:latin typeface="Arial"/>
              </a:rPr>
              <a:t>a.- Efectos alosté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46573" t="0" r="0" b="0"/>
          <a:stretch/>
        </p:blipFill>
        <p:spPr>
          <a:xfrm>
            <a:off x="1835280" y="285840"/>
            <a:ext cx="4478040" cy="634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10920" y="5583240"/>
            <a:ext cx="31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ía metabólica se inh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6:55:28Z</dcterms:created>
  <dc:creator>Ana Maria Ronco</dc:creator>
  <dc:description/>
  <dc:language>en-US</dc:language>
  <cp:lastModifiedBy>CRISTOBAL NOSEDA R.</cp:lastModifiedBy>
  <dcterms:modified xsi:type="dcterms:W3CDTF">2007-01-09T12:20:41Z</dcterms:modified>
  <cp:revision>51</cp:revision>
  <dc:subject/>
  <dc:title>Presentación de PowerPoint</dc:title>
</cp:coreProperties>
</file>