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87C-FD66-4560-910D-138EF9BF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CAB-91FF-475E-A1DE-7F6E818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B19-B4BC-4722-9A20-8926B0BD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CEA-B187-43A4-BE79-53CDD50F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35C-AFDF-4785-BF76-28D1E0E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A19-3336-46CF-AB5E-0401313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C55-496F-4436-8E14-104A69E0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627-5DD4-4D82-A3FB-EFDCF3AC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455-291E-45F7-9D53-E599E5B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EF7-5AED-42B7-A2A1-44760C8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2F3-A6DF-41B9-9EC8-E6A2545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489-C146-47B8-9648-E42CC07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4526-FA0A-4161-999E-32CC053671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880" y="2309760"/>
            <a:ext cx="78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 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y Enzimologí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867564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Reducción: 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1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Oxidación:     Respir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86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5800" y="57992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86 Kcal/molécula de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0240" y="1550880"/>
            <a:ext cx="8123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da la E que se libera en la hidrólisis de un enlace C-H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útil para formar un enlace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molécula de glucosa que se oxida forma 36-38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da enlace P que se hidroliza del ATP libera 7.3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cada molécula de glucosa que se oxida se producen 280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5%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3840" y="2629080"/>
            <a:ext cx="47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– T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1480" y="5119560"/>
            <a:ext cx="36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libre     Entalpía     Entrop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7294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82088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de enlace contenida en reactantes debe ser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 E contenida en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menta el desorden del sistema (2ª Ley de la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7280" y="4468680"/>
            <a:ext cx="486000" cy="615960"/>
          </a:xfrm>
          <a:prstGeom prst="downArrow">
            <a:avLst>
              <a:gd name="adj1" fmla="val 50000"/>
              <a:gd name="adj2" fmla="val 31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480" y="907920"/>
            <a:ext cx="92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mo se puede predecir que una reacción ocurra en forma espontánea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69228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62064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3933720"/>
            <a:ext cx="35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549000" y="22651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771720" y="2047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08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980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6928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2276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98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76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637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134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052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3141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6920" y="219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81640" y="90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5800" y="5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50520" y="275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989000"/>
            <a:ext cx="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1341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7440" y="17733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dmini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80360" y="1269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1800" y="1982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76280"/>
            <a:ext cx="1584360" cy="9763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90792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85080" y="475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5600" y="376200"/>
            <a:ext cx="122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24000" y="1989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200" y="4340160"/>
            <a:ext cx="3335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4720" y="4400640"/>
            <a:ext cx="3851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6000" y="1987560"/>
            <a:ext cx="3311280" cy="129708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480" y="2786040"/>
            <a:ext cx="786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360" y="907920"/>
            <a:ext cx="68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célula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n la Energía de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27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573360"/>
            <a:ext cx="0" cy="647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64" t="24822" r="51916" b="19637"/>
          <a:stretch/>
        </p:blipFill>
        <p:spPr>
          <a:xfrm>
            <a:off x="900000" y="44280"/>
            <a:ext cx="7128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120" y="98100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allost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45280" y="352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ción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27200" y="324648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c-inhb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99840" y="26557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52400" y="4575240"/>
            <a:ext cx="58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n-c-in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8560" y="399888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8480" y="587052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85640" y="52484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24360" y="2781360"/>
            <a:ext cx="1512720" cy="865080"/>
          </a:xfrm>
          <a:prstGeom prst="ellipse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268280"/>
            <a:ext cx="78692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393372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530064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50280" y="495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6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8431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20640"/>
            <a:ext cx="8893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37711" t="59170" r="29000" b="8669"/>
          <a:stretch/>
        </p:blipFill>
        <p:spPr>
          <a:xfrm>
            <a:off x="3635280" y="2276640"/>
            <a:ext cx="2536920" cy="1838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6320" y="5603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992" t="51345" r="53002" b="10017"/>
          <a:stretch/>
        </p:blipFill>
        <p:spPr>
          <a:xfrm>
            <a:off x="1792440" y="1228680"/>
            <a:ext cx="5732280" cy="361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4015" t="32697" r="59993" b="50022"/>
          <a:stretch/>
        </p:blipFill>
        <p:spPr>
          <a:xfrm>
            <a:off x="2054160" y="4680000"/>
            <a:ext cx="5326200" cy="191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24320" y="299880"/>
            <a:ext cx="56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08360" y="141300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5040" y="955800"/>
            <a:ext cx="3274560" cy="45972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0800000">
            <a:off x="3923280" y="1555920"/>
            <a:ext cx="3600360" cy="720720"/>
          </a:xfrm>
          <a:custGeom>
            <a:avLst/>
            <a:gdLst>
              <a:gd name="textAreaLeft" fmla="*/ 1199880 w 3600360"/>
              <a:gd name="textAreaRight" fmla="*/ 3083400 w 3600360"/>
              <a:gd name="textAreaTop" fmla="*/ 3438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54936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0480" y="115920"/>
            <a:ext cx="1872360" cy="459720"/>
          </a:xfrm>
          <a:prstGeom prst="rect">
            <a:avLst/>
          </a:prstGeom>
          <a:gradFill rotWithShape="0">
            <a:gsLst>
              <a:gs pos="0">
                <a:srgbClr val="ca040d"/>
              </a:gs>
              <a:gs pos="100000">
                <a:srgbClr val="5d01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11640" y="1542960"/>
            <a:ext cx="3311640" cy="733680"/>
          </a:xfrm>
          <a:custGeom>
            <a:avLst/>
            <a:gdLst>
              <a:gd name="textAreaLeft" fmla="*/ 1103760 w 3311640"/>
              <a:gd name="textAreaRight" fmla="*/ 2836440 w 3311640"/>
              <a:gd name="textAreaTop" fmla="*/ 3499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284640"/>
            <a:ext cx="2159280" cy="720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141720"/>
            <a:ext cx="4176720" cy="504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0370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653000"/>
            <a:ext cx="3600360" cy="485640"/>
          </a:xfrm>
          <a:prstGeom prst="leftArrow">
            <a:avLst>
              <a:gd name="adj1" fmla="val 50000"/>
              <a:gd name="adj2" fmla="val 18534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3640" y="3645000"/>
            <a:ext cx="486000" cy="718920"/>
          </a:xfrm>
          <a:prstGeom prst="downArrow">
            <a:avLst>
              <a:gd name="adj1" fmla="val 50000"/>
              <a:gd name="adj2" fmla="val 3698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365720"/>
            <a:ext cx="2303640" cy="1152360"/>
          </a:xfrm>
          <a:prstGeom prst="ellipse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3440" y="2311560"/>
            <a:ext cx="2047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709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680" y="3159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080" y="2349360"/>
            <a:ext cx="22305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78136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1440" y="5516640"/>
            <a:ext cx="1726920" cy="1123920"/>
          </a:xfrm>
          <a:custGeom>
            <a:avLst/>
            <a:gdLst>
              <a:gd name="textAreaLeft" fmla="*/ 231120 w 1726920"/>
              <a:gd name="textAreaRight" fmla="*/ 1495800 w 1726920"/>
              <a:gd name="textAreaTop" fmla="*/ 196560 h 1123920"/>
              <a:gd name="textAreaBottom" fmla="*/ 81504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373720"/>
            <a:ext cx="3384720" cy="1341360"/>
          </a:xfrm>
          <a:prstGeom prst="rect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baj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vimiento organ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34720" y="198900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sub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84200" y="12160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50864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04940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+, NADP+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992" t="18018" r="30989" b="13986"/>
          <a:stretch/>
        </p:blipFill>
        <p:spPr>
          <a:xfrm>
            <a:off x="838080" y="1504800"/>
            <a:ext cx="6632640" cy="4972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4300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838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335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360" y="306864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 y cadena transp d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5084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9/animations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5600" y="213372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atpa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628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 ATP y ATP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0840" y="364500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chemi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6240" y="45813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m pero más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41400" y="260280"/>
            <a:ext cx="460224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6720" y="2133720"/>
            <a:ext cx="525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692280"/>
            <a:ext cx="2627280" cy="93636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92376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Capacidad de realizar un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" y="4549680"/>
            <a:ext cx="7572240" cy="94716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dad de realizar una reacción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090880"/>
            <a:ext cx="486000" cy="1985760"/>
          </a:xfrm>
          <a:prstGeom prst="downArrow">
            <a:avLst>
              <a:gd name="adj1" fmla="val 50000"/>
              <a:gd name="adj2" fmla="val 1021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27720"/>
            <a:ext cx="84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815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638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349360"/>
            <a:ext cx="1407960" cy="486000"/>
          </a:xfrm>
          <a:prstGeom prst="rightArrow">
            <a:avLst>
              <a:gd name="adj1" fmla="val 50000"/>
              <a:gd name="adj2" fmla="val 7242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27664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ida en los enlaces químicos entre átomos que forman las molé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nstituyen de los alimentos (C-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0000" y="68436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24000" y="404640"/>
            <a:ext cx="71928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197000"/>
            <a:ext cx="93528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87920" y="255600"/>
            <a:ext cx="60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ética: comprometida directamente en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4680" y="12366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l: energía de almacen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360" y="2532240"/>
            <a:ext cx="7293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ENERGI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Elec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24920" y="4836960"/>
            <a:ext cx="556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ODINÁM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udia las transferencias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8480" y="733320"/>
            <a:ext cx="800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YES DE LA TERMO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ª Ley: la energía no se crea ni se destru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lo se trans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ª Ley: toda transferencia de energía 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aumento en el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4479" t="31116" r="16916" b="28583"/>
          <a:stretch/>
        </p:blipFill>
        <p:spPr>
          <a:xfrm>
            <a:off x="468360" y="476280"/>
            <a:ext cx="81723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9880" y="5661000"/>
            <a:ext cx="82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qué los organismos vivos no ocupan el calor como forma de E úti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que calor produce T cuando hay gradientes de t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nergía se transfiere en pequeñas cantidades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miento 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6400" y="3043080"/>
            <a:ext cx="5825520" cy="398880"/>
          </a:xfrm>
          <a:prstGeom prst="rect">
            <a:avLst/>
          </a:prstGeom>
          <a:solidFill>
            <a:srgbClr val="f114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CIONES de OXIDO-REDUCCIÓN: 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882960"/>
            <a:ext cx="79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gana electrón: se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pierde electrón: se ox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0520" y="579924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814" t="39917" r="32042" b="15971"/>
          <a:stretch/>
        </p:blipFill>
        <p:spPr>
          <a:xfrm>
            <a:off x="395280" y="620640"/>
            <a:ext cx="8064360" cy="489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5400" y="560880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es viajan acompañados de un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ransferencias d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40:59Z</dcterms:created>
  <dc:creator>Ana Maria Ronco</dc:creator>
  <dc:description/>
  <dc:language>en-US</dc:language>
  <cp:lastModifiedBy>CRISTOBAL NOSEDA R.</cp:lastModifiedBy>
  <dcterms:modified xsi:type="dcterms:W3CDTF">2007-01-09T12:18:46Z</dcterms:modified>
  <cp:revision>59</cp:revision>
  <dc:subject/>
  <dc:title>Diapositiva 1</dc:title>
</cp:coreProperties>
</file>