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EC1-2CA8-4682-8A3E-B9EF961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159-E10A-47B3-81B5-7C1A588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CFB-E56E-4D04-863C-3B8FAF80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754-EE70-4B1B-A0B3-09156C75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DA2-F9F8-4029-B7CB-A85FBF6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6AA-C3FB-459E-AC5B-7F6E4FF6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2FC-983D-4A65-BF95-5A8D498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727-E57D-43E0-9920-1560864F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6ED-F903-4631-AA12-6B121D29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415-F880-4CC0-9B32-93EC69A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657-6FDE-4C12-8157-FBD73DA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858-1DC9-4A46-999C-7F9522F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D8F1-3BA5-44B0-A472-BA634874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320" y="2744640"/>
            <a:ext cx="801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léculas Químicas en Biología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150920"/>
            <a:ext cx="8064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lor de Vaporiz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tidad de calor que debe absorber una sustancia para cambiar 1 g de agua líquida en vap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V del agua: 586 cal para cambiar 1 g de agua líquida en vap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enfriamiento de los 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he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racción entre moléculas polares: cuando la otra  molécula polar es agua se habla de cohe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tado líquido del agua a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as mode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sión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la otra molécula polar es diferente: adhesión , forma enlaces de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el agua atrae sustancias con carga eléctrica: atracción electrostática, responsable de la cap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8763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iedades del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derivadas de la ruptur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 sus enlaces coval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ONIZACIÓN :  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                O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5146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124080"/>
            <a:ext cx="8305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= 1 x 10 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–7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mol/L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H =  - log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A &lt; pH &gt;Ac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concentración relativa de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en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1360" y="573120"/>
            <a:ext cx="842148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Función del H</a:t>
            </a:r>
            <a:r>
              <a:rPr b="1" lang="es-E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O en la formación de TAMP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H  sangre: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Uno de los mejores tampones de la sangre es H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0 + CO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 + 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        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+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lt; pH   equilibrio  hacia  la  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A &l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  pH  equilibrio  hacia  la 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5007" t="34801" r="61732" b="26019"/>
          <a:stretch/>
        </p:blipFill>
        <p:spPr>
          <a:xfrm>
            <a:off x="7621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GANISMOS VIVOS FORMADOS POR C,H,O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ción muy diferente a la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84" t="19341" r="34012" b="15309"/>
          <a:stretch/>
        </p:blipFill>
        <p:spPr>
          <a:xfrm>
            <a:off x="912960" y="1752480"/>
            <a:ext cx="5862600" cy="449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0" y="59832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undancia relativa de elementos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68440" y="2484360"/>
            <a:ext cx="39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r qu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bles en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 H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040" y="5715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ISÓMEROS ESPA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23" t="20664" r="43979" b="32697"/>
          <a:stretch/>
        </p:blipFill>
        <p:spPr>
          <a:xfrm>
            <a:off x="685800" y="1371600"/>
            <a:ext cx="7907400" cy="52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200" y="522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lace covalente: se comparten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960" y="514656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90040" y="32464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133720"/>
            <a:ext cx="4104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999" t="50022" r="65667" b="13986"/>
          <a:stretch/>
        </p:blipFill>
        <p:spPr>
          <a:xfrm>
            <a:off x="2879640" y="129708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001" t="20003" r="29000" b="16002"/>
          <a:stretch/>
        </p:blipFill>
        <p:spPr>
          <a:xfrm>
            <a:off x="380880" y="76320"/>
            <a:ext cx="5334120" cy="365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1001" t="44667" r="28003" b="38002"/>
          <a:stretch/>
        </p:blipFill>
        <p:spPr>
          <a:xfrm>
            <a:off x="380880" y="3657600"/>
            <a:ext cx="5410440" cy="99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5960" y="491796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disacáridos formados por 2 residuos de D-gluco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14300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447920"/>
            <a:ext cx="5331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838080"/>
            <a:ext cx="13716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85800"/>
            <a:ext cx="9907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9907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447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280" y="163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476280"/>
            <a:ext cx="46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tructura-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y electrones desapar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2960" y="46134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199680" y="99072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440" y="95580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446076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876920"/>
            <a:ext cx="1371600" cy="380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5486400"/>
            <a:ext cx="1447920" cy="838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9600" y="5068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 | | | | | |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181480" y="4995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2920" y="601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486400"/>
            <a:ext cx="1219320" cy="762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7120" y="57913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nte de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43434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co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4235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800600"/>
            <a:ext cx="152640" cy="1371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38280" y="47242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112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6880" y="1874880"/>
          <a:ext cx="8001000" cy="4508280"/>
        </p:xfrm>
        <a:graphic>
          <a:graphicData uri="http://schemas.openxmlformats.org/drawingml/2006/table">
            <a:tbl>
              <a:tblPr/>
              <a:tblGrid>
                <a:gridCol w="2438640"/>
                <a:gridCol w="3109680"/>
                <a:gridCol w="245268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a pola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trae iones y compuestos po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lu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bsorbe y libera c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abiliza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V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 rompen muchos enlaces de 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a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isminución tº cuer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laces de H mantienen moléculas unidas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erm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nor densidad de h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léculas de agua están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ita congela miento de lagos y m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72320" y="39852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IEDADES D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143352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MBR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PROPIEDAD QUÍMICA   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197000"/>
            <a:ext cx="7704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olaridad: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stribución desigual de las cargas de los átomos que componen la moléc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: permite solubilizar compuestos polares y i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j: azúcar (polar) y sal (NaCl: iónico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8100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lor específico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tidad de energía calórica que debe ser absorbida o liberada por un g de sustancia para cambiar su tº en 1ºC. Mide cuanto resiste una sustancia al cambiar su tº cuando absorbe o pierde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E del agua: 1 cal/g/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 de esta propiedad: el calor que absorbe el agua se usa para romper los enlaces de H entr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INTA</cp:lastModifiedBy>
  <dcterms:modified xsi:type="dcterms:W3CDTF">2007-01-03T21:53:48Z</dcterms:modified>
  <cp:revision>13</cp:revision>
  <dc:subject/>
  <dc:title>Diapositiva 1</dc:title>
</cp:coreProperties>
</file>