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B80-E65E-466A-8B3E-2F7442BD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98F-E980-4982-8FDA-B3F95125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FFA-C964-4D26-88B8-7827E5AC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E04-C80F-43DF-8D34-A4A3E5AD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F4C-FE42-4216-8413-484CEA9A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260-951C-4626-A498-32EE7124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7A1-8A4D-4CBA-AD3F-4FA89F70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C86-5FA2-493B-8419-24A639D0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AD6-22AC-4008-8352-6269935C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431-1B6D-42A6-8C95-1EB1766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EE4-EFC6-4456-A393-9C9E0AD2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902-C044-4CB1-A794-7200D3A6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7832-8DA2-49DA-899B-1CFDC8972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0320" y="2744640"/>
            <a:ext cx="801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oléculas Químicas en Biología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1150920"/>
            <a:ext cx="80643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lor de Vaporiz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tidad de calor que debe absorber una sustancia para cambiar 1 g de agua líquida en vap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V del agua: 586 cal para cambiar 1 g de agua líquida en vap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tilidad: enfriamiento de los o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189000"/>
            <a:ext cx="79930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ohe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tracción entre moléculas polares: cuando la otra  molécula polar es agua se habla de cohes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tilidad: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stado líquido del agua a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mperaturas mode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nsión super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ando la otra molécula polar es diferente: adhesión , forma enlaces de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uando el agua atrae sustancias con carga eléctrica: atracción electrostática, responsable de la capila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90720"/>
            <a:ext cx="8763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piedades del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 derivadas de la ruptur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 sus enlaces coval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ONIZACIÓN :  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0                OH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51460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124080"/>
            <a:ext cx="83055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] = 1 x 10 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–7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mol/L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H =  - log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pH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A &lt; pH &gt;Aci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pH= concentración relativa de H</a:t>
            </a:r>
            <a:r>
              <a:rPr b="1" lang="es-ES" sz="2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  <a:ea typeface="Arial"/>
              </a:rPr>
              <a:t> en 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1360" y="573120"/>
            <a:ext cx="8421480" cy="60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Función del H</a:t>
            </a:r>
            <a:r>
              <a:rPr b="1" lang="es-E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O en la formación de TAMP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pH  sangre: 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Uno de los mejores tampones de la sangre es H</a:t>
            </a:r>
            <a:r>
              <a:rPr b="1" lang="es-E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0 + CO</a:t>
            </a:r>
            <a:r>
              <a:rPr b="1" lang="es-E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O + 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             H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     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–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+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gt;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]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lt; pH   equilibrio  hacia  la  izqui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A &lt;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[ H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]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&gt;  pH  equilibrio  hacia  la 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39625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9625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5007" t="34801" r="61732" b="26019"/>
          <a:stretch/>
        </p:blipFill>
        <p:spPr>
          <a:xfrm>
            <a:off x="762120" y="228600"/>
            <a:ext cx="7162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5920" y="457200"/>
            <a:ext cx="784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OLECULAS ORGÁNICAS: POSEE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RE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RUPO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599840" y="990720"/>
            <a:ext cx="114300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1066680"/>
            <a:ext cx="1295280" cy="129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31240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4419720"/>
            <a:ext cx="44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fine las características químicas de las molé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67000" y="47242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0" y="449568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yor re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8560" y="56386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.-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ransferencia de grupo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 enlaces C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17480" y="762120"/>
            <a:ext cx="499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UPO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43000" y="1905120"/>
          <a:ext cx="6024600" cy="4495680"/>
        </p:xfrm>
        <a:graphic>
          <a:graphicData uri="http://schemas.openxmlformats.org/drawingml/2006/table">
            <a:tbl>
              <a:tblPr/>
              <a:tblGrid>
                <a:gridCol w="2976480"/>
                <a:gridCol w="30481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IDR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N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=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ULFHIDR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SF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4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ÍMEROS: MACROMOLÉCULAS DE CADENA LARGA FOR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 SUBUNIDADES O MONÓ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762120"/>
            <a:ext cx="88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CIÓN  DE POLÍMEROS Y RUPTURA DE UN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VALENTE  ENTRE SUB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3640" y="24382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SHIDR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3124080"/>
            <a:ext cx="121932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 + 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3733920"/>
            <a:ext cx="990360" cy="3045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7760" y="37735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809880"/>
            <a:ext cx="0" cy="12193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5360" y="5334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3068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2240" y="30830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8320" y="186840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MACIÓ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2362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DR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933960" y="3581280"/>
            <a:ext cx="609480" cy="5335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51840" y="4114800"/>
            <a:ext cx="13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3581280"/>
            <a:ext cx="0" cy="160020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24240" y="5410080"/>
            <a:ext cx="32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2971800"/>
            <a:ext cx="68580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94120" y="531720"/>
            <a:ext cx="84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ÍMEROS: MACROMOLÉCULAS DE CADENA LAR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DAS POR SUBUNIDADES O MONÓM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2336760"/>
          <a:ext cx="8305920" cy="3936960"/>
        </p:xfrm>
        <a:graphic>
          <a:graphicData uri="http://schemas.openxmlformats.org/drawingml/2006/table">
            <a:tbl>
              <a:tblPr/>
              <a:tblGrid>
                <a:gridCol w="2514600"/>
                <a:gridCol w="2133720"/>
                <a:gridCol w="1143000"/>
                <a:gridCol w="25146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HIDR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ZÚCAR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=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ÍP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CIDO GR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TEÍ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ÁC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TÁLI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ÁCIDOS NUCLE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UCLEOT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RESIÓN GÉ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762120" y="1828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Macromolécula    Subunidad    G.Funcional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     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GANISMOS VIVOS FORMADOS POR C,H,O,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osición muy diferente a la de la cortez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984" t="19341" r="34012" b="15309"/>
          <a:stretch/>
        </p:blipFill>
        <p:spPr>
          <a:xfrm>
            <a:off x="912960" y="1752480"/>
            <a:ext cx="5862600" cy="4491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1600" y="598320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undancia relativa de elementos de la cortez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68440" y="2484360"/>
            <a:ext cx="396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r qué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n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lubles en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n enlaces cova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115920"/>
            <a:ext cx="840240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HIDRATOS DE CARBONO O CARBOHID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NTIENEN C,H,O  (1:2: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ÓRMULA EMPÍRICA: (C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)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UNCIÓN: ALMACENAN ENERGÍA: ENLACES C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ARBOHIDRATOS MÁS SIMPLES: MONOSACÁRIDOS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ZÚCARE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L AZÚCAR MÁS SIMPLE: 3 ÁTOMOS D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OS QUE TIENEN UN ROL ENERGÉT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6 ÁTOMOS DE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nlace C-H: 3.9 Kcal /mol apr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71360"/>
            <a:ext cx="8353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 funcional : Carbonilo: C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dehído: al extremo de la molécula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etona: al centro de la molécula        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4149720"/>
            <a:ext cx="0" cy="35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992" t="20664" r="28013" b="19341"/>
          <a:stretch/>
        </p:blipFill>
        <p:spPr>
          <a:xfrm>
            <a:off x="254160" y="152280"/>
            <a:ext cx="88135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36920" y="1859040"/>
            <a:ext cx="399060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órmula empí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32544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UCOS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RUCTOS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GALAC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H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                                H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      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H                                  C =O   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|                                          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 |                                            |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HO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                                            H                                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00200"/>
            <a:ext cx="12193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209680"/>
            <a:ext cx="9907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1600200"/>
            <a:ext cx="129564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040" y="5715000"/>
            <a:ext cx="77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FRUCTOSA: ISÓMEROS ESTRUC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GALACTOSA: ISÓMEROS ESPA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STEREOISÓ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ANTIÓMEROS - ISÓMEROS ÓPTICOS: IMAGEN ESP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143000"/>
            <a:ext cx="25146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—  C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219320"/>
            <a:ext cx="266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C*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— C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9436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-Glucos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-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971800"/>
            <a:ext cx="2210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D-gliceraldehí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3581280"/>
            <a:ext cx="4572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7880" y="6400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*: centro qu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340000" y="907920"/>
            <a:ext cx="5256360" cy="5834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04920" y="208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í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023" t="20664" r="43979" b="32697"/>
          <a:stretch/>
        </p:blipFill>
        <p:spPr>
          <a:xfrm>
            <a:off x="685800" y="1371600"/>
            <a:ext cx="7907400" cy="521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8200" y="522360"/>
            <a:ext cx="74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lace covalente: se comparten elect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16916" t="33611" r="19751" b="39917"/>
          <a:stretch/>
        </p:blipFill>
        <p:spPr>
          <a:xfrm>
            <a:off x="0" y="1779480"/>
            <a:ext cx="9144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80" y="1023840"/>
            <a:ext cx="7985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nantiómeros (actividad ópti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xtr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derecha: d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v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izquierda: l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7960" y="5146560"/>
            <a:ext cx="26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y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90040" y="3246480"/>
            <a:ext cx="61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scholar.hw.ac.uk/site/chemistry/activity5.asp?outlin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-168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1880" y="59832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rganismos vivos sólo metabolizan D-azúc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1905120"/>
            <a:ext cx="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ductos Dietéti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-azúc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04320" y="1233360"/>
            <a:ext cx="528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ímeros de H de C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isacár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674" t="30358" r="27984" b="18611"/>
          <a:stretch/>
        </p:blipFill>
        <p:spPr>
          <a:xfrm>
            <a:off x="971640" y="115920"/>
            <a:ext cx="6840360" cy="4753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1814" t="51369" r="27314" b="25185"/>
          <a:stretch/>
        </p:blipFill>
        <p:spPr>
          <a:xfrm>
            <a:off x="324000" y="4724280"/>
            <a:ext cx="8569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5999" t="50356" r="25981" b="18648"/>
          <a:stretch/>
        </p:blipFill>
        <p:spPr>
          <a:xfrm>
            <a:off x="457200" y="2997360"/>
            <a:ext cx="8172360" cy="2793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8360" y="90792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i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úcar de almacenamiento en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32000" y="2133720"/>
            <a:ext cx="41040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EL AG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5999" t="50022" r="65667" b="13986"/>
          <a:stretch/>
        </p:blipFill>
        <p:spPr>
          <a:xfrm>
            <a:off x="2879640" y="1297080"/>
            <a:ext cx="3780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1001" t="20003" r="29000" b="16002"/>
          <a:stretch/>
        </p:blipFill>
        <p:spPr>
          <a:xfrm>
            <a:off x="380880" y="76320"/>
            <a:ext cx="5334120" cy="3657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1001" t="44667" r="28003" b="38002"/>
          <a:stretch/>
        </p:blipFill>
        <p:spPr>
          <a:xfrm>
            <a:off x="380880" y="3657600"/>
            <a:ext cx="5410440" cy="990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35960" y="4917960"/>
            <a:ext cx="68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1 disacáridos formados por 2 residuos de D-glucos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4880" y="1143000"/>
            <a:ext cx="230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447920"/>
            <a:ext cx="53316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838080"/>
            <a:ext cx="137160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85800"/>
            <a:ext cx="9907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133720"/>
            <a:ext cx="99072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4382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286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676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447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447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838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838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676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447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280" y="1636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476280"/>
            <a:ext cx="464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structura-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n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hay electrones desapare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2960" y="461340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199680" y="990720"/>
            <a:ext cx="9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57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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9440" y="955800"/>
            <a:ext cx="4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27160" y="4460760"/>
            <a:ext cx="275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4876920"/>
            <a:ext cx="1371600" cy="380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600200" y="5486400"/>
            <a:ext cx="1447920" cy="838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9600" y="50688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| | | | | | | |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181480" y="49953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2920" y="60199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5486400"/>
            <a:ext cx="1219320" cy="762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7120" y="57913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nte de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4840" y="43434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lace co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6800" y="4235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4800600"/>
            <a:ext cx="152640" cy="1371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14600" y="4572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48006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438280" y="47242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4340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3960" y="112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96880" y="1874880"/>
          <a:ext cx="8001000" cy="4508280"/>
        </p:xfrm>
        <a:graphic>
          <a:graphicData uri="http://schemas.openxmlformats.org/drawingml/2006/table">
            <a:tbl>
              <a:tblPr/>
              <a:tblGrid>
                <a:gridCol w="2438640"/>
                <a:gridCol w="3109680"/>
                <a:gridCol w="245268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a pola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trae iones y compuestos pol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olu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nter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o 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bsorbe y libera c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abiliza t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levado CV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 rompen muchos enlaces de 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vapo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isminución tº cuer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h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nlaces de H mantienen moléculas unidas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ermin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nor densidad de hi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léculas de agua están m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epar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vita congela miento de lagos y m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272320" y="398520"/>
            <a:ext cx="53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PIEDADES DEL A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00" y="143352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MBR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PROPIEDAD QUÍMICA    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1197000"/>
            <a:ext cx="7704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Polaridad: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Distribución desigual de las cargas de los átomos que componen la moléc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Utilidad: permite solubilizar compuestos polares y i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j: azúcar (polar) y sal (NaCl: iónico</a:t>
            </a:r>
            <a:r>
              <a:rPr b="1" lang="es-E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981000"/>
            <a:ext cx="8893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Calor específico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antidad de energía calórica que debe ser absorbida o liberada por un g de sustancia para cambiar su tº en 1ºC. Mide cuanto resiste una sustancia al cambiar su tº cuando absorbe o pierde c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E del agua: 1 cal/g/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Utilidad de esta propiedad: el calor que absorbe el agua se usa para romper los enlaces de H entre las molé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6:53:35Z</dcterms:created>
  <dc:creator>Ana Maria Ronco</dc:creator>
  <dc:description/>
  <dc:language>en-US</dc:language>
  <cp:lastModifiedBy>INTA</cp:lastModifiedBy>
  <dcterms:modified xsi:type="dcterms:W3CDTF">2007-01-03T21:53:48Z</dcterms:modified>
  <cp:revision>13</cp:revision>
  <dc:subject/>
  <dc:title>Diapositiva 1</dc:title>
</cp:coreProperties>
</file>