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E06-57F7-4F73-871E-F0A6025C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EC4-B8D5-49D0-9293-C257C871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F30-C588-4F1B-833D-CB13E978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B48-9907-46B8-A031-5EC14330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B4C-58BA-41D7-B687-6EC61EAC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4D2-8D4A-4D1A-A911-B017BCE1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842-0CBA-43F5-9DD5-6D4323C2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3BC-A01E-48A3-9455-952F1092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942-4633-438F-B24D-269D0C3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3A9-8415-4424-99B1-A8609899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CC8-DF0A-42DD-95B1-9E042424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457-A35E-417C-81BD-2844E9A6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9B0E-21BF-4503-B130-B99313646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Biolog&#237;a" TargetMode="External"/><Relationship Id="rId3" Type="http://schemas.openxmlformats.org/officeDocument/2006/relationships/hyperlink" Target="http://es.wikipedia.org/wiki/Agricultura" TargetMode="External"/><Relationship Id="rId4" Type="http://schemas.openxmlformats.org/officeDocument/2006/relationships/hyperlink" Target="http://es.wikipedia.org/wiki/Farmacia" TargetMode="External"/><Relationship Id="rId5" Type="http://schemas.openxmlformats.org/officeDocument/2006/relationships/hyperlink" Target="http://es.wikipedia.org/wiki/Ciencia_de_los_alimentos" TargetMode="External"/><Relationship Id="rId6" Type="http://schemas.openxmlformats.org/officeDocument/2006/relationships/hyperlink" Target="http://es.wikipedia.org/w/index.php?title=Ciencias_forestales&amp;action=edit" TargetMode="External"/><Relationship Id="rId7" Type="http://schemas.openxmlformats.org/officeDocument/2006/relationships/hyperlink" Target="http://es.wikipedia.org/wiki/Medicina" TargetMode="Externa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ffff66"/>
                </a:solidFill>
                <a:latin typeface="Arial"/>
              </a:rPr>
              <a:t>Curso de verano </a:t>
            </a:r>
            <a:br>
              <a:rPr sz="4400"/>
            </a:br>
            <a:r>
              <a:rPr b="1" lang="es-ES_tradnl" sz="4400" spc="-1" strike="noStrike">
                <a:solidFill>
                  <a:srgbClr val="ffff66"/>
                </a:solidFill>
                <a:latin typeface="Arial"/>
              </a:rPr>
              <a:t>2007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3645000"/>
            <a:ext cx="73040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Arial"/>
              </a:rPr>
              <a:t>Prof. Ana María Ronco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Laboratorio de Hormonas y Rece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44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47640" y="2997360"/>
            <a:ext cx="5761080" cy="1368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836640"/>
            <a:ext cx="1439640" cy="647640"/>
          </a:xfrm>
          <a:prstGeom prst="ellipse">
            <a:avLst/>
          </a:prstGeom>
          <a:solidFill>
            <a:srgbClr val="137b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io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836640"/>
            <a:ext cx="1511640" cy="576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404640"/>
            <a:ext cx="2305080" cy="1008360"/>
          </a:xfrm>
          <a:prstGeom prst="ellipse">
            <a:avLst/>
          </a:prstGeom>
          <a:solidFill>
            <a:srgbClr val="c734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48360" y="620640"/>
            <a:ext cx="1871640" cy="1008000"/>
          </a:xfrm>
          <a:prstGeom prst="ellipse">
            <a:avLst/>
          </a:prstGeom>
          <a:solidFill>
            <a:srgbClr val="fb0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icrobi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7440" y="2060640"/>
            <a:ext cx="1258920" cy="6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3080" y="1916280"/>
            <a:ext cx="1800000" cy="10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iología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360" y="5516640"/>
            <a:ext cx="1403280" cy="649080"/>
          </a:xfrm>
          <a:prstGeom prst="rect">
            <a:avLst/>
          </a:prstGeom>
          <a:solidFill>
            <a:srgbClr val="fea0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5516640"/>
            <a:ext cx="1656000" cy="649080"/>
          </a:xfrm>
          <a:prstGeom prst="rect">
            <a:avLst/>
          </a:prstGeom>
          <a:solidFill>
            <a:srgbClr val="c8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CU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516640"/>
            <a:ext cx="201600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5661000"/>
            <a:ext cx="201600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BEB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5440" y="568152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425000">
            <a:off x="4858920" y="1572840"/>
            <a:ext cx="362160" cy="1351080"/>
          </a:xfrm>
          <a:prstGeom prst="downArrow">
            <a:avLst>
              <a:gd name="adj1" fmla="val 50000"/>
              <a:gd name="adj2" fmla="val 93265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0803200">
            <a:off x="2913120" y="1580760"/>
            <a:ext cx="361800" cy="1206360"/>
          </a:xfrm>
          <a:prstGeom prst="downArrow">
            <a:avLst>
              <a:gd name="adj1" fmla="val 50000"/>
              <a:gd name="adj2" fmla="val 8335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9764000">
            <a:off x="1692360" y="1429920"/>
            <a:ext cx="452520" cy="1408320"/>
          </a:xfrm>
          <a:prstGeom prst="downArrow">
            <a:avLst>
              <a:gd name="adj1" fmla="val 50000"/>
              <a:gd name="adj2" fmla="val 77804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465200">
            <a:off x="6372000" y="1413000"/>
            <a:ext cx="417240" cy="1638000"/>
          </a:xfrm>
          <a:prstGeom prst="downArrow">
            <a:avLst>
              <a:gd name="adj1" fmla="val 50000"/>
              <a:gd name="adj2" fmla="val 98145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9412400">
            <a:off x="900000" y="279864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425000">
            <a:off x="7504200" y="30142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269000">
            <a:off x="825480" y="4309920"/>
            <a:ext cx="361800" cy="1206720"/>
          </a:xfrm>
          <a:prstGeom prst="downArrow">
            <a:avLst>
              <a:gd name="adj1" fmla="val 50000"/>
              <a:gd name="adj2" fmla="val 83383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4437000"/>
            <a:ext cx="358920" cy="1008000"/>
          </a:xfrm>
          <a:prstGeom prst="downArrow">
            <a:avLst>
              <a:gd name="adj1" fmla="val 50000"/>
              <a:gd name="adj2" fmla="val 70211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1371400">
            <a:off x="4295520" y="4579920"/>
            <a:ext cx="361800" cy="84600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803200">
            <a:off x="6587640" y="4436640"/>
            <a:ext cx="362160" cy="1206720"/>
          </a:xfrm>
          <a:prstGeom prst="downArrow">
            <a:avLst>
              <a:gd name="adj1" fmla="val 50000"/>
              <a:gd name="adj2" fmla="val 83300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4000" y="533520"/>
            <a:ext cx="7956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BIOLOGIA= CIENCIA DE LA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esarrollo basado en el METODO CIENTI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- HIPO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2. DEMOSTR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05320" y="3429000"/>
            <a:ext cx="690480" cy="1460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5600" y="342900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XPERI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400" y="590724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IOLOGIA APLICADA: BIOTECNOLOGIA, MEDICI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0"/>
            <a:ext cx="1240308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ARACTERISTICAS Y PROPIEDADE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LOS 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GANIZACIÓ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ja: diferentes niveles, g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RECIMIENTO Y METABOLISMO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crecer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arse se necesita 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REPRODU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be0e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ERENCI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formación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TR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imiento, capacidad de respue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, adaptación,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5335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EORIA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ODOS LOS SISTEMAS VIVOS EST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PUESTOS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OR UNA O M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A CÉLULA ES LA UNIDAD MÁ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LOS ORGANISMO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ADA CÉLULA PROVIENE DE UNA CÉ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REEXISTENTE POR UN PROCESO DE DIVIS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620640"/>
            <a:ext cx="7920000" cy="5832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663480"/>
            <a:ext cx="8064360" cy="55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igen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Te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parin: 1922: vida proviene  de   evolución química, surgida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forma espontánea bajo condiciones ambientales pre-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iller: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xperimento para probar teoría  Opa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1.     Poco O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i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no unido a otros elemen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2.     C,H,O,N en abund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13983" t="27342" r="15022" b="45990"/>
          <a:stretch/>
        </p:blipFill>
        <p:spPr>
          <a:xfrm>
            <a:off x="1158840" y="380880"/>
            <a:ext cx="6942240" cy="1955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992" t="26649" r="16014" b="14679"/>
          <a:stretch/>
        </p:blipFill>
        <p:spPr>
          <a:xfrm>
            <a:off x="1371600" y="2362320"/>
            <a:ext cx="6799320" cy="3605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66360" y="5985000"/>
            <a:ext cx="51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Experimento de Miller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(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14002" t="23335" r="17001" b="27336"/>
          <a:stretch/>
        </p:blipFill>
        <p:spPr>
          <a:xfrm>
            <a:off x="1015920" y="3273480"/>
            <a:ext cx="70120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11002" t="16670" r="13000" b="40005"/>
          <a:stretch/>
        </p:blipFill>
        <p:spPr>
          <a:xfrm>
            <a:off x="711360" y="419040"/>
            <a:ext cx="75326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1984" t="28665" r="29453" b="30555"/>
          <a:stretch/>
        </p:blipFill>
        <p:spPr>
          <a:xfrm>
            <a:off x="76320" y="1143000"/>
            <a:ext cx="8991360" cy="4010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48760" y="189000"/>
            <a:ext cx="49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ormación de nucleótido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lipép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3722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Nucleótidos (A,U,G,C) sufren polimerización espont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polinucleótidos al az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AA polimerizan             polipép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07440" y="55897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67080" y="61657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1984" t="20664" r="67169" b="50022"/>
          <a:stretch/>
        </p:blipFill>
        <p:spPr>
          <a:xfrm>
            <a:off x="304920" y="1620720"/>
            <a:ext cx="3962160" cy="28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280" y="457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Etapas en la evolución de un sistema autoreplicativo de moléculas de RNA capaces de dirigir la síntesi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rcRect l="34012" t="19341" r="29005" b="31311"/>
          <a:stretch/>
        </p:blipFill>
        <p:spPr>
          <a:xfrm>
            <a:off x="4572000" y="1523880"/>
            <a:ext cx="388764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984" t="20664" r="36988" b="15309"/>
          <a:stretch/>
        </p:blipFill>
        <p:spPr>
          <a:xfrm>
            <a:off x="406440" y="1290600"/>
            <a:ext cx="7621560" cy="5567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5720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Etapas en la evolución de simple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autoreplicativos de RNA hasta la époc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59280" y="260280"/>
            <a:ext cx="3889080" cy="792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5681160"/>
            <a:ext cx="799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7341b"/>
                </a:solidFill>
                <a:latin typeface="Arial"/>
              </a:rPr>
              <a:t>biotecnología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s la tecnología basada en 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logí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specialmente usada 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gricultur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rmaci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iencia de los alimento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encias forestal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edicin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720" y="-531720"/>
            <a:ext cx="8568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BIO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DEFINICIÓN:</a:t>
            </a: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Utilización de los procesos biológicos (microorganismos, plantas, células animales o sus constituyentes) para proveer bienes y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(Can Gov Task Force on Biotechn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Uso integrado de la biología (y sus áreas: microbiología, biología celul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bioquímica, genética) y de la ingeniería para obtener una aplicación tecnológica (industrial) de las propiedades y capacidades de los organismos vivos y/o parte de e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(IUPAC European Fed. Techn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En términos generales biotecnología se puede definir como el uso de organismos  vivos o de compuestos obtenidos de organismos vivos para obtener productos de valor para el ho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70120" y="189000"/>
            <a:ext cx="57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Formación de los fosfolípido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las membr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992" t="19971" r="70008" b="34650"/>
          <a:stretch/>
        </p:blipFill>
        <p:spPr>
          <a:xfrm>
            <a:off x="1519200" y="1916280"/>
            <a:ext cx="600552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1560" y="777960"/>
            <a:ext cx="638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LEMENTOS BASICO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A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EMBRANA 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REGIÓN 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ATRIZ SEMIFLUÍ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09520" y="1185840"/>
            <a:ext cx="935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ASIFICACIÓN DE LOS ORGANISMOS VIVOS SEGÚN COMPLEJ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1.-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PRO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2.-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EU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8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IFERENCIAS ENTRE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Y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1650960"/>
          <a:ext cx="8382240" cy="46972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304812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PRO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EU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M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-1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-10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º CÉLU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Ó M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GANIZACIÓN INTRACITOPLASMA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ORGANE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EMBRANO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GIO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REGIÓ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ÚCLEO VERDAD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992" t="16695" r="28013" b="11340"/>
          <a:stretch/>
        </p:blipFill>
        <p:spPr>
          <a:xfrm>
            <a:off x="1209600" y="1484280"/>
            <a:ext cx="6386760" cy="4216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1920" y="38088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inaje de los Reinos 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Los 3 reinos están interrelacionados a través de secuencias  de rRNA comunes y muestra como la vida se originó de un progenitor comú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6920" y="32464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ttp://www.wiley.com/legacy/college/boyer/0470003790/animations/cell_structure/cell_structur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37000"/>
            <a:ext cx="8569080" cy="3960720"/>
          </a:xfrm>
          <a:prstGeom prst="rect">
            <a:avLst/>
          </a:prstGeom>
          <a:solidFill>
            <a:srgbClr val="137b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7280" y="372960"/>
            <a:ext cx="90676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USOS POTENCIALES DE INVESTIGACION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DESARROLLO EN BIO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APLICABLES A LA INDUSTRIA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SECTOR AGRÍ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a)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Plantas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Resistencia a plagas, herbic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Tests de diagnó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Rasgos agronó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096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2880" y="5392800"/>
            <a:ext cx="691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    Animal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ormonas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ecnologías reprodu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3645000"/>
            <a:ext cx="8424720" cy="3141720"/>
          </a:xfrm>
          <a:prstGeom prst="rect">
            <a:avLst/>
          </a:prstGeom>
          <a:solidFill>
            <a:srgbClr val="c734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89000"/>
            <a:ext cx="7130880" cy="30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71440"/>
            <a:ext cx="685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TOR ACUÍ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en Salud y Nutr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joramiento de especies y re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 solucione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ategias de control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nologías y equipos de producción y 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720" y="3716280"/>
            <a:ext cx="819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SECTOR RECURS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Estudios de Microorganismos para min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Aplicaciones en recuperación de petró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Aplicaciones en biolixiv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Regeneración forestal e industrias derivadas (celul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Protección forestal : pla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Evaluación del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4581360"/>
            <a:ext cx="8642160" cy="19432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620640"/>
            <a:ext cx="7345440" cy="36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8760" y="639720"/>
            <a:ext cx="683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SECTOR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Biodetección de conta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Monitoreo y limpieza de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Señlección/modificación de microorgani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Biotratamiento de efluentes y des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Bior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Equipos instrumentación y biosen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Biosegu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720" y="4797360"/>
            <a:ext cx="843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TOR SALU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evos fármacos para enfermedades, y control del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33360"/>
            <a:ext cx="7559640" cy="1295280"/>
          </a:xfrm>
          <a:prstGeom prst="rect">
            <a:avLst/>
          </a:prstGeom>
          <a:solidFill>
            <a:srgbClr val="137b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0" y="372960"/>
            <a:ext cx="910908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USO DE LA BIOTECNOLOGÍA EN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INDUSTRIA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-      Tradicional: alimentos (productos lácteos, levadur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panificación y derivados), bebidas (beb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alcohólicas: vinos y cervez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Usuaria de insumos biotecn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(industria farmacéu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Biotecnología de avanzada (tests de diagnóst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y vacu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Manejo de e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Min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006200"/>
            <a:ext cx="85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CLASIFICACIÓN Y TÉCNICAS USADAS EN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a biotecnología puede ser clasificada en cinco amplias á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· Biotecnología en Salud Humana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· Biotecnología Animal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· Biotecnología Industrial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· Biotecnología Vegetal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· Biotecnología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636480"/>
            <a:ext cx="7993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écnicas biotecnológ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ultivo de células y tej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cnología del ADN: manipulación, aislamiento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ecombinación y expresión  d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Ingeniería gené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nticuerpos monocl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79360" y="3246480"/>
            <a:ext cx="67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ttp://www.explora.cl/otros/biotec/img/jpg/biotecnologia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4:11:28Z</dcterms:created>
  <dc:creator>INTA</dc:creator>
  <dc:description/>
  <dc:language>en-US</dc:language>
  <cp:lastModifiedBy>INTA</cp:lastModifiedBy>
  <dcterms:modified xsi:type="dcterms:W3CDTF">2007-01-03T13:43:51Z</dcterms:modified>
  <cp:revision>24</cp:revision>
  <dc:subject/>
  <dc:title>Diapositiva 1</dc:title>
</cp:coreProperties>
</file>