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2DB-FC1D-4903-AE80-910F25EB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989-80E0-4761-995D-5B0E7182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F2D-33BD-40A8-A4A1-3E783ECE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C03-E69A-411F-BF96-459891A3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5D8-0161-4FCF-8BA3-FDCF9F0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2BD-5487-421D-B24E-5B80DDC2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8DA-A820-4C22-9A44-9E72978B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7B7-CCBF-4D67-A3E8-BFE8C8C1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2C4-D162-4022-8E56-F7631A5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87F-EAE1-4A2F-9F5C-90CEE7C2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817-49C8-469F-A00A-4EC27B8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AB0-5BBB-4054-AB62-0AB81D8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498-390B-49E8-885E-F6CEC92F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Biolog&#237;a" TargetMode="External"/><Relationship Id="rId3" Type="http://schemas.openxmlformats.org/officeDocument/2006/relationships/hyperlink" Target="http://es.wikipedia.org/wiki/Agricultura" TargetMode="External"/><Relationship Id="rId4" Type="http://schemas.openxmlformats.org/officeDocument/2006/relationships/hyperlink" Target="http://es.wikipedia.org/wiki/Farmacia" TargetMode="External"/><Relationship Id="rId5" Type="http://schemas.openxmlformats.org/officeDocument/2006/relationships/hyperlink" Target="http://es.wikipedia.org/wiki/Ciencia_de_los_alimentos" TargetMode="External"/><Relationship Id="rId6" Type="http://schemas.openxmlformats.org/officeDocument/2006/relationships/hyperlink" Target="http://es.wikipedia.org/w/index.php?title=Ciencias_forestales&amp;action=edit" TargetMode="External"/><Relationship Id="rId7" Type="http://schemas.openxmlformats.org/officeDocument/2006/relationships/hyperlink" Target="http://es.wikipedia.org/wiki/Medicina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ffff66"/>
                </a:solidFill>
                <a:latin typeface="Arial"/>
              </a:rPr>
              <a:t>Curso de verano </a:t>
            </a:r>
            <a:br>
              <a:rPr sz="4400"/>
            </a:br>
            <a:r>
              <a:rPr b="1" lang="es-ES_tradnl" sz="4400" spc="-1" strike="noStrike">
                <a:solidFill>
                  <a:srgbClr val="ffff66"/>
                </a:solidFill>
                <a:latin typeface="Arial"/>
              </a:rPr>
              <a:t>200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3645000"/>
            <a:ext cx="73040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Prof. Ana María Ronco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boratorio de Hormonas y Re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44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47640" y="2997360"/>
            <a:ext cx="5761080" cy="136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836640"/>
            <a:ext cx="1439640" cy="647640"/>
          </a:xfrm>
          <a:prstGeom prst="ellipse">
            <a:avLst/>
          </a:prstGeom>
          <a:solidFill>
            <a:srgbClr val="137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836640"/>
            <a:ext cx="1511640" cy="576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404640"/>
            <a:ext cx="2305080" cy="1008360"/>
          </a:xfrm>
          <a:prstGeom prst="ellipse">
            <a:avLst/>
          </a:prstGeom>
          <a:solidFill>
            <a:srgbClr val="c734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620640"/>
            <a:ext cx="1871640" cy="1008000"/>
          </a:xfrm>
          <a:prstGeom prst="ellipse">
            <a:avLst/>
          </a:prstGeom>
          <a:solidFill>
            <a:srgbClr val="fb0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icrobi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7440" y="2060640"/>
            <a:ext cx="125892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1916280"/>
            <a:ext cx="1800000" cy="10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iología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360" y="5516640"/>
            <a:ext cx="1403280" cy="649080"/>
          </a:xfrm>
          <a:prstGeom prst="rect">
            <a:avLst/>
          </a:prstGeom>
          <a:solidFill>
            <a:srgbClr val="fea0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5516640"/>
            <a:ext cx="1656000" cy="649080"/>
          </a:xfrm>
          <a:prstGeom prst="rect">
            <a:avLst/>
          </a:prstGeom>
          <a:solidFill>
            <a:srgbClr val="c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516640"/>
            <a:ext cx="20160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5661000"/>
            <a:ext cx="2016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BE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5440" y="568152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425000">
            <a:off x="4858920" y="1572840"/>
            <a:ext cx="362160" cy="1351080"/>
          </a:xfrm>
          <a:prstGeom prst="downArrow">
            <a:avLst>
              <a:gd name="adj1" fmla="val 50000"/>
              <a:gd name="adj2" fmla="val 93265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803200">
            <a:off x="2913120" y="1580760"/>
            <a:ext cx="361800" cy="1206360"/>
          </a:xfrm>
          <a:prstGeom prst="downArrow">
            <a:avLst>
              <a:gd name="adj1" fmla="val 50000"/>
              <a:gd name="adj2" fmla="val 8335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764000">
            <a:off x="1692360" y="1429920"/>
            <a:ext cx="452520" cy="1408320"/>
          </a:xfrm>
          <a:prstGeom prst="downArrow">
            <a:avLst>
              <a:gd name="adj1" fmla="val 50000"/>
              <a:gd name="adj2" fmla="val 77804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465200">
            <a:off x="6372000" y="1413000"/>
            <a:ext cx="417240" cy="1638000"/>
          </a:xfrm>
          <a:prstGeom prst="downArrow">
            <a:avLst>
              <a:gd name="adj1" fmla="val 50000"/>
              <a:gd name="adj2" fmla="val 98145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9412400">
            <a:off x="900000" y="279864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25000">
            <a:off x="7504200" y="30142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269000">
            <a:off x="825480" y="4309920"/>
            <a:ext cx="361800" cy="1206720"/>
          </a:xfrm>
          <a:prstGeom prst="downArrow">
            <a:avLst>
              <a:gd name="adj1" fmla="val 50000"/>
              <a:gd name="adj2" fmla="val 83383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4437000"/>
            <a:ext cx="358920" cy="1008000"/>
          </a:xfrm>
          <a:prstGeom prst="downArrow">
            <a:avLst>
              <a:gd name="adj1" fmla="val 50000"/>
              <a:gd name="adj2" fmla="val 7021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1371400">
            <a:off x="4295520" y="4579920"/>
            <a:ext cx="361800" cy="84600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803200">
            <a:off x="6587640" y="4436640"/>
            <a:ext cx="362160" cy="1206720"/>
          </a:xfrm>
          <a:prstGeom prst="downArrow">
            <a:avLst>
              <a:gd name="adj1" fmla="val 50000"/>
              <a:gd name="adj2" fmla="val 83300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RECIMIENTO Y METABOLISMO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TR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620640"/>
            <a:ext cx="7920000" cy="583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663480"/>
            <a:ext cx="806436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 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 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13983" t="27342" r="15022" b="45990"/>
          <a:stretch/>
        </p:blipFill>
        <p:spPr>
          <a:xfrm>
            <a:off x="115884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6360" y="598500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4002" t="23335" r="17001" b="27336"/>
          <a:stretch/>
        </p:blipFill>
        <p:spPr>
          <a:xfrm>
            <a:off x="1015920" y="3273480"/>
            <a:ext cx="70120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1002" t="16670" r="13000" b="40005"/>
          <a:stretch/>
        </p:blipFill>
        <p:spPr>
          <a:xfrm>
            <a:off x="711360" y="419040"/>
            <a:ext cx="7532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8760" y="18900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rcRect l="34012" t="19341" r="29005" b="31311"/>
          <a:stretch/>
        </p:blipFill>
        <p:spPr>
          <a:xfrm>
            <a:off x="4572000" y="1523880"/>
            <a:ext cx="388764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84" t="20664" r="36988" b="15309"/>
          <a:stretch/>
        </p:blipFill>
        <p:spPr>
          <a:xfrm>
            <a:off x="406440" y="1290600"/>
            <a:ext cx="7621560" cy="5567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9280" y="260280"/>
            <a:ext cx="3889080" cy="792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681160"/>
            <a:ext cx="799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7341b"/>
                </a:solidFill>
                <a:latin typeface="Arial"/>
              </a:rPr>
              <a:t>biotecnología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s la tecnología basada en 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logí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specialmente usada 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gricultur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rmaci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iencia de los alimento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s forestal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edicin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720" y="-531720"/>
            <a:ext cx="8568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BIO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DEFINICIÓN:</a:t>
            </a: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Utilización de los procesos biológicos (microorganismos, plantas, células animales o sus constituyentes) para proveer bienes y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(Can Gov Task Force on Biotechn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Uso integrado de la biología (y sus áreas: microbiología, biología celul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bioquímica, genética) y de la ingeniería para obtener una aplicación tecnológica (industrial) de las propiedades y capacidades de los organismos vivos y/o parte de 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(IUPAC European Fed. Techn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En términos generales biotecnología se puede definir como el uso de organismos  vivos o de compuestos obtenidos de organismos vivos para obtener productos de valor para 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70120" y="18900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992" t="19971" r="70008" b="34650"/>
          <a:stretch/>
        </p:blipFill>
        <p:spPr>
          <a:xfrm>
            <a:off x="1519200" y="1916280"/>
            <a:ext cx="600552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156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992" t="16695" r="28013" b="11340"/>
          <a:stretch/>
        </p:blipFill>
        <p:spPr>
          <a:xfrm>
            <a:off x="1209600" y="1484280"/>
            <a:ext cx="6386760" cy="421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192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32464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ttp://www.wiley.com/legacy/college/boyer/0470003790/animations/cell_structure/cell_structur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37000"/>
            <a:ext cx="8569080" cy="3960720"/>
          </a:xfrm>
          <a:prstGeom prst="rect">
            <a:avLst/>
          </a:prstGeom>
          <a:solidFill>
            <a:srgbClr val="137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7280" y="372960"/>
            <a:ext cx="90676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USOS POTENCIALES DE INVESTIGACIO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DESARROLLO EN BIO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APLICABLES A LA INDUSTRIA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CTOR AGRÍ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a)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Plantas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Resistencia a plagas, herbic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Tests de diagnó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Rasgos agronó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09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2880" y="5392800"/>
            <a:ext cx="691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    Animal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ormona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ecnologías reprodu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3645000"/>
            <a:ext cx="8424720" cy="3141720"/>
          </a:xfrm>
          <a:prstGeom prst="rect">
            <a:avLst/>
          </a:prstGeom>
          <a:solidFill>
            <a:srgbClr val="c734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89000"/>
            <a:ext cx="7130880" cy="30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71440"/>
            <a:ext cx="685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OR ACUÍ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en Salud y 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joramiento de especies y re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solu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egias de control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nologías y equipos de producción y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20" y="3716280"/>
            <a:ext cx="819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CTOR RECURS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studios de Microorganismos para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Aplicaciones en recuperación de petró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Aplicaciones en biolixiv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Regeneración forestal e industrias derivadas (celul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Protección forestal : pla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valuación del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581360"/>
            <a:ext cx="8642160" cy="19432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620640"/>
            <a:ext cx="7345440" cy="36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8760" y="639720"/>
            <a:ext cx="683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CTOR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detección de conta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Monitoreo y limpieza de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ñlección/modificación de microorg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tratamiento de efluentes y des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r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quipos instrumentación y biosen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segu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720" y="4797360"/>
            <a:ext cx="843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OR SALU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os fármacos para enfermedades, y control del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33360"/>
            <a:ext cx="7559640" cy="1295280"/>
          </a:xfrm>
          <a:prstGeom prst="rect">
            <a:avLst/>
          </a:prstGeom>
          <a:solidFill>
            <a:srgbClr val="137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0" y="372960"/>
            <a:ext cx="910908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USO DE LA BIOTECNOLOGÍA E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INDUSTRIA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-      Tradicional: alimentos (productos lácteos, levadur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panificación y derivados), bebidas (beb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alcohólicas: vinos y cervez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Usuaria de insumos biotecn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(industria farmacéu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Biotecnología de avanzada (tests de diagnós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y vacu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Manejo de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006200"/>
            <a:ext cx="85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CLASIFICACIÓN Y TÉCNICAS USADAS EN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a biotecnología puede ser clasificada en cinco amplias á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en Salud Humana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Anima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Industria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Vegeta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636480"/>
            <a:ext cx="7993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écnicas biotecnológ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ultivo de células y tej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cnología del ADN: manipulación, aislamiento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combinación y expresión  d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Ingeniería gené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nticuerpos monocl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79360" y="3246480"/>
            <a:ext cx="67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ttp://www.explora.cl/otros/biotec/img/jpg/biotecnologia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4:11:28Z</dcterms:created>
  <dc:creator>INTA</dc:creator>
  <dc:description/>
  <dc:language>en-US</dc:language>
  <cp:lastModifiedBy>INTA</cp:lastModifiedBy>
  <dcterms:modified xsi:type="dcterms:W3CDTF">2007-01-03T13:43:51Z</dcterms:modified>
  <cp:revision>24</cp:revision>
  <dc:subject/>
  <dc:title>Diapositiva 1</dc:title>
</cp:coreProperties>
</file>