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8.jpeg" ContentType="image/jpe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A94-6F03-4E4A-AA9C-FC96ADE0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496-6DCE-46AD-B8BC-63FD79F7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3FB-D2CA-4480-945E-566F194E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DC1-58D6-4099-909D-AD4C4C44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069-D7D2-46FA-8454-05A4FCF8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285-3415-4C73-A68B-44F11A31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036-6170-4E6E-918C-2FFDD9D5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3F1-B292-4941-B03C-17C17E14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03D-30B1-4ECB-BC40-975DF4B5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C62-5D4D-4C30-8323-FB027F49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EF6-0AA4-449D-9358-07ACAD84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6D0-11A3-45D7-BA08-9BA3A74D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CEFA-AA6F-4E9E-B67B-A14535C57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cro.magnet.fsu.edu/electromag/java/speaker/" TargetMode="External"/><Relationship Id="rId2" Type="http://schemas.openxmlformats.org/officeDocument/2006/relationships/hyperlink" Target="http://micro.magnet.fsu.edu/electromag/java/speaker/" TargetMode="External"/><Relationship Id="rId3" Type="http://schemas.openxmlformats.org/officeDocument/2006/relationships/hyperlink" Target="http://micro.magnet.fsu.edu/electromag/java/speaker/" TargetMode="External"/><Relationship Id="rId4" Type="http://schemas.openxmlformats.org/officeDocument/2006/relationships/hyperlink" Target="http://micro.magnet.fsu.edu/electromag/java/speaker/" TargetMode="External"/><Relationship Id="rId5" Type="http://schemas.openxmlformats.org/officeDocument/2006/relationships/hyperlink" Target="http://micro.magnet.fsu.edu/electromag/java/microphone/" TargetMode="External"/><Relationship Id="rId6" Type="http://schemas.openxmlformats.org/officeDocument/2006/relationships/hyperlink" Target="http://micro.magnet.fsu.edu/electromag/java/microphone/" TargetMode="External"/><Relationship Id="rId7" Type="http://schemas.openxmlformats.org/officeDocument/2006/relationships/hyperlink" Target="http://micro.magnet.fsu.edu/electromag/java/microphone/" TargetMode="External"/><Relationship Id="rId8" Type="http://schemas.openxmlformats.org/officeDocument/2006/relationships/hyperlink" Target="http://micro.magnet.fsu.edu/electromag/java/microphone/" TargetMode="External"/><Relationship Id="rId9" Type="http://schemas.openxmlformats.org/officeDocument/2006/relationships/hyperlink" Target="http://micro.magnet.fsu.edu/electromag/java/microphone/" TargetMode="External"/><Relationship Id="rId10" Type="http://schemas.openxmlformats.org/officeDocument/2006/relationships/hyperlink" Target="http://micro.magnet.fsu.edu/electromag/java/microphone/" TargetMode="External"/><Relationship Id="rId11" Type="http://schemas.openxmlformats.org/officeDocument/2006/relationships/hyperlink" Target="http://micro.magnet.fsu.edu/electromag/java/microphone/" TargetMode="External"/><Relationship Id="rId12" Type="http://schemas.openxmlformats.org/officeDocument/2006/relationships/hyperlink" Target="http://micro.magnet.fsu.edu/electromag/java/microphone/" TargetMode="External"/><Relationship Id="rId13" Type="http://schemas.openxmlformats.org/officeDocument/2006/relationships/hyperlink" Target="http://www.falstad.com/mathphysics.html" TargetMode="External"/><Relationship Id="rId14" Type="http://schemas.openxmlformats.org/officeDocument/2006/relationships/hyperlink" Target="http://www.falstad.com/mathphysics.html" TargetMode="External"/><Relationship Id="rId15" Type="http://schemas.openxmlformats.org/officeDocument/2006/relationships/hyperlink" Target="http://www.falstad.com/mathphysics.html" TargetMode="External"/><Relationship Id="rId16" Type="http://schemas.openxmlformats.org/officeDocument/2006/relationships/hyperlink" Target="http://www.falstad.com/mathphysics.html" TargetMode="External"/><Relationship Id="rId17" Type="http://schemas.openxmlformats.org/officeDocument/2006/relationships/hyperlink" Target="http://www.falstad.com/mathphysics.html" TargetMode="External"/><Relationship Id="rId1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alstad.com/fourier/" TargetMode="External"/><Relationship Id="rId2" Type="http://schemas.openxmlformats.org/officeDocument/2006/relationships/hyperlink" Target="http://www.cs.ubc.ca/spider/kvdoel/sound_demo6.html" TargetMode="External"/><Relationship Id="rId3" Type="http://schemas.openxmlformats.org/officeDocument/2006/relationships/hyperlink" Target="http://www.cs.ubc.ca/spider/kvdoel/sound_demo6.html" TargetMode="External"/><Relationship Id="rId4" Type="http://schemas.openxmlformats.org/officeDocument/2006/relationships/hyperlink" Target="http://www.cs.ubc.ca/spider/kvdoel/sound_demo6.html" TargetMode="External"/><Relationship Id="rId5" Type="http://schemas.openxmlformats.org/officeDocument/2006/relationships/hyperlink" Target="http://www.cs.ubc.ca/spider/kvdoel/sound_demo6.html" TargetMode="External"/><Relationship Id="rId6" Type="http://schemas.openxmlformats.org/officeDocument/2006/relationships/hyperlink" Target="http://www.cs.ubc.ca/spider/kvdoel/sound_demo6.html" TargetMode="External"/><Relationship Id="rId7" Type="http://schemas.openxmlformats.org/officeDocument/2006/relationships/hyperlink" Target="http://www.cs.ubc.ca/spider/kvdoel/sound_demo6.html" TargetMode="External"/><Relationship Id="rId8" Type="http://schemas.openxmlformats.org/officeDocument/2006/relationships/hyperlink" Target="http://www.cs.ubc.ca/spider/kvdoel/sound_demo6.html" TargetMode="External"/><Relationship Id="rId9" Type="http://schemas.openxmlformats.org/officeDocument/2006/relationships/hyperlink" Target="http://www.cs.ubc.ca/spider/kvdoel/sound_demo6.html" TargetMode="External"/><Relationship Id="rId10" Type="http://schemas.openxmlformats.org/officeDocument/2006/relationships/hyperlink" Target="http://www.cs.ubc.ca/spider/kvdoel/sound_demo6.html" TargetMode="External"/><Relationship Id="rId11" Type="http://schemas.openxmlformats.org/officeDocument/2006/relationships/hyperlink" Target="http://www.cs.ubc.ca/spider/kvdoel/sound_demo6.html" TargetMode="External"/><Relationship Id="rId12" Type="http://schemas.openxmlformats.org/officeDocument/2006/relationships/hyperlink" Target="http://www.cs.ubc.ca/spider/kvdoel/sound_demo6.html" TargetMode="External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xtec.es/centres/a8019411/caixa/index_es.htm" TargetMode="External"/><Relationship Id="rId3" Type="http://schemas.openxmlformats.org/officeDocument/2006/relationships/hyperlink" Target="http://www.xtec.es/centres/a8019411/caixa/index_es.htm" TargetMode="External"/><Relationship Id="rId4" Type="http://schemas.openxmlformats.org/officeDocument/2006/relationships/hyperlink" Target="http://www.xtec.es/centres/a8019411/caixa/index_es.htm" TargetMode="External"/><Relationship Id="rId5" Type="http://schemas.openxmlformats.org/officeDocument/2006/relationships/hyperlink" Target="http://www.xtec.es/centres/a8019411/caixa/index_es.htm" TargetMode="External"/><Relationship Id="rId6" Type="http://schemas.openxmlformats.org/officeDocument/2006/relationships/hyperlink" Target="http://www.xtec.es/centres/a8019411/caixa/index_es.htm" TargetMode="External"/><Relationship Id="rId7" Type="http://schemas.openxmlformats.org/officeDocument/2006/relationships/hyperlink" Target="http://www.kettering.edu/~drussell/Demos.html" TargetMode="External"/><Relationship Id="rId8" Type="http://schemas.openxmlformats.org/officeDocument/2006/relationships/hyperlink" Target="http://www.kettering.edu/~drussell/Demos.html" TargetMode="External"/><Relationship Id="rId9" Type="http://schemas.openxmlformats.org/officeDocument/2006/relationships/hyperlink" Target="http://www.kettering.edu/~drussell/Demos.html" TargetMode="External"/><Relationship Id="rId10" Type="http://schemas.openxmlformats.org/officeDocument/2006/relationships/hyperlink" Target="http://www.kettering.edu/~drussell/Demos.html" TargetMode="External"/><Relationship Id="rId11" Type="http://schemas.openxmlformats.org/officeDocument/2006/relationships/hyperlink" Target="http://www.kettering.edu/~drussell/Demos.html" TargetMode="External"/><Relationship Id="rId12" Type="http://schemas.openxmlformats.org/officeDocument/2006/relationships/hyperlink" Target="http://www.kettering.edu/~drussell/Demos.html" TargetMode="External"/><Relationship Id="rId13" Type="http://schemas.openxmlformats.org/officeDocument/2006/relationships/hyperlink" Target="http://www.kettering.edu/~drussell/Demos.html" TargetMode="External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synwater.exe" TargetMode="External"/><Relationship Id="rId2" Type="http://schemas.openxmlformats.org/officeDocument/2006/relationships/hyperlink" Target="tsunami wave globe.mov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ie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2297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5157720"/>
            <a:ext cx="8207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laciones en las On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 = 1 / </a:t>
            </a:r>
            <a:r>
              <a:rPr b="0" lang="es-CL" sz="2400" spc="-1" strike="noStrike">
                <a:solidFill>
                  <a:srgbClr val="ffffff"/>
                </a:solidFill>
                <a:latin typeface="Monotype Corsiva"/>
              </a:rPr>
              <a:t>f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f</a:t>
            </a: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g(t)=sin(2·</a:t>
            </a:r>
            <a:r>
              <a:rPr b="0" i="1" lang="el-GR" sz="3200" spc="-1" strike="noStrike">
                <a:solidFill>
                  <a:srgbClr val="ffffff"/>
                </a:solidFill>
                <a:latin typeface="Monotype Corsiva"/>
              </a:rPr>
              <a:t>π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4·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presentación Circul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56000" y="1699920"/>
            <a:ext cx="2746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s ondas se representan matemáticamente como funciones trigonométricas (Seno y Coseno) o como números Reales e Imaginari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619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scilacione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scilacion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lant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icro.magnet.fsu.edu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electromag/java/speak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icrófono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icro.magnet.fsu.edu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lectromag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java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microphone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membrana (Tambor)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cuerda o bar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://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falstad.com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mathphysics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2840" y="145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l cruzarse dos o más ondas, éstas se “suman” (superponen). Esto produce distintos efecto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6119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19280" y="234792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el mismo sentid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42920" y="2274840"/>
            <a:ext cx="4465800" cy="4465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sentidos opuest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os ondas de frecuencias ligeramente distinta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51847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619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619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02680" y="404640"/>
            <a:ext cx="93492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7620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Síntesis por superposición de armónic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alstad.com/fouri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tro sitio de síntesis por Modelamiento Físic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s.ubc.ca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pider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kvdoel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ound_demo6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m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ecuencias de los 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 un tubo cerr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( v =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 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1628640"/>
            <a:ext cx="431964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148360" y="2276640"/>
                <a:ext cx="2736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ecuencias de los 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 tubo abier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( v = velocidad del sonido en el aire   </a:t>
            </a:r>
            <a:r>
              <a:rPr b="1" lang="es-CL" sz="2800" spc="-1" strike="noStrike">
                <a:solidFill>
                  <a:srgbClr val="ffffcc"/>
                </a:solidFill>
                <a:latin typeface="Arial"/>
              </a:rPr>
              <a:t>340.29 m/s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1628640"/>
            <a:ext cx="431964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2276640"/>
                <a:ext cx="2736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sonador de Helmholtz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3240" y="2887560"/>
            <a:ext cx="1919160" cy="6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0040" y="2492280"/>
            <a:ext cx="85248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9720" y="2492280"/>
            <a:ext cx="0" cy="6080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4149720"/>
            <a:ext cx="1066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6040" y="2421000"/>
            <a:ext cx="639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2637000"/>
            <a:ext cx="12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l </a:t>
            </a:r>
            <a:r>
              <a:rPr b="0" lang="en-US" sz="1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2349360"/>
            <a:ext cx="29844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l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largo del cu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: Área de a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: Volu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149720"/>
            <a:ext cx="3529080" cy="20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10240" y="4581360"/>
                <a:ext cx="31064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ropagación de Energía sin transferencia de materia: ond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3645000"/>
            <a:ext cx="5904000" cy="1317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2349360"/>
            <a:ext cx="72723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Página Web: La Caja de Mús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de Carlos García Peñalb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xtec.es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centres/a8019411/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ixa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dex_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kettering.edu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~drussell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Demo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1187280" y="5040360"/>
            <a:ext cx="590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 importante notar que las partículas no se desplazan, sino que vibran u oscilan. Osea, en una flauta no “sale” aire por el extremo….el aire se está moviendo dentro de la flauta a distintas velocidades o “frecuencia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74883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ndas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nWater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dor de ondas producidas por gotas de agua en un estanqu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unami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ción de un Tsunami que se propag desde Chile hasta Japó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ngitudinales: movimiento en el sentido de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4292640"/>
            <a:ext cx="7920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versales: movimiento perpendicular a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8353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09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mplitud     ( A ) es qué tan amplia es la oscilación. Corresponde al volúm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eríodo       ( T ) : cuántos segundos dura un ciclo de una ond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ongitud de Onda  ( </a:t>
            </a:r>
            <a:r>
              <a:rPr b="0" lang="el-GR" sz="2000" spc="-1" strike="noStrike">
                <a:solidFill>
                  <a:srgbClr val="ffffcc"/>
                </a:solidFill>
                <a:latin typeface="Arial"/>
                <a:ea typeface="Arial"/>
              </a:rPr>
              <a:t>λ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) : distancia (en metros) entre dos ciclo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7345440" cy="247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13000" y="423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9280" y="4292640"/>
            <a:ext cx="197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4365720"/>
            <a:ext cx="1439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845400" y="4338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43640" y="5229360"/>
            <a:ext cx="8650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mpl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34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10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72000" y="6093000"/>
            <a:ext cx="197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6165720"/>
            <a:ext cx="1440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íodo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recuencia  ( </a:t>
            </a:r>
            <a:r>
              <a:rPr b="0" lang="es-CL" sz="2400" spc="-1" strike="noStrike">
                <a:solidFill>
                  <a:srgbClr val="ffffcc"/>
                </a:solidFill>
                <a:latin typeface="Monotype Corsiva"/>
              </a:rPr>
              <a:t>f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) es cuántos ciclos ocurren en 1 segundo.   Corresponde al ton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 es la velocidad de propagación de la onda…en el caso del sonido, es la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86421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Perico</cp:lastModifiedBy>
  <dcterms:modified xsi:type="dcterms:W3CDTF">2007-01-11T12:29:17Z</dcterms:modified>
  <cp:revision>28</cp:revision>
  <dc:subject/>
  <dc:title>Taller de Ciencias en la Música </dc:title>
</cp:coreProperties>
</file>