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C01-3B98-45CE-8EA7-89A0D8FA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302-D655-43C0-88DB-2CF8BAE9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08B-476C-40E9-8524-DC67E476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F05-0FE9-4D29-8A32-E708AFF6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76C-8CE8-4726-901A-E13023F8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13A-BCCB-4861-9BCF-64DE9FC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D3E-DFE0-4394-991A-84F31B3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52F-8563-4FCD-A8E3-C5604C1C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83-9473-430B-B5B3-D23656B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478-DB1D-42EA-A0A6-E5F6DAD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DA9-D3B0-4465-8428-A64576C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FFB-E921-40BE-BE99-96885D2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349-0AF7-4689-9B05-F2BE70E3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i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</cp:lastModifiedBy>
  <dcterms:modified xsi:type="dcterms:W3CDTF">2007-01-11T12:29:17Z</dcterms:modified>
  <cp:revision>28</cp:revision>
  <dc:subject/>
  <dc:title>Taller de Ciencias en la Música </dc:title>
</cp:coreProperties>
</file>