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C7F-E54F-409A-98C5-231C4C0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F2F-0CD3-4482-8966-F9B45B50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5C2-E4A9-4B82-8BA2-2A212435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68E-9956-47C2-A033-C91A3585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741-21F1-4F22-BCEA-CF9529C8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64C-8C51-4127-94BD-EBA3A78E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1D7-44BC-404B-8C2C-9E6475F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571-455D-44A6-932C-4CDA23B2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D5B-E2B0-4E68-B025-D1A3D62A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F7A-54AE-4E4F-B34D-C2302E9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409-BEF6-4C33-B045-7AA0609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7F9-EED1-4FD4-B3FD-B5606C4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BC5D-217E-458A-B8E8-D64A4CD27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i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</cp:lastModifiedBy>
  <dcterms:modified xsi:type="dcterms:W3CDTF">2007-01-11T12:29:17Z</dcterms:modified>
  <cp:revision>28</cp:revision>
  <dc:subject/>
  <dc:title>Taller de Ciencias en la Música </dc:title>
</cp:coreProperties>
</file>