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5519-D87E-4FAC-AF4A-CAF90776B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6A07-FFB3-49CD-8251-3D0229AA2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E029-AACE-44B5-80DF-90844908E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3A25-B60F-4A01-A057-6A33C1210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48CD-31BC-4913-9037-B8178C5CF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77F0-C55D-4772-A71C-6ACC22F89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622D-FB24-4231-ACB9-86C2D452C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3950-FFDF-4CE3-82A8-FE09BE18B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F71A-46AA-4A17-9723-316176B42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567A-5622-4727-B453-15C935ED8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51D2-5358-4178-B0B2-69F585E37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A218-CB28-44EC-94A1-A834C1DA2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B8475-72CC-4985-B28B-9279EC65C7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79280" y="1484280"/>
            <a:ext cx="87138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8854920" y="1447920"/>
            <a:ext cx="73080" cy="730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Taller de Música en la Ciencia</a:t>
            </a:r>
            <a:br>
              <a:rPr sz="4000"/>
            </a:b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AUDIO DIGITAL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563640" y="6093000"/>
            <a:ext cx="536076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Enero dos mil sei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En qué consiste el audio digital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En representar en forma de números la curva de variación de presión del soni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42920" y="3573360"/>
            <a:ext cx="216000" cy="20163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187280" y="53737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187280" y="53006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187280" y="522936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116000" y="515772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187280" y="50846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87280" y="501336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9417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87280" y="486900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1135080" y="4797000"/>
            <a:ext cx="12384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87280" y="472428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87280" y="465300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187280" y="458136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87280" y="45086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52360" y="4437000"/>
            <a:ext cx="10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187280" y="43657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187280" y="42926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187280" y="422100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87280" y="41497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7680" y="4076640"/>
            <a:ext cx="11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187280" y="400536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87280" y="39337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187280" y="38606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187280" y="378936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116000" y="544500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987480" y="5334120"/>
            <a:ext cx="183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965160" y="5064120"/>
            <a:ext cx="309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944640" y="4711680"/>
            <a:ext cx="309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960480" y="4341960"/>
            <a:ext cx="309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65160" y="3989520"/>
            <a:ext cx="309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966960" y="5354640"/>
            <a:ext cx="309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03280" y="5373720"/>
            <a:ext cx="142920" cy="1443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124000" y="4941720"/>
            <a:ext cx="142920" cy="14472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1494000" y="3681360"/>
            <a:ext cx="5473440" cy="1944720"/>
            <a:chOff x="1494000" y="3681360"/>
            <a:chExt cx="5473440" cy="1944720"/>
          </a:xfrm>
        </p:grpSpPr>
        <p:sp>
          <p:nvSpPr>
            <p:cNvPr id="80" name=""/>
            <p:cNvSpPr/>
            <p:nvPr/>
          </p:nvSpPr>
          <p:spPr>
            <a:xfrm>
              <a:off x="149400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85256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21292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64492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07800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43692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79584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5620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58784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02128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38308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74200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10236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53400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96744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5651640" y="4941720"/>
            <a:ext cx="142560" cy="14472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556000" y="5013360"/>
            <a:ext cx="142920" cy="1443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987640" y="4724280"/>
            <a:ext cx="142920" cy="14472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48000" y="4508640"/>
            <a:ext cx="142920" cy="1443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708360" y="3933720"/>
            <a:ext cx="142920" cy="14472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067280" y="4941720"/>
            <a:ext cx="142920" cy="14472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00720" y="5229360"/>
            <a:ext cx="142560" cy="1443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932360" y="5013360"/>
            <a:ext cx="142920" cy="1443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292720" y="4869000"/>
            <a:ext cx="142920" cy="1443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012000" y="4724280"/>
            <a:ext cx="142560" cy="14472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443640" y="4437000"/>
            <a:ext cx="142920" cy="1443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877080" y="3933720"/>
            <a:ext cx="142920" cy="14472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90760" y="4003560"/>
            <a:ext cx="5611680" cy="1428840"/>
          </a:xfrm>
          <a:custGeom>
            <a:avLst/>
            <a:gdLst/>
            <a:ahLst/>
            <a:rect l="l" t="t" r="r" b="b"/>
            <a:pathLst>
              <a:path w="3535" h="900">
                <a:moveTo>
                  <a:pt x="0" y="900"/>
                </a:moveTo>
                <a:cubicBezTo>
                  <a:pt x="17" y="895"/>
                  <a:pt x="34" y="889"/>
                  <a:pt x="51" y="884"/>
                </a:cubicBezTo>
                <a:cubicBezTo>
                  <a:pt x="71" y="853"/>
                  <a:pt x="127" y="841"/>
                  <a:pt x="163" y="833"/>
                </a:cubicBezTo>
                <a:cubicBezTo>
                  <a:pt x="184" y="819"/>
                  <a:pt x="196" y="796"/>
                  <a:pt x="219" y="789"/>
                </a:cubicBezTo>
                <a:cubicBezTo>
                  <a:pt x="232" y="769"/>
                  <a:pt x="241" y="763"/>
                  <a:pt x="263" y="755"/>
                </a:cubicBezTo>
                <a:cubicBezTo>
                  <a:pt x="277" y="736"/>
                  <a:pt x="285" y="723"/>
                  <a:pt x="308" y="716"/>
                </a:cubicBezTo>
                <a:cubicBezTo>
                  <a:pt x="329" y="703"/>
                  <a:pt x="340" y="684"/>
                  <a:pt x="364" y="677"/>
                </a:cubicBezTo>
                <a:cubicBezTo>
                  <a:pt x="383" y="647"/>
                  <a:pt x="435" y="634"/>
                  <a:pt x="470" y="626"/>
                </a:cubicBezTo>
                <a:cubicBezTo>
                  <a:pt x="515" y="628"/>
                  <a:pt x="559" y="628"/>
                  <a:pt x="604" y="632"/>
                </a:cubicBezTo>
                <a:cubicBezTo>
                  <a:pt x="629" y="634"/>
                  <a:pt x="619" y="644"/>
                  <a:pt x="638" y="660"/>
                </a:cubicBezTo>
                <a:cubicBezTo>
                  <a:pt x="649" y="669"/>
                  <a:pt x="674" y="678"/>
                  <a:pt x="688" y="682"/>
                </a:cubicBezTo>
                <a:cubicBezTo>
                  <a:pt x="771" y="678"/>
                  <a:pt x="818" y="689"/>
                  <a:pt x="862" y="621"/>
                </a:cubicBezTo>
                <a:cubicBezTo>
                  <a:pt x="864" y="615"/>
                  <a:pt x="863" y="608"/>
                  <a:pt x="867" y="604"/>
                </a:cubicBezTo>
                <a:cubicBezTo>
                  <a:pt x="871" y="600"/>
                  <a:pt x="879" y="601"/>
                  <a:pt x="884" y="598"/>
                </a:cubicBezTo>
                <a:cubicBezTo>
                  <a:pt x="903" y="588"/>
                  <a:pt x="914" y="573"/>
                  <a:pt x="934" y="565"/>
                </a:cubicBezTo>
                <a:cubicBezTo>
                  <a:pt x="948" y="544"/>
                  <a:pt x="959" y="517"/>
                  <a:pt x="979" y="503"/>
                </a:cubicBezTo>
                <a:cubicBezTo>
                  <a:pt x="1006" y="464"/>
                  <a:pt x="1041" y="441"/>
                  <a:pt x="1085" y="425"/>
                </a:cubicBezTo>
                <a:cubicBezTo>
                  <a:pt x="1087" y="419"/>
                  <a:pt x="1086" y="412"/>
                  <a:pt x="1091" y="408"/>
                </a:cubicBezTo>
                <a:cubicBezTo>
                  <a:pt x="1104" y="398"/>
                  <a:pt x="1163" y="392"/>
                  <a:pt x="1180" y="380"/>
                </a:cubicBezTo>
                <a:cubicBezTo>
                  <a:pt x="1198" y="367"/>
                  <a:pt x="1212" y="353"/>
                  <a:pt x="1231" y="341"/>
                </a:cubicBezTo>
                <a:cubicBezTo>
                  <a:pt x="1237" y="316"/>
                  <a:pt x="1243" y="314"/>
                  <a:pt x="1259" y="296"/>
                </a:cubicBezTo>
                <a:cubicBezTo>
                  <a:pt x="1266" y="263"/>
                  <a:pt x="1293" y="243"/>
                  <a:pt x="1309" y="213"/>
                </a:cubicBezTo>
                <a:cubicBezTo>
                  <a:pt x="1316" y="200"/>
                  <a:pt x="1320" y="186"/>
                  <a:pt x="1326" y="173"/>
                </a:cubicBezTo>
                <a:cubicBezTo>
                  <a:pt x="1333" y="133"/>
                  <a:pt x="1328" y="154"/>
                  <a:pt x="1343" y="112"/>
                </a:cubicBezTo>
                <a:cubicBezTo>
                  <a:pt x="1360" y="66"/>
                  <a:pt x="1351" y="30"/>
                  <a:pt x="1404" y="11"/>
                </a:cubicBezTo>
                <a:cubicBezTo>
                  <a:pt x="1425" y="13"/>
                  <a:pt x="1447" y="8"/>
                  <a:pt x="1466" y="17"/>
                </a:cubicBezTo>
                <a:cubicBezTo>
                  <a:pt x="1483" y="25"/>
                  <a:pt x="1486" y="48"/>
                  <a:pt x="1499" y="62"/>
                </a:cubicBezTo>
                <a:cubicBezTo>
                  <a:pt x="1506" y="81"/>
                  <a:pt x="1510" y="95"/>
                  <a:pt x="1522" y="112"/>
                </a:cubicBezTo>
                <a:cubicBezTo>
                  <a:pt x="1527" y="142"/>
                  <a:pt x="1543" y="162"/>
                  <a:pt x="1550" y="190"/>
                </a:cubicBezTo>
                <a:cubicBezTo>
                  <a:pt x="1560" y="231"/>
                  <a:pt x="1566" y="277"/>
                  <a:pt x="1589" y="313"/>
                </a:cubicBezTo>
                <a:cubicBezTo>
                  <a:pt x="1601" y="353"/>
                  <a:pt x="1616" y="395"/>
                  <a:pt x="1622" y="436"/>
                </a:cubicBezTo>
                <a:cubicBezTo>
                  <a:pt x="1628" y="473"/>
                  <a:pt x="1632" y="595"/>
                  <a:pt x="1673" y="632"/>
                </a:cubicBezTo>
                <a:cubicBezTo>
                  <a:pt x="1677" y="639"/>
                  <a:pt x="1680" y="647"/>
                  <a:pt x="1684" y="654"/>
                </a:cubicBezTo>
                <a:cubicBezTo>
                  <a:pt x="1687" y="659"/>
                  <a:pt x="1692" y="661"/>
                  <a:pt x="1695" y="666"/>
                </a:cubicBezTo>
                <a:cubicBezTo>
                  <a:pt x="1705" y="683"/>
                  <a:pt x="1706" y="703"/>
                  <a:pt x="1717" y="721"/>
                </a:cubicBezTo>
                <a:cubicBezTo>
                  <a:pt x="1728" y="739"/>
                  <a:pt x="1750" y="746"/>
                  <a:pt x="1768" y="755"/>
                </a:cubicBezTo>
                <a:cubicBezTo>
                  <a:pt x="1781" y="775"/>
                  <a:pt x="1790" y="781"/>
                  <a:pt x="1812" y="789"/>
                </a:cubicBezTo>
                <a:cubicBezTo>
                  <a:pt x="1837" y="812"/>
                  <a:pt x="1874" y="826"/>
                  <a:pt x="1907" y="833"/>
                </a:cubicBezTo>
                <a:cubicBezTo>
                  <a:pt x="2018" y="826"/>
                  <a:pt x="1962" y="832"/>
                  <a:pt x="2019" y="811"/>
                </a:cubicBezTo>
                <a:cubicBezTo>
                  <a:pt x="2036" y="785"/>
                  <a:pt x="2071" y="781"/>
                  <a:pt x="2098" y="766"/>
                </a:cubicBezTo>
                <a:cubicBezTo>
                  <a:pt x="2110" y="760"/>
                  <a:pt x="2131" y="744"/>
                  <a:pt x="2131" y="744"/>
                </a:cubicBezTo>
                <a:cubicBezTo>
                  <a:pt x="2135" y="738"/>
                  <a:pt x="2137" y="731"/>
                  <a:pt x="2142" y="727"/>
                </a:cubicBezTo>
                <a:cubicBezTo>
                  <a:pt x="2147" y="723"/>
                  <a:pt x="2155" y="725"/>
                  <a:pt x="2159" y="721"/>
                </a:cubicBezTo>
                <a:cubicBezTo>
                  <a:pt x="2165" y="715"/>
                  <a:pt x="2165" y="705"/>
                  <a:pt x="2170" y="699"/>
                </a:cubicBezTo>
                <a:cubicBezTo>
                  <a:pt x="2184" y="683"/>
                  <a:pt x="2223" y="670"/>
                  <a:pt x="2243" y="666"/>
                </a:cubicBezTo>
                <a:cubicBezTo>
                  <a:pt x="2270" y="636"/>
                  <a:pt x="2307" y="636"/>
                  <a:pt x="2344" y="626"/>
                </a:cubicBezTo>
                <a:cubicBezTo>
                  <a:pt x="2371" y="607"/>
                  <a:pt x="2407" y="600"/>
                  <a:pt x="2439" y="593"/>
                </a:cubicBezTo>
                <a:cubicBezTo>
                  <a:pt x="2502" y="597"/>
                  <a:pt x="2541" y="604"/>
                  <a:pt x="2601" y="610"/>
                </a:cubicBezTo>
                <a:cubicBezTo>
                  <a:pt x="2631" y="617"/>
                  <a:pt x="2643" y="633"/>
                  <a:pt x="2668" y="649"/>
                </a:cubicBezTo>
                <a:cubicBezTo>
                  <a:pt x="2698" y="647"/>
                  <a:pt x="2727" y="646"/>
                  <a:pt x="2757" y="643"/>
                </a:cubicBezTo>
                <a:cubicBezTo>
                  <a:pt x="2797" y="639"/>
                  <a:pt x="2849" y="559"/>
                  <a:pt x="2875" y="531"/>
                </a:cubicBezTo>
                <a:cubicBezTo>
                  <a:pt x="2886" y="496"/>
                  <a:pt x="2870" y="531"/>
                  <a:pt x="2897" y="509"/>
                </a:cubicBezTo>
                <a:cubicBezTo>
                  <a:pt x="2921" y="489"/>
                  <a:pt x="2904" y="485"/>
                  <a:pt x="2942" y="475"/>
                </a:cubicBezTo>
                <a:cubicBezTo>
                  <a:pt x="2948" y="471"/>
                  <a:pt x="2953" y="467"/>
                  <a:pt x="2959" y="464"/>
                </a:cubicBezTo>
                <a:cubicBezTo>
                  <a:pt x="2968" y="460"/>
                  <a:pt x="2978" y="458"/>
                  <a:pt x="2987" y="453"/>
                </a:cubicBezTo>
                <a:cubicBezTo>
                  <a:pt x="3031" y="426"/>
                  <a:pt x="2976" y="442"/>
                  <a:pt x="3026" y="431"/>
                </a:cubicBezTo>
                <a:cubicBezTo>
                  <a:pt x="3051" y="406"/>
                  <a:pt x="3081" y="389"/>
                  <a:pt x="3115" y="380"/>
                </a:cubicBezTo>
                <a:cubicBezTo>
                  <a:pt x="3124" y="356"/>
                  <a:pt x="3142" y="337"/>
                  <a:pt x="3160" y="319"/>
                </a:cubicBezTo>
                <a:cubicBezTo>
                  <a:pt x="3175" y="275"/>
                  <a:pt x="3153" y="328"/>
                  <a:pt x="3182" y="291"/>
                </a:cubicBezTo>
                <a:cubicBezTo>
                  <a:pt x="3203" y="265"/>
                  <a:pt x="3170" y="279"/>
                  <a:pt x="3205" y="269"/>
                </a:cubicBezTo>
                <a:cubicBezTo>
                  <a:pt x="3223" y="250"/>
                  <a:pt x="3238" y="227"/>
                  <a:pt x="3255" y="207"/>
                </a:cubicBezTo>
                <a:cubicBezTo>
                  <a:pt x="3271" y="187"/>
                  <a:pt x="3263" y="176"/>
                  <a:pt x="3289" y="168"/>
                </a:cubicBezTo>
                <a:cubicBezTo>
                  <a:pt x="3297" y="133"/>
                  <a:pt x="3340" y="89"/>
                  <a:pt x="3373" y="73"/>
                </a:cubicBezTo>
                <a:cubicBezTo>
                  <a:pt x="3384" y="23"/>
                  <a:pt x="3367" y="73"/>
                  <a:pt x="3401" y="39"/>
                </a:cubicBezTo>
                <a:cubicBezTo>
                  <a:pt x="3405" y="35"/>
                  <a:pt x="3401" y="25"/>
                  <a:pt x="3406" y="22"/>
                </a:cubicBezTo>
                <a:cubicBezTo>
                  <a:pt x="3428" y="10"/>
                  <a:pt x="3455" y="8"/>
                  <a:pt x="3479" y="0"/>
                </a:cubicBezTo>
                <a:cubicBezTo>
                  <a:pt x="3513" y="9"/>
                  <a:pt x="3501" y="18"/>
                  <a:pt x="3524" y="39"/>
                </a:cubicBezTo>
                <a:cubicBezTo>
                  <a:pt x="3528" y="56"/>
                  <a:pt x="3535" y="73"/>
                  <a:pt x="3535" y="9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763640" y="5157720"/>
            <a:ext cx="142920" cy="1443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332000" y="5805360"/>
            <a:ext cx="28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692360" y="5805360"/>
            <a:ext cx="28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050920" y="5805360"/>
            <a:ext cx="28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484360" y="5805360"/>
            <a:ext cx="28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916360" y="5805360"/>
            <a:ext cx="3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76720" y="5805360"/>
            <a:ext cx="35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635280" y="5805360"/>
            <a:ext cx="3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2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995640" y="5805360"/>
            <a:ext cx="28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00720" y="5805360"/>
            <a:ext cx="28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5805360"/>
            <a:ext cx="28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219640" y="5805360"/>
            <a:ext cx="28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653080" y="5805360"/>
            <a:ext cx="28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012000" y="5805360"/>
            <a:ext cx="28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445080" y="5805360"/>
            <a:ext cx="3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804000" y="5805360"/>
            <a:ext cx="3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Numerización de una onda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4572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OJO: las muestras (o “samples”) se toman a intervalo regular de tiempo, es decir a una determinada frecuenci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Ésta se llam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i="1" lang="es-CL" sz="2400" spc="-1" strike="noStrike">
                <a:solidFill>
                  <a:srgbClr val="ffffcc"/>
                </a:solidFill>
                <a:latin typeface="Arial"/>
              </a:rPr>
              <a:t>frecuencia de muestreo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 y se representa por </a:t>
            </a:r>
            <a:r>
              <a:rPr b="0" i="1" lang="es-CL" sz="2400" spc="-1" strike="noStrike">
                <a:solidFill>
                  <a:srgbClr val="ffffcc"/>
                </a:solidFill>
                <a:latin typeface="Arial"/>
              </a:rPr>
              <a:t>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042920" y="3573360"/>
            <a:ext cx="216000" cy="20163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187280" y="53737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187280" y="53006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187280" y="522936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116000" y="515772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187280" y="50846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187280" y="501336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87280" y="49417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187280" y="486900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1135080" y="4797000"/>
            <a:ext cx="12384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87280" y="472428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187280" y="465300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187280" y="458136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187280" y="45086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152360" y="4437000"/>
            <a:ext cx="10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187280" y="43657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187280" y="42926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187280" y="422100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187280" y="41497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147680" y="4076640"/>
            <a:ext cx="11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187280" y="400536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187280" y="39337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87280" y="38606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87280" y="378936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116000" y="544500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987480" y="5334120"/>
            <a:ext cx="183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965160" y="5064120"/>
            <a:ext cx="309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944640" y="4711680"/>
            <a:ext cx="309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960480" y="4341960"/>
            <a:ext cx="309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965160" y="3989520"/>
            <a:ext cx="309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966960" y="5354640"/>
            <a:ext cx="309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403280" y="5373720"/>
            <a:ext cx="142920" cy="1443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4000" y="4941720"/>
            <a:ext cx="142920" cy="14472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1494000" y="3681360"/>
            <a:ext cx="5473440" cy="1944720"/>
            <a:chOff x="1494000" y="3681360"/>
            <a:chExt cx="5473440" cy="1944720"/>
          </a:xfrm>
        </p:grpSpPr>
        <p:sp>
          <p:nvSpPr>
            <p:cNvPr id="160" name=""/>
            <p:cNvSpPr/>
            <p:nvPr/>
          </p:nvSpPr>
          <p:spPr>
            <a:xfrm>
              <a:off x="149400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85256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21292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64492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07800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43692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79584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15620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58784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02128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38308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74200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10236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53400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96744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5651640" y="4941720"/>
            <a:ext cx="142560" cy="14472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56000" y="5013360"/>
            <a:ext cx="142920" cy="1443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987640" y="4724280"/>
            <a:ext cx="142920" cy="14472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348000" y="4508640"/>
            <a:ext cx="142920" cy="1443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708360" y="3933720"/>
            <a:ext cx="142920" cy="14472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067280" y="4941720"/>
            <a:ext cx="142920" cy="14472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500720" y="5229360"/>
            <a:ext cx="142560" cy="1443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932360" y="5013360"/>
            <a:ext cx="142920" cy="1443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292720" y="4869000"/>
            <a:ext cx="142920" cy="1443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2000" y="4724280"/>
            <a:ext cx="142560" cy="14472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443640" y="4437000"/>
            <a:ext cx="142920" cy="1443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877080" y="3933720"/>
            <a:ext cx="142920" cy="14472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490760" y="4003560"/>
            <a:ext cx="5611680" cy="1428840"/>
          </a:xfrm>
          <a:custGeom>
            <a:avLst/>
            <a:gdLst/>
            <a:ahLst/>
            <a:rect l="l" t="t" r="r" b="b"/>
            <a:pathLst>
              <a:path w="3535" h="900">
                <a:moveTo>
                  <a:pt x="0" y="900"/>
                </a:moveTo>
                <a:cubicBezTo>
                  <a:pt x="17" y="895"/>
                  <a:pt x="34" y="889"/>
                  <a:pt x="51" y="884"/>
                </a:cubicBezTo>
                <a:cubicBezTo>
                  <a:pt x="71" y="853"/>
                  <a:pt x="127" y="841"/>
                  <a:pt x="163" y="833"/>
                </a:cubicBezTo>
                <a:cubicBezTo>
                  <a:pt x="184" y="819"/>
                  <a:pt x="196" y="796"/>
                  <a:pt x="219" y="789"/>
                </a:cubicBezTo>
                <a:cubicBezTo>
                  <a:pt x="232" y="769"/>
                  <a:pt x="241" y="763"/>
                  <a:pt x="263" y="755"/>
                </a:cubicBezTo>
                <a:cubicBezTo>
                  <a:pt x="277" y="736"/>
                  <a:pt x="285" y="723"/>
                  <a:pt x="308" y="716"/>
                </a:cubicBezTo>
                <a:cubicBezTo>
                  <a:pt x="329" y="703"/>
                  <a:pt x="340" y="684"/>
                  <a:pt x="364" y="677"/>
                </a:cubicBezTo>
                <a:cubicBezTo>
                  <a:pt x="383" y="647"/>
                  <a:pt x="435" y="634"/>
                  <a:pt x="470" y="626"/>
                </a:cubicBezTo>
                <a:cubicBezTo>
                  <a:pt x="515" y="628"/>
                  <a:pt x="559" y="628"/>
                  <a:pt x="604" y="632"/>
                </a:cubicBezTo>
                <a:cubicBezTo>
                  <a:pt x="629" y="634"/>
                  <a:pt x="619" y="644"/>
                  <a:pt x="638" y="660"/>
                </a:cubicBezTo>
                <a:cubicBezTo>
                  <a:pt x="649" y="669"/>
                  <a:pt x="674" y="678"/>
                  <a:pt x="688" y="682"/>
                </a:cubicBezTo>
                <a:cubicBezTo>
                  <a:pt x="771" y="678"/>
                  <a:pt x="818" y="689"/>
                  <a:pt x="862" y="621"/>
                </a:cubicBezTo>
                <a:cubicBezTo>
                  <a:pt x="864" y="615"/>
                  <a:pt x="863" y="608"/>
                  <a:pt x="867" y="604"/>
                </a:cubicBezTo>
                <a:cubicBezTo>
                  <a:pt x="871" y="600"/>
                  <a:pt x="879" y="601"/>
                  <a:pt x="884" y="598"/>
                </a:cubicBezTo>
                <a:cubicBezTo>
                  <a:pt x="903" y="588"/>
                  <a:pt x="914" y="573"/>
                  <a:pt x="934" y="565"/>
                </a:cubicBezTo>
                <a:cubicBezTo>
                  <a:pt x="948" y="544"/>
                  <a:pt x="959" y="517"/>
                  <a:pt x="979" y="503"/>
                </a:cubicBezTo>
                <a:cubicBezTo>
                  <a:pt x="1006" y="464"/>
                  <a:pt x="1041" y="441"/>
                  <a:pt x="1085" y="425"/>
                </a:cubicBezTo>
                <a:cubicBezTo>
                  <a:pt x="1087" y="419"/>
                  <a:pt x="1086" y="412"/>
                  <a:pt x="1091" y="408"/>
                </a:cubicBezTo>
                <a:cubicBezTo>
                  <a:pt x="1104" y="398"/>
                  <a:pt x="1163" y="392"/>
                  <a:pt x="1180" y="380"/>
                </a:cubicBezTo>
                <a:cubicBezTo>
                  <a:pt x="1198" y="367"/>
                  <a:pt x="1212" y="353"/>
                  <a:pt x="1231" y="341"/>
                </a:cubicBezTo>
                <a:cubicBezTo>
                  <a:pt x="1237" y="316"/>
                  <a:pt x="1243" y="314"/>
                  <a:pt x="1259" y="296"/>
                </a:cubicBezTo>
                <a:cubicBezTo>
                  <a:pt x="1266" y="263"/>
                  <a:pt x="1293" y="243"/>
                  <a:pt x="1309" y="213"/>
                </a:cubicBezTo>
                <a:cubicBezTo>
                  <a:pt x="1316" y="200"/>
                  <a:pt x="1320" y="186"/>
                  <a:pt x="1326" y="173"/>
                </a:cubicBezTo>
                <a:cubicBezTo>
                  <a:pt x="1333" y="133"/>
                  <a:pt x="1328" y="154"/>
                  <a:pt x="1343" y="112"/>
                </a:cubicBezTo>
                <a:cubicBezTo>
                  <a:pt x="1360" y="66"/>
                  <a:pt x="1351" y="30"/>
                  <a:pt x="1404" y="11"/>
                </a:cubicBezTo>
                <a:cubicBezTo>
                  <a:pt x="1425" y="13"/>
                  <a:pt x="1447" y="8"/>
                  <a:pt x="1466" y="17"/>
                </a:cubicBezTo>
                <a:cubicBezTo>
                  <a:pt x="1483" y="25"/>
                  <a:pt x="1486" y="48"/>
                  <a:pt x="1499" y="62"/>
                </a:cubicBezTo>
                <a:cubicBezTo>
                  <a:pt x="1506" y="81"/>
                  <a:pt x="1510" y="95"/>
                  <a:pt x="1522" y="112"/>
                </a:cubicBezTo>
                <a:cubicBezTo>
                  <a:pt x="1527" y="142"/>
                  <a:pt x="1543" y="162"/>
                  <a:pt x="1550" y="190"/>
                </a:cubicBezTo>
                <a:cubicBezTo>
                  <a:pt x="1560" y="231"/>
                  <a:pt x="1566" y="277"/>
                  <a:pt x="1589" y="313"/>
                </a:cubicBezTo>
                <a:cubicBezTo>
                  <a:pt x="1601" y="353"/>
                  <a:pt x="1616" y="395"/>
                  <a:pt x="1622" y="436"/>
                </a:cubicBezTo>
                <a:cubicBezTo>
                  <a:pt x="1628" y="473"/>
                  <a:pt x="1632" y="595"/>
                  <a:pt x="1673" y="632"/>
                </a:cubicBezTo>
                <a:cubicBezTo>
                  <a:pt x="1677" y="639"/>
                  <a:pt x="1680" y="647"/>
                  <a:pt x="1684" y="654"/>
                </a:cubicBezTo>
                <a:cubicBezTo>
                  <a:pt x="1687" y="659"/>
                  <a:pt x="1692" y="661"/>
                  <a:pt x="1695" y="666"/>
                </a:cubicBezTo>
                <a:cubicBezTo>
                  <a:pt x="1705" y="683"/>
                  <a:pt x="1706" y="703"/>
                  <a:pt x="1717" y="721"/>
                </a:cubicBezTo>
                <a:cubicBezTo>
                  <a:pt x="1728" y="739"/>
                  <a:pt x="1750" y="746"/>
                  <a:pt x="1768" y="755"/>
                </a:cubicBezTo>
                <a:cubicBezTo>
                  <a:pt x="1781" y="775"/>
                  <a:pt x="1790" y="781"/>
                  <a:pt x="1812" y="789"/>
                </a:cubicBezTo>
                <a:cubicBezTo>
                  <a:pt x="1837" y="812"/>
                  <a:pt x="1874" y="826"/>
                  <a:pt x="1907" y="833"/>
                </a:cubicBezTo>
                <a:cubicBezTo>
                  <a:pt x="2018" y="826"/>
                  <a:pt x="1962" y="832"/>
                  <a:pt x="2019" y="811"/>
                </a:cubicBezTo>
                <a:cubicBezTo>
                  <a:pt x="2036" y="785"/>
                  <a:pt x="2071" y="781"/>
                  <a:pt x="2098" y="766"/>
                </a:cubicBezTo>
                <a:cubicBezTo>
                  <a:pt x="2110" y="760"/>
                  <a:pt x="2131" y="744"/>
                  <a:pt x="2131" y="744"/>
                </a:cubicBezTo>
                <a:cubicBezTo>
                  <a:pt x="2135" y="738"/>
                  <a:pt x="2137" y="731"/>
                  <a:pt x="2142" y="727"/>
                </a:cubicBezTo>
                <a:cubicBezTo>
                  <a:pt x="2147" y="723"/>
                  <a:pt x="2155" y="725"/>
                  <a:pt x="2159" y="721"/>
                </a:cubicBezTo>
                <a:cubicBezTo>
                  <a:pt x="2165" y="715"/>
                  <a:pt x="2165" y="705"/>
                  <a:pt x="2170" y="699"/>
                </a:cubicBezTo>
                <a:cubicBezTo>
                  <a:pt x="2184" y="683"/>
                  <a:pt x="2223" y="670"/>
                  <a:pt x="2243" y="666"/>
                </a:cubicBezTo>
                <a:cubicBezTo>
                  <a:pt x="2270" y="636"/>
                  <a:pt x="2307" y="636"/>
                  <a:pt x="2344" y="626"/>
                </a:cubicBezTo>
                <a:cubicBezTo>
                  <a:pt x="2371" y="607"/>
                  <a:pt x="2407" y="600"/>
                  <a:pt x="2439" y="593"/>
                </a:cubicBezTo>
                <a:cubicBezTo>
                  <a:pt x="2502" y="597"/>
                  <a:pt x="2541" y="604"/>
                  <a:pt x="2601" y="610"/>
                </a:cubicBezTo>
                <a:cubicBezTo>
                  <a:pt x="2631" y="617"/>
                  <a:pt x="2643" y="633"/>
                  <a:pt x="2668" y="649"/>
                </a:cubicBezTo>
                <a:cubicBezTo>
                  <a:pt x="2698" y="647"/>
                  <a:pt x="2727" y="646"/>
                  <a:pt x="2757" y="643"/>
                </a:cubicBezTo>
                <a:cubicBezTo>
                  <a:pt x="2797" y="639"/>
                  <a:pt x="2849" y="559"/>
                  <a:pt x="2875" y="531"/>
                </a:cubicBezTo>
                <a:cubicBezTo>
                  <a:pt x="2886" y="496"/>
                  <a:pt x="2870" y="531"/>
                  <a:pt x="2897" y="509"/>
                </a:cubicBezTo>
                <a:cubicBezTo>
                  <a:pt x="2921" y="489"/>
                  <a:pt x="2904" y="485"/>
                  <a:pt x="2942" y="475"/>
                </a:cubicBezTo>
                <a:cubicBezTo>
                  <a:pt x="2948" y="471"/>
                  <a:pt x="2953" y="467"/>
                  <a:pt x="2959" y="464"/>
                </a:cubicBezTo>
                <a:cubicBezTo>
                  <a:pt x="2968" y="460"/>
                  <a:pt x="2978" y="458"/>
                  <a:pt x="2987" y="453"/>
                </a:cubicBezTo>
                <a:cubicBezTo>
                  <a:pt x="3031" y="426"/>
                  <a:pt x="2976" y="442"/>
                  <a:pt x="3026" y="431"/>
                </a:cubicBezTo>
                <a:cubicBezTo>
                  <a:pt x="3051" y="406"/>
                  <a:pt x="3081" y="389"/>
                  <a:pt x="3115" y="380"/>
                </a:cubicBezTo>
                <a:cubicBezTo>
                  <a:pt x="3124" y="356"/>
                  <a:pt x="3142" y="337"/>
                  <a:pt x="3160" y="319"/>
                </a:cubicBezTo>
                <a:cubicBezTo>
                  <a:pt x="3175" y="275"/>
                  <a:pt x="3153" y="328"/>
                  <a:pt x="3182" y="291"/>
                </a:cubicBezTo>
                <a:cubicBezTo>
                  <a:pt x="3203" y="265"/>
                  <a:pt x="3170" y="279"/>
                  <a:pt x="3205" y="269"/>
                </a:cubicBezTo>
                <a:cubicBezTo>
                  <a:pt x="3223" y="250"/>
                  <a:pt x="3238" y="227"/>
                  <a:pt x="3255" y="207"/>
                </a:cubicBezTo>
                <a:cubicBezTo>
                  <a:pt x="3271" y="187"/>
                  <a:pt x="3263" y="176"/>
                  <a:pt x="3289" y="168"/>
                </a:cubicBezTo>
                <a:cubicBezTo>
                  <a:pt x="3297" y="133"/>
                  <a:pt x="3340" y="89"/>
                  <a:pt x="3373" y="73"/>
                </a:cubicBezTo>
                <a:cubicBezTo>
                  <a:pt x="3384" y="23"/>
                  <a:pt x="3367" y="73"/>
                  <a:pt x="3401" y="39"/>
                </a:cubicBezTo>
                <a:cubicBezTo>
                  <a:pt x="3405" y="35"/>
                  <a:pt x="3401" y="25"/>
                  <a:pt x="3406" y="22"/>
                </a:cubicBezTo>
                <a:cubicBezTo>
                  <a:pt x="3428" y="10"/>
                  <a:pt x="3455" y="8"/>
                  <a:pt x="3479" y="0"/>
                </a:cubicBezTo>
                <a:cubicBezTo>
                  <a:pt x="3513" y="9"/>
                  <a:pt x="3501" y="18"/>
                  <a:pt x="3524" y="39"/>
                </a:cubicBezTo>
                <a:cubicBezTo>
                  <a:pt x="3528" y="56"/>
                  <a:pt x="3535" y="73"/>
                  <a:pt x="3535" y="9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763640" y="5157720"/>
            <a:ext cx="142920" cy="1443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332000" y="5805360"/>
            <a:ext cx="28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692360" y="5805360"/>
            <a:ext cx="28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50920" y="5805360"/>
            <a:ext cx="28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484360" y="5805360"/>
            <a:ext cx="28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916360" y="5805360"/>
            <a:ext cx="3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276720" y="5805360"/>
            <a:ext cx="35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635280" y="5805360"/>
            <a:ext cx="3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2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995640" y="5805360"/>
            <a:ext cx="28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500720" y="5805360"/>
            <a:ext cx="28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861080" y="5805360"/>
            <a:ext cx="28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219640" y="5805360"/>
            <a:ext cx="28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653080" y="5805360"/>
            <a:ext cx="28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012000" y="5805360"/>
            <a:ext cx="28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445080" y="5805360"/>
            <a:ext cx="3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804000" y="5805360"/>
            <a:ext cx="3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1887480" y="6219360"/>
            <a:ext cx="390600" cy="11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1476360" y="6237000"/>
            <a:ext cx="390600" cy="11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2268360" y="6217920"/>
            <a:ext cx="390600" cy="11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2651040" y="6216120"/>
            <a:ext cx="390600" cy="11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4572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Si se quiere tener mayor resolución (o, en la regla del dibujo, más decimales), es posible cambiar la regla por una con más númer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971640" y="3573360"/>
            <a:ext cx="290520" cy="20163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187280" y="53737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187280" y="53006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87280" y="522936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138320" y="5100480"/>
            <a:ext cx="12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187280" y="51577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116000" y="544500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987480" y="5334120"/>
            <a:ext cx="183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971640" y="5157720"/>
            <a:ext cx="309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944640" y="5016600"/>
            <a:ext cx="309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966960" y="5354640"/>
            <a:ext cx="309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403280" y="5373720"/>
            <a:ext cx="142920" cy="1443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124000" y="4941720"/>
            <a:ext cx="142920" cy="14472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1494000" y="3681360"/>
            <a:ext cx="5473440" cy="1944720"/>
            <a:chOff x="1494000" y="3681360"/>
            <a:chExt cx="5473440" cy="1944720"/>
          </a:xfrm>
        </p:grpSpPr>
        <p:sp>
          <p:nvSpPr>
            <p:cNvPr id="223" name=""/>
            <p:cNvSpPr/>
            <p:nvPr/>
          </p:nvSpPr>
          <p:spPr>
            <a:xfrm>
              <a:off x="149400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85256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21292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4492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07800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43692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79584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15620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8784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02128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38308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74200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10236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53400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96744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"/>
          <p:cNvSpPr/>
          <p:nvPr/>
        </p:nvSpPr>
        <p:spPr>
          <a:xfrm>
            <a:off x="5651640" y="4941720"/>
            <a:ext cx="142560" cy="14472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556000" y="5013360"/>
            <a:ext cx="142920" cy="1443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987640" y="4724280"/>
            <a:ext cx="142920" cy="14472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48000" y="4508640"/>
            <a:ext cx="142920" cy="1443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708360" y="3933720"/>
            <a:ext cx="142920" cy="14472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067280" y="4941720"/>
            <a:ext cx="142920" cy="14472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00720" y="5229360"/>
            <a:ext cx="142560" cy="1443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932360" y="5013360"/>
            <a:ext cx="142920" cy="1443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292720" y="4869000"/>
            <a:ext cx="142920" cy="1443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2000" y="4724280"/>
            <a:ext cx="142560" cy="14472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43640" y="4437000"/>
            <a:ext cx="142920" cy="1443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877080" y="3933720"/>
            <a:ext cx="142920" cy="14472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490760" y="4003560"/>
            <a:ext cx="5611680" cy="1428840"/>
          </a:xfrm>
          <a:custGeom>
            <a:avLst/>
            <a:gdLst/>
            <a:ahLst/>
            <a:rect l="l" t="t" r="r" b="b"/>
            <a:pathLst>
              <a:path w="3535" h="900">
                <a:moveTo>
                  <a:pt x="0" y="900"/>
                </a:moveTo>
                <a:cubicBezTo>
                  <a:pt x="17" y="895"/>
                  <a:pt x="34" y="889"/>
                  <a:pt x="51" y="884"/>
                </a:cubicBezTo>
                <a:cubicBezTo>
                  <a:pt x="71" y="853"/>
                  <a:pt x="127" y="841"/>
                  <a:pt x="163" y="833"/>
                </a:cubicBezTo>
                <a:cubicBezTo>
                  <a:pt x="184" y="819"/>
                  <a:pt x="196" y="796"/>
                  <a:pt x="219" y="789"/>
                </a:cubicBezTo>
                <a:cubicBezTo>
                  <a:pt x="232" y="769"/>
                  <a:pt x="241" y="763"/>
                  <a:pt x="263" y="755"/>
                </a:cubicBezTo>
                <a:cubicBezTo>
                  <a:pt x="277" y="736"/>
                  <a:pt x="285" y="723"/>
                  <a:pt x="308" y="716"/>
                </a:cubicBezTo>
                <a:cubicBezTo>
                  <a:pt x="329" y="703"/>
                  <a:pt x="340" y="684"/>
                  <a:pt x="364" y="677"/>
                </a:cubicBezTo>
                <a:cubicBezTo>
                  <a:pt x="383" y="647"/>
                  <a:pt x="435" y="634"/>
                  <a:pt x="470" y="626"/>
                </a:cubicBezTo>
                <a:cubicBezTo>
                  <a:pt x="515" y="628"/>
                  <a:pt x="559" y="628"/>
                  <a:pt x="604" y="632"/>
                </a:cubicBezTo>
                <a:cubicBezTo>
                  <a:pt x="629" y="634"/>
                  <a:pt x="619" y="644"/>
                  <a:pt x="638" y="660"/>
                </a:cubicBezTo>
                <a:cubicBezTo>
                  <a:pt x="649" y="669"/>
                  <a:pt x="674" y="678"/>
                  <a:pt x="688" y="682"/>
                </a:cubicBezTo>
                <a:cubicBezTo>
                  <a:pt x="771" y="678"/>
                  <a:pt x="818" y="689"/>
                  <a:pt x="862" y="621"/>
                </a:cubicBezTo>
                <a:cubicBezTo>
                  <a:pt x="864" y="615"/>
                  <a:pt x="863" y="608"/>
                  <a:pt x="867" y="604"/>
                </a:cubicBezTo>
                <a:cubicBezTo>
                  <a:pt x="871" y="600"/>
                  <a:pt x="879" y="601"/>
                  <a:pt x="884" y="598"/>
                </a:cubicBezTo>
                <a:cubicBezTo>
                  <a:pt x="903" y="588"/>
                  <a:pt x="914" y="573"/>
                  <a:pt x="934" y="565"/>
                </a:cubicBezTo>
                <a:cubicBezTo>
                  <a:pt x="948" y="544"/>
                  <a:pt x="959" y="517"/>
                  <a:pt x="979" y="503"/>
                </a:cubicBezTo>
                <a:cubicBezTo>
                  <a:pt x="1006" y="464"/>
                  <a:pt x="1041" y="441"/>
                  <a:pt x="1085" y="425"/>
                </a:cubicBezTo>
                <a:cubicBezTo>
                  <a:pt x="1087" y="419"/>
                  <a:pt x="1086" y="412"/>
                  <a:pt x="1091" y="408"/>
                </a:cubicBezTo>
                <a:cubicBezTo>
                  <a:pt x="1104" y="398"/>
                  <a:pt x="1163" y="392"/>
                  <a:pt x="1180" y="380"/>
                </a:cubicBezTo>
                <a:cubicBezTo>
                  <a:pt x="1198" y="367"/>
                  <a:pt x="1212" y="353"/>
                  <a:pt x="1231" y="341"/>
                </a:cubicBezTo>
                <a:cubicBezTo>
                  <a:pt x="1237" y="316"/>
                  <a:pt x="1243" y="314"/>
                  <a:pt x="1259" y="296"/>
                </a:cubicBezTo>
                <a:cubicBezTo>
                  <a:pt x="1266" y="263"/>
                  <a:pt x="1293" y="243"/>
                  <a:pt x="1309" y="213"/>
                </a:cubicBezTo>
                <a:cubicBezTo>
                  <a:pt x="1316" y="200"/>
                  <a:pt x="1320" y="186"/>
                  <a:pt x="1326" y="173"/>
                </a:cubicBezTo>
                <a:cubicBezTo>
                  <a:pt x="1333" y="133"/>
                  <a:pt x="1328" y="154"/>
                  <a:pt x="1343" y="112"/>
                </a:cubicBezTo>
                <a:cubicBezTo>
                  <a:pt x="1360" y="66"/>
                  <a:pt x="1351" y="30"/>
                  <a:pt x="1404" y="11"/>
                </a:cubicBezTo>
                <a:cubicBezTo>
                  <a:pt x="1425" y="13"/>
                  <a:pt x="1447" y="8"/>
                  <a:pt x="1466" y="17"/>
                </a:cubicBezTo>
                <a:cubicBezTo>
                  <a:pt x="1483" y="25"/>
                  <a:pt x="1486" y="48"/>
                  <a:pt x="1499" y="62"/>
                </a:cubicBezTo>
                <a:cubicBezTo>
                  <a:pt x="1506" y="81"/>
                  <a:pt x="1510" y="95"/>
                  <a:pt x="1522" y="112"/>
                </a:cubicBezTo>
                <a:cubicBezTo>
                  <a:pt x="1527" y="142"/>
                  <a:pt x="1543" y="162"/>
                  <a:pt x="1550" y="190"/>
                </a:cubicBezTo>
                <a:cubicBezTo>
                  <a:pt x="1560" y="231"/>
                  <a:pt x="1566" y="277"/>
                  <a:pt x="1589" y="313"/>
                </a:cubicBezTo>
                <a:cubicBezTo>
                  <a:pt x="1601" y="353"/>
                  <a:pt x="1616" y="395"/>
                  <a:pt x="1622" y="436"/>
                </a:cubicBezTo>
                <a:cubicBezTo>
                  <a:pt x="1628" y="473"/>
                  <a:pt x="1632" y="595"/>
                  <a:pt x="1673" y="632"/>
                </a:cubicBezTo>
                <a:cubicBezTo>
                  <a:pt x="1677" y="639"/>
                  <a:pt x="1680" y="647"/>
                  <a:pt x="1684" y="654"/>
                </a:cubicBezTo>
                <a:cubicBezTo>
                  <a:pt x="1687" y="659"/>
                  <a:pt x="1692" y="661"/>
                  <a:pt x="1695" y="666"/>
                </a:cubicBezTo>
                <a:cubicBezTo>
                  <a:pt x="1705" y="683"/>
                  <a:pt x="1706" y="703"/>
                  <a:pt x="1717" y="721"/>
                </a:cubicBezTo>
                <a:cubicBezTo>
                  <a:pt x="1728" y="739"/>
                  <a:pt x="1750" y="746"/>
                  <a:pt x="1768" y="755"/>
                </a:cubicBezTo>
                <a:cubicBezTo>
                  <a:pt x="1781" y="775"/>
                  <a:pt x="1790" y="781"/>
                  <a:pt x="1812" y="789"/>
                </a:cubicBezTo>
                <a:cubicBezTo>
                  <a:pt x="1837" y="812"/>
                  <a:pt x="1874" y="826"/>
                  <a:pt x="1907" y="833"/>
                </a:cubicBezTo>
                <a:cubicBezTo>
                  <a:pt x="2018" y="826"/>
                  <a:pt x="1962" y="832"/>
                  <a:pt x="2019" y="811"/>
                </a:cubicBezTo>
                <a:cubicBezTo>
                  <a:pt x="2036" y="785"/>
                  <a:pt x="2071" y="781"/>
                  <a:pt x="2098" y="766"/>
                </a:cubicBezTo>
                <a:cubicBezTo>
                  <a:pt x="2110" y="760"/>
                  <a:pt x="2131" y="744"/>
                  <a:pt x="2131" y="744"/>
                </a:cubicBezTo>
                <a:cubicBezTo>
                  <a:pt x="2135" y="738"/>
                  <a:pt x="2137" y="731"/>
                  <a:pt x="2142" y="727"/>
                </a:cubicBezTo>
                <a:cubicBezTo>
                  <a:pt x="2147" y="723"/>
                  <a:pt x="2155" y="725"/>
                  <a:pt x="2159" y="721"/>
                </a:cubicBezTo>
                <a:cubicBezTo>
                  <a:pt x="2165" y="715"/>
                  <a:pt x="2165" y="705"/>
                  <a:pt x="2170" y="699"/>
                </a:cubicBezTo>
                <a:cubicBezTo>
                  <a:pt x="2184" y="683"/>
                  <a:pt x="2223" y="670"/>
                  <a:pt x="2243" y="666"/>
                </a:cubicBezTo>
                <a:cubicBezTo>
                  <a:pt x="2270" y="636"/>
                  <a:pt x="2307" y="636"/>
                  <a:pt x="2344" y="626"/>
                </a:cubicBezTo>
                <a:cubicBezTo>
                  <a:pt x="2371" y="607"/>
                  <a:pt x="2407" y="600"/>
                  <a:pt x="2439" y="593"/>
                </a:cubicBezTo>
                <a:cubicBezTo>
                  <a:pt x="2502" y="597"/>
                  <a:pt x="2541" y="604"/>
                  <a:pt x="2601" y="610"/>
                </a:cubicBezTo>
                <a:cubicBezTo>
                  <a:pt x="2631" y="617"/>
                  <a:pt x="2643" y="633"/>
                  <a:pt x="2668" y="649"/>
                </a:cubicBezTo>
                <a:cubicBezTo>
                  <a:pt x="2698" y="647"/>
                  <a:pt x="2727" y="646"/>
                  <a:pt x="2757" y="643"/>
                </a:cubicBezTo>
                <a:cubicBezTo>
                  <a:pt x="2797" y="639"/>
                  <a:pt x="2849" y="559"/>
                  <a:pt x="2875" y="531"/>
                </a:cubicBezTo>
                <a:cubicBezTo>
                  <a:pt x="2886" y="496"/>
                  <a:pt x="2870" y="531"/>
                  <a:pt x="2897" y="509"/>
                </a:cubicBezTo>
                <a:cubicBezTo>
                  <a:pt x="2921" y="489"/>
                  <a:pt x="2904" y="485"/>
                  <a:pt x="2942" y="475"/>
                </a:cubicBezTo>
                <a:cubicBezTo>
                  <a:pt x="2948" y="471"/>
                  <a:pt x="2953" y="467"/>
                  <a:pt x="2959" y="464"/>
                </a:cubicBezTo>
                <a:cubicBezTo>
                  <a:pt x="2968" y="460"/>
                  <a:pt x="2978" y="458"/>
                  <a:pt x="2987" y="453"/>
                </a:cubicBezTo>
                <a:cubicBezTo>
                  <a:pt x="3031" y="426"/>
                  <a:pt x="2976" y="442"/>
                  <a:pt x="3026" y="431"/>
                </a:cubicBezTo>
                <a:cubicBezTo>
                  <a:pt x="3051" y="406"/>
                  <a:pt x="3081" y="389"/>
                  <a:pt x="3115" y="380"/>
                </a:cubicBezTo>
                <a:cubicBezTo>
                  <a:pt x="3124" y="356"/>
                  <a:pt x="3142" y="337"/>
                  <a:pt x="3160" y="319"/>
                </a:cubicBezTo>
                <a:cubicBezTo>
                  <a:pt x="3175" y="275"/>
                  <a:pt x="3153" y="328"/>
                  <a:pt x="3182" y="291"/>
                </a:cubicBezTo>
                <a:cubicBezTo>
                  <a:pt x="3203" y="265"/>
                  <a:pt x="3170" y="279"/>
                  <a:pt x="3205" y="269"/>
                </a:cubicBezTo>
                <a:cubicBezTo>
                  <a:pt x="3223" y="250"/>
                  <a:pt x="3238" y="227"/>
                  <a:pt x="3255" y="207"/>
                </a:cubicBezTo>
                <a:cubicBezTo>
                  <a:pt x="3271" y="187"/>
                  <a:pt x="3263" y="176"/>
                  <a:pt x="3289" y="168"/>
                </a:cubicBezTo>
                <a:cubicBezTo>
                  <a:pt x="3297" y="133"/>
                  <a:pt x="3340" y="89"/>
                  <a:pt x="3373" y="73"/>
                </a:cubicBezTo>
                <a:cubicBezTo>
                  <a:pt x="3384" y="23"/>
                  <a:pt x="3367" y="73"/>
                  <a:pt x="3401" y="39"/>
                </a:cubicBezTo>
                <a:cubicBezTo>
                  <a:pt x="3405" y="35"/>
                  <a:pt x="3401" y="25"/>
                  <a:pt x="3406" y="22"/>
                </a:cubicBezTo>
                <a:cubicBezTo>
                  <a:pt x="3428" y="10"/>
                  <a:pt x="3455" y="8"/>
                  <a:pt x="3479" y="0"/>
                </a:cubicBezTo>
                <a:cubicBezTo>
                  <a:pt x="3513" y="9"/>
                  <a:pt x="3501" y="18"/>
                  <a:pt x="3524" y="39"/>
                </a:cubicBezTo>
                <a:cubicBezTo>
                  <a:pt x="3528" y="56"/>
                  <a:pt x="3535" y="73"/>
                  <a:pt x="3535" y="9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763640" y="5157720"/>
            <a:ext cx="142920" cy="1443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332000" y="5805360"/>
            <a:ext cx="28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692360" y="5805360"/>
            <a:ext cx="28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050920" y="5805360"/>
            <a:ext cx="3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484360" y="5805360"/>
            <a:ext cx="3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916360" y="5805360"/>
            <a:ext cx="3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276720" y="5805360"/>
            <a:ext cx="35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2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635280" y="5805360"/>
            <a:ext cx="3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4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995640" y="5805360"/>
            <a:ext cx="3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500720" y="5805360"/>
            <a:ext cx="28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861080" y="5805360"/>
            <a:ext cx="35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219640" y="5805360"/>
            <a:ext cx="3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653080" y="5805360"/>
            <a:ext cx="3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012000" y="5805360"/>
            <a:ext cx="3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445080" y="5805360"/>
            <a:ext cx="3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804000" y="5805360"/>
            <a:ext cx="3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4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1887480" y="6219360"/>
            <a:ext cx="390600" cy="11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V="1">
            <a:off x="1476360" y="6237000"/>
            <a:ext cx="390600" cy="11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2268360" y="6217920"/>
            <a:ext cx="390600" cy="11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2651040" y="6216120"/>
            <a:ext cx="390600" cy="11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187280" y="54086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184400" y="533880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146240" y="5262480"/>
            <a:ext cx="115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190520" y="519588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193760" y="51260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190520" y="502776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190520" y="495468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90520" y="48830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141560" y="4754520"/>
            <a:ext cx="12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190520" y="481176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990720" y="4987800"/>
            <a:ext cx="183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949320" y="4811760"/>
            <a:ext cx="309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947880" y="4670280"/>
            <a:ext cx="309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190520" y="506268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187280" y="49928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149480" y="4916520"/>
            <a:ext cx="115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193760" y="48499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197000" y="478008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190520" y="469116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190520" y="461808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90520" y="45464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141560" y="4417920"/>
            <a:ext cx="12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190520" y="447516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38120" y="5330880"/>
            <a:ext cx="184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944640" y="4483080"/>
            <a:ext cx="309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947880" y="4334040"/>
            <a:ext cx="309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190520" y="472608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187280" y="46562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149480" y="4579920"/>
            <a:ext cx="115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193760" y="45133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197000" y="444348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187280" y="435780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187280" y="42847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187280" y="421308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138320" y="4084560"/>
            <a:ext cx="12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187280" y="414180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955800" y="4141800"/>
            <a:ext cx="309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944640" y="4000680"/>
            <a:ext cx="309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187280" y="43927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184400" y="432288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146240" y="4246560"/>
            <a:ext cx="115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190520" y="417996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193760" y="41101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187280" y="401796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187280" y="394488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187280" y="387360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138320" y="3745080"/>
            <a:ext cx="12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187280" y="380196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49320" y="3801960"/>
            <a:ext cx="309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944640" y="3660840"/>
            <a:ext cx="309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187280" y="405288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184400" y="398304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146240" y="3906720"/>
            <a:ext cx="115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190520" y="38401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193760" y="377028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1042920" y="1557360"/>
            <a:ext cx="7570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La resolución, o cantidad de números de la regla, es definida por la </a:t>
            </a:r>
            <a:r>
              <a:rPr b="0" i="1" lang="es-CL" sz="2000" spc="-1" strike="noStrike">
                <a:solidFill>
                  <a:srgbClr val="ffffcc"/>
                </a:solidFill>
                <a:latin typeface="Arial"/>
              </a:rPr>
              <a:t>cantidad de bits</a:t>
            </a: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En el audio digital, cada número es representado en base 2, es decir con sólo dos dígitos: “0” y “1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Esto se hace de la siguiente form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                  </a:t>
            </a: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2</a:t>
            </a:r>
            <a:r>
              <a:rPr b="0" lang="es-CL" sz="2800" spc="-1" strike="noStrike" baseline="30000">
                <a:solidFill>
                  <a:srgbClr val="ffffcc"/>
                </a:solidFill>
                <a:latin typeface="Arial"/>
              </a:rPr>
              <a:t>n</a:t>
            </a: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  ……  2</a:t>
            </a:r>
            <a:r>
              <a:rPr b="0" lang="es-CL" sz="2800" spc="-1" strike="noStrike" baseline="30000">
                <a:solidFill>
                  <a:srgbClr val="ffffcc"/>
                </a:solidFill>
                <a:latin typeface="Arial"/>
              </a:rPr>
              <a:t>3</a:t>
            </a: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   2</a:t>
            </a:r>
            <a:r>
              <a:rPr b="0" lang="es-CL" sz="2800" spc="-1" strike="noStrike" baseline="30000">
                <a:solidFill>
                  <a:srgbClr val="ffffcc"/>
                </a:solidFill>
                <a:latin typeface="Arial"/>
              </a:rPr>
              <a:t>2</a:t>
            </a: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   2</a:t>
            </a:r>
            <a:r>
              <a:rPr b="0" lang="es-CL" sz="2800" spc="-1" strike="noStrike" baseline="30000">
                <a:solidFill>
                  <a:srgbClr val="ffffcc"/>
                </a:solidFill>
                <a:latin typeface="Arial"/>
              </a:rPr>
              <a:t>1  </a:t>
            </a: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 2</a:t>
            </a:r>
            <a:r>
              <a:rPr b="0" lang="es-CL" sz="2800" spc="-1" strike="noStrike" baseline="30000">
                <a:solidFill>
                  <a:srgbClr val="ffffcc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                  </a:t>
            </a: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2</a:t>
            </a:r>
            <a:r>
              <a:rPr b="0" lang="es-CL" sz="2800" spc="-1" strike="noStrike" baseline="30000">
                <a:solidFill>
                  <a:srgbClr val="ffffcc"/>
                </a:solidFill>
                <a:latin typeface="Arial"/>
              </a:rPr>
              <a:t>n     </a:t>
            </a: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s-CL" sz="2800" spc="-1" strike="noStrike" baseline="30000">
                <a:solidFill>
                  <a:srgbClr val="ffffcc"/>
                </a:solidFill>
                <a:latin typeface="Arial"/>
              </a:rPr>
              <a:t>….      </a:t>
            </a:r>
            <a:r>
              <a:rPr b="0" lang="es-CL" sz="2800" spc="-1" strike="noStrike" baseline="30000">
                <a:solidFill>
                  <a:srgbClr val="009999"/>
                </a:solidFill>
                <a:latin typeface="Arial"/>
              </a:rPr>
              <a:t>8       4         2       1</a:t>
            </a:r>
            <a:r>
              <a:rPr b="0" lang="es-CL" sz="2800" spc="-1" strike="noStrike" baseline="30000">
                <a:solidFill>
                  <a:srgbClr val="ffff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cc"/>
                </a:solidFill>
                <a:latin typeface="Arial"/>
              </a:rPr>
              <a:t>6 = 2+4 = </a:t>
            </a:r>
            <a:r>
              <a:rPr b="0" lang="es-CL" sz="1800" spc="-1" strike="noStrike">
                <a:solidFill>
                  <a:srgbClr val="ffff00"/>
                </a:solidFill>
                <a:latin typeface="Arial"/>
              </a:rPr>
              <a:t>0</a:t>
            </a:r>
            <a:r>
              <a:rPr b="0" lang="es-CL" sz="900" spc="-1" strike="noStrike" baseline="30000">
                <a:solidFill>
                  <a:srgbClr val="ffffcc"/>
                </a:solidFill>
                <a:latin typeface="Arial"/>
              </a:rPr>
              <a:t>x</a:t>
            </a:r>
            <a:r>
              <a:rPr b="0" lang="es-CL" sz="1800" spc="-1" strike="noStrike">
                <a:solidFill>
                  <a:srgbClr val="009999"/>
                </a:solidFill>
                <a:latin typeface="Arial"/>
              </a:rPr>
              <a:t>8 </a:t>
            </a:r>
            <a:r>
              <a:rPr b="0" lang="es-CL" sz="1800" spc="-1" strike="noStrike">
                <a:solidFill>
                  <a:srgbClr val="ffffcc"/>
                </a:solidFill>
                <a:latin typeface="Arial"/>
              </a:rPr>
              <a:t>+ </a:t>
            </a:r>
            <a:r>
              <a:rPr b="0" lang="es-CL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s-CL" sz="900" spc="-1" strike="noStrike" baseline="30000">
                <a:solidFill>
                  <a:srgbClr val="ffffcc"/>
                </a:solidFill>
                <a:latin typeface="Arial"/>
              </a:rPr>
              <a:t>x</a:t>
            </a:r>
            <a:r>
              <a:rPr b="0" lang="es-CL" sz="1800" spc="-1" strike="noStrike">
                <a:solidFill>
                  <a:srgbClr val="009999"/>
                </a:solidFill>
                <a:latin typeface="Arial"/>
              </a:rPr>
              <a:t>4 </a:t>
            </a:r>
            <a:r>
              <a:rPr b="0" lang="es-CL" sz="1800" spc="-1" strike="noStrike">
                <a:solidFill>
                  <a:srgbClr val="ffffcc"/>
                </a:solidFill>
                <a:latin typeface="Arial"/>
              </a:rPr>
              <a:t>+ </a:t>
            </a:r>
            <a:r>
              <a:rPr b="0" lang="es-CL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s-CL" sz="900" spc="-1" strike="noStrike" baseline="30000">
                <a:solidFill>
                  <a:srgbClr val="ffffcc"/>
                </a:solidFill>
                <a:latin typeface="Arial"/>
              </a:rPr>
              <a:t>x</a:t>
            </a:r>
            <a:r>
              <a:rPr b="0" lang="es-CL" sz="1800" spc="-1" strike="noStrike">
                <a:solidFill>
                  <a:srgbClr val="009999"/>
                </a:solidFill>
                <a:latin typeface="Arial"/>
              </a:rPr>
              <a:t>2 </a:t>
            </a:r>
            <a:r>
              <a:rPr b="0" lang="es-CL" sz="1800" spc="-1" strike="noStrike">
                <a:solidFill>
                  <a:srgbClr val="ffffcc"/>
                </a:solidFill>
                <a:latin typeface="Arial"/>
              </a:rPr>
              <a:t>+ </a:t>
            </a:r>
            <a:r>
              <a:rPr b="0" lang="es-CL" sz="1800" spc="-1" strike="noStrike">
                <a:solidFill>
                  <a:srgbClr val="ffff00"/>
                </a:solidFill>
                <a:latin typeface="Arial"/>
              </a:rPr>
              <a:t>0</a:t>
            </a:r>
            <a:r>
              <a:rPr b="0" lang="es-CL" sz="900" spc="-1" strike="noStrike" baseline="30000">
                <a:solidFill>
                  <a:srgbClr val="ffffcc"/>
                </a:solidFill>
                <a:latin typeface="Arial"/>
              </a:rPr>
              <a:t>x</a:t>
            </a:r>
            <a:r>
              <a:rPr b="0" lang="es-CL" sz="1800" spc="-1" strike="noStrike">
                <a:solidFill>
                  <a:srgbClr val="009999"/>
                </a:solidFill>
                <a:latin typeface="Arial"/>
              </a:rPr>
              <a:t>1</a:t>
            </a:r>
            <a:r>
              <a:rPr b="0" lang="es-CL" sz="1800" spc="-1" strike="noStrike">
                <a:solidFill>
                  <a:srgbClr val="ffffcc"/>
                </a:solidFill>
                <a:latin typeface="Arial"/>
              </a:rPr>
              <a:t>                     </a:t>
            </a:r>
            <a:r>
              <a:rPr b="0" lang="es-CL" sz="1800" spc="-1" strike="noStrike">
                <a:solidFill>
                  <a:srgbClr val="ffff00"/>
                </a:solidFill>
                <a:latin typeface="Arial"/>
              </a:rPr>
              <a:t>0        1        1       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En este caso, n es la cantidad de bits. Para representar números mayores, se requiere un número de bits mayor. De esta forma, se puede representar cualquier número como una serie de “1” y “0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108000" y="1916280"/>
            <a:ext cx="552240" cy="3673440"/>
            <a:chOff x="108000" y="1916280"/>
            <a:chExt cx="552240" cy="3673440"/>
          </a:xfrm>
        </p:grpSpPr>
        <p:sp>
          <p:nvSpPr>
            <p:cNvPr id="328" name=""/>
            <p:cNvSpPr/>
            <p:nvPr/>
          </p:nvSpPr>
          <p:spPr>
            <a:xfrm>
              <a:off x="438120" y="5330880"/>
              <a:ext cx="18432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52280" y="1916280"/>
              <a:ext cx="476280" cy="36734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06520" y="519588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06520" y="506268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06520" y="493236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25520" y="4699080"/>
              <a:ext cx="19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520" y="480204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88800" y="5326200"/>
              <a:ext cx="23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79280" y="5229360"/>
              <a:ext cx="3034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52280" y="4802040"/>
              <a:ext cx="5079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08000" y="4545000"/>
              <a:ext cx="5079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6520" y="525924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01480" y="5132520"/>
              <a:ext cx="117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38120" y="4994280"/>
              <a:ext cx="190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11200" y="487188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7680" y="474516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11200" y="456552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11200" y="443232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11200" y="430200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31640" y="406872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11200" y="417204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15920" y="4172040"/>
              <a:ext cx="5079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6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680" y="3914640"/>
              <a:ext cx="5079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6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11200" y="462924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06520" y="450216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44600" y="4362480"/>
              <a:ext cx="190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7680" y="424188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22360" y="411480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11200" y="395280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11200" y="381960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11200" y="368928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31640" y="345456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11200" y="355932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08000" y="3573360"/>
              <a:ext cx="5079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6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12680" y="3301920"/>
              <a:ext cx="5079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6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11200" y="401652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520" y="388944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44600" y="3749760"/>
              <a:ext cx="190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17680" y="362916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22360" y="350028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6520" y="334476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06520" y="321156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06520" y="308124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25520" y="2847960"/>
              <a:ext cx="19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06520" y="295128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25280" y="2951280"/>
              <a:ext cx="5097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600" spc="-1" strike="noStrike">
                  <a:solidFill>
                    <a:srgbClr val="000000"/>
                  </a:solidFill>
                  <a:latin typeface="Arial"/>
                </a:rPr>
                <a:t>35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08000" y="2693880"/>
              <a:ext cx="5079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6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06520" y="340848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01480" y="3281400"/>
              <a:ext cx="117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38120" y="3143160"/>
              <a:ext cx="190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11200" y="302112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17680" y="289404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06520" y="272556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06520" y="259236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06520" y="246204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5520" y="2228760"/>
              <a:ext cx="19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06520" y="233208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15920" y="2332080"/>
              <a:ext cx="5079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600" spc="-1" strike="noStrike">
                  <a:solidFill>
                    <a:srgbClr val="000000"/>
                  </a:solidFill>
                  <a:latin typeface="Arial"/>
                </a:rPr>
                <a:t>45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08000" y="2075040"/>
              <a:ext cx="5079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6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06520" y="278928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01480" y="2662200"/>
              <a:ext cx="117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38120" y="2523960"/>
              <a:ext cx="190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11200" y="240192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17680" y="227484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" name=""/>
          <p:cNvSpPr/>
          <p:nvPr/>
        </p:nvSpPr>
        <p:spPr>
          <a:xfrm>
            <a:off x="5148360" y="4508640"/>
            <a:ext cx="2511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042920" y="3284640"/>
            <a:ext cx="7345440" cy="1942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Número de Bit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4572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En la música grabada en un CD, la frecuencia de muestreo (</a:t>
            </a:r>
            <a:r>
              <a:rPr b="0" i="1" lang="es-CL" sz="2000" spc="-1" strike="noStrike">
                <a:solidFill>
                  <a:srgbClr val="ffffcc"/>
                </a:solidFill>
                <a:latin typeface="Arial"/>
              </a:rPr>
              <a:t>f</a:t>
            </a:r>
            <a:r>
              <a:rPr b="0" i="1" lang="es-CL" sz="2000" spc="-1" strike="noStrike" baseline="-25000">
                <a:solidFill>
                  <a:srgbClr val="ffffcc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) es 44.1 KHz  y el número de bits es 16. Esto quiere decir que “la regla” en un CD tiene 65536 valores posibles, y se toman muestras 44.100 veces por segundo, es decir, cada 0.00002 segun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539640" y="3716280"/>
            <a:ext cx="719280" cy="2017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1187280" y="53737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1187280" y="53006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187280" y="522936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116000" y="515772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187280" y="50846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187280" y="501336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187280" y="49417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187280" y="486900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 flipV="1">
            <a:off x="1135080" y="4797000"/>
            <a:ext cx="12384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187280" y="472428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187280" y="465300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187280" y="458136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187280" y="45086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152360" y="4437000"/>
            <a:ext cx="10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187280" y="43657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187280" y="42926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87280" y="422100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1187280" y="41497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47680" y="4076640"/>
            <a:ext cx="11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187280" y="400536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187280" y="39337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187280" y="38606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187280" y="378936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1116000" y="544500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987480" y="5334120"/>
            <a:ext cx="183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11280" y="4581360"/>
            <a:ext cx="4316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" spc="-1" strike="noStrike">
                <a:solidFill>
                  <a:srgbClr val="000000"/>
                </a:solidFill>
                <a:latin typeface="Arial"/>
              </a:rPr>
              <a:t>32.768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539640" y="3716280"/>
            <a:ext cx="525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" spc="-1" strike="noStrike">
                <a:solidFill>
                  <a:srgbClr val="000000"/>
                </a:solidFill>
                <a:latin typeface="Arial"/>
              </a:rPr>
              <a:t>65.535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84360" y="5373720"/>
            <a:ext cx="309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403280" y="5373720"/>
            <a:ext cx="142920" cy="1443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2124000" y="4941720"/>
            <a:ext cx="142920" cy="14472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1494000" y="3681360"/>
            <a:ext cx="5473440" cy="1944720"/>
            <a:chOff x="1494000" y="3681360"/>
            <a:chExt cx="5473440" cy="1944720"/>
          </a:xfrm>
        </p:grpSpPr>
        <p:sp>
          <p:nvSpPr>
            <p:cNvPr id="428" name=""/>
            <p:cNvSpPr/>
            <p:nvPr/>
          </p:nvSpPr>
          <p:spPr>
            <a:xfrm>
              <a:off x="149400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85256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21292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64492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07800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43692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79584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15620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58784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02128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38308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74200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10236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53400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96744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3" name=""/>
          <p:cNvSpPr/>
          <p:nvPr/>
        </p:nvSpPr>
        <p:spPr>
          <a:xfrm>
            <a:off x="5651640" y="4941720"/>
            <a:ext cx="142560" cy="14472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56000" y="5013360"/>
            <a:ext cx="142920" cy="1443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987640" y="4724280"/>
            <a:ext cx="142920" cy="14472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3348000" y="4508640"/>
            <a:ext cx="142920" cy="1443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3708360" y="3933720"/>
            <a:ext cx="142920" cy="14472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4067280" y="4941720"/>
            <a:ext cx="142920" cy="14472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500720" y="5229360"/>
            <a:ext cx="142560" cy="1443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4932360" y="5013360"/>
            <a:ext cx="142920" cy="1443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5292720" y="4869000"/>
            <a:ext cx="142920" cy="1443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6012000" y="4724280"/>
            <a:ext cx="142560" cy="14472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443640" y="4437000"/>
            <a:ext cx="142920" cy="1443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877080" y="3933720"/>
            <a:ext cx="142920" cy="14472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490760" y="4003560"/>
            <a:ext cx="5611680" cy="1428840"/>
          </a:xfrm>
          <a:custGeom>
            <a:avLst/>
            <a:gdLst/>
            <a:ahLst/>
            <a:rect l="l" t="t" r="r" b="b"/>
            <a:pathLst>
              <a:path w="3535" h="900">
                <a:moveTo>
                  <a:pt x="0" y="900"/>
                </a:moveTo>
                <a:cubicBezTo>
                  <a:pt x="17" y="895"/>
                  <a:pt x="34" y="889"/>
                  <a:pt x="51" y="884"/>
                </a:cubicBezTo>
                <a:cubicBezTo>
                  <a:pt x="71" y="853"/>
                  <a:pt x="127" y="841"/>
                  <a:pt x="163" y="833"/>
                </a:cubicBezTo>
                <a:cubicBezTo>
                  <a:pt x="184" y="819"/>
                  <a:pt x="196" y="796"/>
                  <a:pt x="219" y="789"/>
                </a:cubicBezTo>
                <a:cubicBezTo>
                  <a:pt x="232" y="769"/>
                  <a:pt x="241" y="763"/>
                  <a:pt x="263" y="755"/>
                </a:cubicBezTo>
                <a:cubicBezTo>
                  <a:pt x="277" y="736"/>
                  <a:pt x="285" y="723"/>
                  <a:pt x="308" y="716"/>
                </a:cubicBezTo>
                <a:cubicBezTo>
                  <a:pt x="329" y="703"/>
                  <a:pt x="340" y="684"/>
                  <a:pt x="364" y="677"/>
                </a:cubicBezTo>
                <a:cubicBezTo>
                  <a:pt x="383" y="647"/>
                  <a:pt x="435" y="634"/>
                  <a:pt x="470" y="626"/>
                </a:cubicBezTo>
                <a:cubicBezTo>
                  <a:pt x="515" y="628"/>
                  <a:pt x="559" y="628"/>
                  <a:pt x="604" y="632"/>
                </a:cubicBezTo>
                <a:cubicBezTo>
                  <a:pt x="629" y="634"/>
                  <a:pt x="619" y="644"/>
                  <a:pt x="638" y="660"/>
                </a:cubicBezTo>
                <a:cubicBezTo>
                  <a:pt x="649" y="669"/>
                  <a:pt x="674" y="678"/>
                  <a:pt x="688" y="682"/>
                </a:cubicBezTo>
                <a:cubicBezTo>
                  <a:pt x="771" y="678"/>
                  <a:pt x="818" y="689"/>
                  <a:pt x="862" y="621"/>
                </a:cubicBezTo>
                <a:cubicBezTo>
                  <a:pt x="864" y="615"/>
                  <a:pt x="863" y="608"/>
                  <a:pt x="867" y="604"/>
                </a:cubicBezTo>
                <a:cubicBezTo>
                  <a:pt x="871" y="600"/>
                  <a:pt x="879" y="601"/>
                  <a:pt x="884" y="598"/>
                </a:cubicBezTo>
                <a:cubicBezTo>
                  <a:pt x="903" y="588"/>
                  <a:pt x="914" y="573"/>
                  <a:pt x="934" y="565"/>
                </a:cubicBezTo>
                <a:cubicBezTo>
                  <a:pt x="948" y="544"/>
                  <a:pt x="959" y="517"/>
                  <a:pt x="979" y="503"/>
                </a:cubicBezTo>
                <a:cubicBezTo>
                  <a:pt x="1006" y="464"/>
                  <a:pt x="1041" y="441"/>
                  <a:pt x="1085" y="425"/>
                </a:cubicBezTo>
                <a:cubicBezTo>
                  <a:pt x="1087" y="419"/>
                  <a:pt x="1086" y="412"/>
                  <a:pt x="1091" y="408"/>
                </a:cubicBezTo>
                <a:cubicBezTo>
                  <a:pt x="1104" y="398"/>
                  <a:pt x="1163" y="392"/>
                  <a:pt x="1180" y="380"/>
                </a:cubicBezTo>
                <a:cubicBezTo>
                  <a:pt x="1198" y="367"/>
                  <a:pt x="1212" y="353"/>
                  <a:pt x="1231" y="341"/>
                </a:cubicBezTo>
                <a:cubicBezTo>
                  <a:pt x="1237" y="316"/>
                  <a:pt x="1243" y="314"/>
                  <a:pt x="1259" y="296"/>
                </a:cubicBezTo>
                <a:cubicBezTo>
                  <a:pt x="1266" y="263"/>
                  <a:pt x="1293" y="243"/>
                  <a:pt x="1309" y="213"/>
                </a:cubicBezTo>
                <a:cubicBezTo>
                  <a:pt x="1316" y="200"/>
                  <a:pt x="1320" y="186"/>
                  <a:pt x="1326" y="173"/>
                </a:cubicBezTo>
                <a:cubicBezTo>
                  <a:pt x="1333" y="133"/>
                  <a:pt x="1328" y="154"/>
                  <a:pt x="1343" y="112"/>
                </a:cubicBezTo>
                <a:cubicBezTo>
                  <a:pt x="1360" y="66"/>
                  <a:pt x="1351" y="30"/>
                  <a:pt x="1404" y="11"/>
                </a:cubicBezTo>
                <a:cubicBezTo>
                  <a:pt x="1425" y="13"/>
                  <a:pt x="1447" y="8"/>
                  <a:pt x="1466" y="17"/>
                </a:cubicBezTo>
                <a:cubicBezTo>
                  <a:pt x="1483" y="25"/>
                  <a:pt x="1486" y="48"/>
                  <a:pt x="1499" y="62"/>
                </a:cubicBezTo>
                <a:cubicBezTo>
                  <a:pt x="1506" y="81"/>
                  <a:pt x="1510" y="95"/>
                  <a:pt x="1522" y="112"/>
                </a:cubicBezTo>
                <a:cubicBezTo>
                  <a:pt x="1527" y="142"/>
                  <a:pt x="1543" y="162"/>
                  <a:pt x="1550" y="190"/>
                </a:cubicBezTo>
                <a:cubicBezTo>
                  <a:pt x="1560" y="231"/>
                  <a:pt x="1566" y="277"/>
                  <a:pt x="1589" y="313"/>
                </a:cubicBezTo>
                <a:cubicBezTo>
                  <a:pt x="1601" y="353"/>
                  <a:pt x="1616" y="395"/>
                  <a:pt x="1622" y="436"/>
                </a:cubicBezTo>
                <a:cubicBezTo>
                  <a:pt x="1628" y="473"/>
                  <a:pt x="1632" y="595"/>
                  <a:pt x="1673" y="632"/>
                </a:cubicBezTo>
                <a:cubicBezTo>
                  <a:pt x="1677" y="639"/>
                  <a:pt x="1680" y="647"/>
                  <a:pt x="1684" y="654"/>
                </a:cubicBezTo>
                <a:cubicBezTo>
                  <a:pt x="1687" y="659"/>
                  <a:pt x="1692" y="661"/>
                  <a:pt x="1695" y="666"/>
                </a:cubicBezTo>
                <a:cubicBezTo>
                  <a:pt x="1705" y="683"/>
                  <a:pt x="1706" y="703"/>
                  <a:pt x="1717" y="721"/>
                </a:cubicBezTo>
                <a:cubicBezTo>
                  <a:pt x="1728" y="739"/>
                  <a:pt x="1750" y="746"/>
                  <a:pt x="1768" y="755"/>
                </a:cubicBezTo>
                <a:cubicBezTo>
                  <a:pt x="1781" y="775"/>
                  <a:pt x="1790" y="781"/>
                  <a:pt x="1812" y="789"/>
                </a:cubicBezTo>
                <a:cubicBezTo>
                  <a:pt x="1837" y="812"/>
                  <a:pt x="1874" y="826"/>
                  <a:pt x="1907" y="833"/>
                </a:cubicBezTo>
                <a:cubicBezTo>
                  <a:pt x="2018" y="826"/>
                  <a:pt x="1962" y="832"/>
                  <a:pt x="2019" y="811"/>
                </a:cubicBezTo>
                <a:cubicBezTo>
                  <a:pt x="2036" y="785"/>
                  <a:pt x="2071" y="781"/>
                  <a:pt x="2098" y="766"/>
                </a:cubicBezTo>
                <a:cubicBezTo>
                  <a:pt x="2110" y="760"/>
                  <a:pt x="2131" y="744"/>
                  <a:pt x="2131" y="744"/>
                </a:cubicBezTo>
                <a:cubicBezTo>
                  <a:pt x="2135" y="738"/>
                  <a:pt x="2137" y="731"/>
                  <a:pt x="2142" y="727"/>
                </a:cubicBezTo>
                <a:cubicBezTo>
                  <a:pt x="2147" y="723"/>
                  <a:pt x="2155" y="725"/>
                  <a:pt x="2159" y="721"/>
                </a:cubicBezTo>
                <a:cubicBezTo>
                  <a:pt x="2165" y="715"/>
                  <a:pt x="2165" y="705"/>
                  <a:pt x="2170" y="699"/>
                </a:cubicBezTo>
                <a:cubicBezTo>
                  <a:pt x="2184" y="683"/>
                  <a:pt x="2223" y="670"/>
                  <a:pt x="2243" y="666"/>
                </a:cubicBezTo>
                <a:cubicBezTo>
                  <a:pt x="2270" y="636"/>
                  <a:pt x="2307" y="636"/>
                  <a:pt x="2344" y="626"/>
                </a:cubicBezTo>
                <a:cubicBezTo>
                  <a:pt x="2371" y="607"/>
                  <a:pt x="2407" y="600"/>
                  <a:pt x="2439" y="593"/>
                </a:cubicBezTo>
                <a:cubicBezTo>
                  <a:pt x="2502" y="597"/>
                  <a:pt x="2541" y="604"/>
                  <a:pt x="2601" y="610"/>
                </a:cubicBezTo>
                <a:cubicBezTo>
                  <a:pt x="2631" y="617"/>
                  <a:pt x="2643" y="633"/>
                  <a:pt x="2668" y="649"/>
                </a:cubicBezTo>
                <a:cubicBezTo>
                  <a:pt x="2698" y="647"/>
                  <a:pt x="2727" y="646"/>
                  <a:pt x="2757" y="643"/>
                </a:cubicBezTo>
                <a:cubicBezTo>
                  <a:pt x="2797" y="639"/>
                  <a:pt x="2849" y="559"/>
                  <a:pt x="2875" y="531"/>
                </a:cubicBezTo>
                <a:cubicBezTo>
                  <a:pt x="2886" y="496"/>
                  <a:pt x="2870" y="531"/>
                  <a:pt x="2897" y="509"/>
                </a:cubicBezTo>
                <a:cubicBezTo>
                  <a:pt x="2921" y="489"/>
                  <a:pt x="2904" y="485"/>
                  <a:pt x="2942" y="475"/>
                </a:cubicBezTo>
                <a:cubicBezTo>
                  <a:pt x="2948" y="471"/>
                  <a:pt x="2953" y="467"/>
                  <a:pt x="2959" y="464"/>
                </a:cubicBezTo>
                <a:cubicBezTo>
                  <a:pt x="2968" y="460"/>
                  <a:pt x="2978" y="458"/>
                  <a:pt x="2987" y="453"/>
                </a:cubicBezTo>
                <a:cubicBezTo>
                  <a:pt x="3031" y="426"/>
                  <a:pt x="2976" y="442"/>
                  <a:pt x="3026" y="431"/>
                </a:cubicBezTo>
                <a:cubicBezTo>
                  <a:pt x="3051" y="406"/>
                  <a:pt x="3081" y="389"/>
                  <a:pt x="3115" y="380"/>
                </a:cubicBezTo>
                <a:cubicBezTo>
                  <a:pt x="3124" y="356"/>
                  <a:pt x="3142" y="337"/>
                  <a:pt x="3160" y="319"/>
                </a:cubicBezTo>
                <a:cubicBezTo>
                  <a:pt x="3175" y="275"/>
                  <a:pt x="3153" y="328"/>
                  <a:pt x="3182" y="291"/>
                </a:cubicBezTo>
                <a:cubicBezTo>
                  <a:pt x="3203" y="265"/>
                  <a:pt x="3170" y="279"/>
                  <a:pt x="3205" y="269"/>
                </a:cubicBezTo>
                <a:cubicBezTo>
                  <a:pt x="3223" y="250"/>
                  <a:pt x="3238" y="227"/>
                  <a:pt x="3255" y="207"/>
                </a:cubicBezTo>
                <a:cubicBezTo>
                  <a:pt x="3271" y="187"/>
                  <a:pt x="3263" y="176"/>
                  <a:pt x="3289" y="168"/>
                </a:cubicBezTo>
                <a:cubicBezTo>
                  <a:pt x="3297" y="133"/>
                  <a:pt x="3340" y="89"/>
                  <a:pt x="3373" y="73"/>
                </a:cubicBezTo>
                <a:cubicBezTo>
                  <a:pt x="3384" y="23"/>
                  <a:pt x="3367" y="73"/>
                  <a:pt x="3401" y="39"/>
                </a:cubicBezTo>
                <a:cubicBezTo>
                  <a:pt x="3405" y="35"/>
                  <a:pt x="3401" y="25"/>
                  <a:pt x="3406" y="22"/>
                </a:cubicBezTo>
                <a:cubicBezTo>
                  <a:pt x="3428" y="10"/>
                  <a:pt x="3455" y="8"/>
                  <a:pt x="3479" y="0"/>
                </a:cubicBezTo>
                <a:cubicBezTo>
                  <a:pt x="3513" y="9"/>
                  <a:pt x="3501" y="18"/>
                  <a:pt x="3524" y="39"/>
                </a:cubicBezTo>
                <a:cubicBezTo>
                  <a:pt x="3528" y="56"/>
                  <a:pt x="3535" y="73"/>
                  <a:pt x="3535" y="9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763640" y="5157720"/>
            <a:ext cx="142920" cy="1443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332000" y="5805360"/>
            <a:ext cx="2887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7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547640" y="5661000"/>
            <a:ext cx="648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700" spc="-1" strike="noStrike">
                <a:solidFill>
                  <a:srgbClr val="ffffff"/>
                </a:solidFill>
                <a:latin typeface="Arial"/>
              </a:rPr>
              <a:t>14.50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979640" y="5805360"/>
            <a:ext cx="5047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700" spc="-1" strike="noStrike">
                <a:solidFill>
                  <a:srgbClr val="ffffff"/>
                </a:solidFill>
                <a:latin typeface="Arial"/>
              </a:rPr>
              <a:t>16.32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411280" y="5661000"/>
            <a:ext cx="503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700" spc="-1" strike="noStrike">
                <a:solidFill>
                  <a:srgbClr val="ffffff"/>
                </a:solidFill>
                <a:latin typeface="Arial"/>
              </a:rPr>
              <a:t>15.817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843280" y="5805360"/>
            <a:ext cx="576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700" spc="-1" strike="noStrike">
                <a:solidFill>
                  <a:srgbClr val="ffffff"/>
                </a:solidFill>
                <a:latin typeface="Arial"/>
              </a:rPr>
              <a:t>28.26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203640" y="5661000"/>
            <a:ext cx="503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700" spc="-1" strike="noStrike">
                <a:solidFill>
                  <a:srgbClr val="ffffff"/>
                </a:solidFill>
                <a:latin typeface="Arial"/>
              </a:rPr>
              <a:t>35.97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3564000" y="5805360"/>
            <a:ext cx="5047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700" spc="-1" strike="noStrike">
                <a:solidFill>
                  <a:srgbClr val="ffffff"/>
                </a:solidFill>
                <a:latin typeface="Arial"/>
              </a:rPr>
              <a:t>63.31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3924360" y="5734080"/>
            <a:ext cx="576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700" spc="-1" strike="noStrike">
                <a:solidFill>
                  <a:srgbClr val="ffffff"/>
                </a:solidFill>
                <a:latin typeface="Arial"/>
              </a:rPr>
              <a:t>17.507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4500720" y="5805360"/>
            <a:ext cx="4316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700" spc="-1" strike="noStrike">
                <a:solidFill>
                  <a:srgbClr val="ffffff"/>
                </a:solidFill>
                <a:latin typeface="Arial"/>
              </a:rPr>
              <a:t>Etc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 flipV="1">
            <a:off x="1887480" y="6219360"/>
            <a:ext cx="390600" cy="11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 flipV="1">
            <a:off x="1476360" y="6237000"/>
            <a:ext cx="390600" cy="11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 flipV="1">
            <a:off x="2268360" y="6217920"/>
            <a:ext cx="390600" cy="11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 flipV="1">
            <a:off x="2651040" y="6216120"/>
            <a:ext cx="390600" cy="11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1332000" y="6381720"/>
            <a:ext cx="25192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800" spc="-1" strike="noStrike">
                <a:solidFill>
                  <a:srgbClr val="ffffff"/>
                </a:solidFill>
                <a:latin typeface="Arial"/>
              </a:rPr>
              <a:t>0.00002 seg entre cada muestr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cc"/>
                </a:solidFill>
                <a:latin typeface="Arial"/>
              </a:rPr>
              <a:t>Frecuencia de muestreo y Bits en un CD de Audio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4572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De esta forma, es posible registrar en un CD la forma de onda de un álbum completo, guardando cada número como una serie de dieciséis “0”s y “1”s con los que se representa las variaciones de presión del sonido grabado. En el CD, los “1” y “0” son marcados como “baches” en la superficie de alumnio del disco. El disco va siendo leído en forma de espiral, con un número siendo representado por cada 16 bit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cc"/>
                </a:solidFill>
                <a:latin typeface="Arial"/>
              </a:rPr>
              <a:t>El CD de AUDIO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74" name="" descr=""/>
          <p:cNvPicPr/>
          <p:nvPr/>
        </p:nvPicPr>
        <p:blipFill>
          <a:blip r:embed="rId1"/>
          <a:stretch/>
        </p:blipFill>
        <p:spPr>
          <a:xfrm>
            <a:off x="7155000" y="114480"/>
            <a:ext cx="1401480" cy="1331640"/>
          </a:xfrm>
          <a:prstGeom prst="rect">
            <a:avLst/>
          </a:prstGeom>
          <a:ln w="0">
            <a:noFill/>
          </a:ln>
        </p:spPr>
      </p:pic>
      <p:pic>
        <p:nvPicPr>
          <p:cNvPr id="475" name="" descr=""/>
          <p:cNvPicPr/>
          <p:nvPr/>
        </p:nvPicPr>
        <p:blipFill>
          <a:blip r:embed="rId2"/>
          <a:stretch/>
        </p:blipFill>
        <p:spPr>
          <a:xfrm>
            <a:off x="4932360" y="3645000"/>
            <a:ext cx="3733920" cy="1257120"/>
          </a:xfrm>
          <a:prstGeom prst="rect">
            <a:avLst/>
          </a:prstGeom>
          <a:ln w="0">
            <a:noFill/>
          </a:ln>
        </p:spPr>
      </p:pic>
      <p:pic>
        <p:nvPicPr>
          <p:cNvPr id="476" name="" descr=""/>
          <p:cNvPicPr/>
          <p:nvPr/>
        </p:nvPicPr>
        <p:blipFill>
          <a:blip r:embed="rId3"/>
          <a:stretch/>
        </p:blipFill>
        <p:spPr>
          <a:xfrm>
            <a:off x="1332000" y="3789360"/>
            <a:ext cx="1904760" cy="201924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4"/>
          <a:stretch/>
        </p:blipFill>
        <p:spPr>
          <a:xfrm>
            <a:off x="4572000" y="5300640"/>
            <a:ext cx="385776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6T16:27:35Z</dcterms:created>
  <dc:creator>Mecesup</dc:creator>
  <dc:description/>
  <dc:language>en-US</dc:language>
  <cp:lastModifiedBy>CMM</cp:lastModifiedBy>
  <dcterms:modified xsi:type="dcterms:W3CDTF">2006-01-10T21:04:15Z</dcterms:modified>
  <cp:revision>36</cp:revision>
  <dc:subject/>
  <dc:title>Taller de Ciencias en la Música </dc:title>
</cp:coreProperties>
</file>