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0F6-2264-4FE8-B73C-F014A284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EA5-99A6-4E61-8F12-3F121147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715-D2C0-41F0-80D7-D24A6DDA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2C2-FDDB-48FD-A6FD-AD88997A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962-37C8-4738-B3C3-4B8A8254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A7D-6DA0-444B-8B30-66117D82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82F-5352-409D-B426-D12435D5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222-6C68-4F3F-9430-2725D196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F60-72E7-4B81-842C-22396D81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5C5-8610-45F9-9D95-83A856F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306-8C68-4FF7-AFF5-D99919E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315-A7D1-4D9E-97A3-ABC4B901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42F2-BA66-43CE-AC2B-745EA8A1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3182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7127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aerófono como la trompeta, la vibración de la columna de aire la producen los labios del músico. Debido a la enorme flexibilidad y control que el ejecutante tiene sobre sus propios labios, puede forzar fácilmente a que la vibración de los labios “le gane” a la de la columna de aire del instrumento. Esto le permitiría tocar, sólo con los labios, casi cualquier no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in embargo, hay notas que son “privilegiadas” por el instru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amos a continuación cual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7336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 va a “preferir” frecuencias de oscilación que tienen relación con la longitud de ella. Pero además, es proclive a oscilar a submúltiplos enteros de los distintos modos de vibración. De esta forma por ejemplo, para una trompeta de fundamental 100Hz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50920" y="3645000"/>
            <a:ext cx="3745080" cy="2014560"/>
            <a:chOff x="2050920" y="3645000"/>
            <a:chExt cx="3745080" cy="2014560"/>
          </a:xfrm>
        </p:grpSpPr>
        <p:sp>
          <p:nvSpPr>
            <p:cNvPr id="52" name=""/>
            <p:cNvSpPr/>
            <p:nvPr/>
          </p:nvSpPr>
          <p:spPr>
            <a:xfrm>
              <a:off x="2050920" y="3645000"/>
              <a:ext cx="8654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500/5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30920" y="3645000"/>
              <a:ext cx="8650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8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1280" y="3645000"/>
              <a:ext cx="86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5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3280" y="3645000"/>
              <a:ext cx="865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3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16000" y="5013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e puede observar que algunas frecuencias son “privilegiadas” muchas veces. Si bien el músico siempre tiene control sobre la nota que ejecuta, esto hace que algunas notas “caigan” más fácilmente a estas frecuencias privilegi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773360"/>
            <a:ext cx="7127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, por sí sola, tiene una determinada “receta” de frecuencias que es distinta a la percibida por los oyentes. La diferencia entre estas dos recetas la provoca la camp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tubo, el “volumen” de cada frecuencia es determinada por el área de contacto entre la columna que oscila y el aire de la sa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508720" y="5229360"/>
            <a:ext cx="503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773360"/>
            <a:ext cx="71276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Al agregar una campana, esta superficie se ve aumentada. Pero esto no es igual para todas las frecuencias que componen la oscilación de la columna de aire en el instru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08720" y="52290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5661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5000760"/>
            <a:ext cx="6357960" cy="444240"/>
          </a:xfrm>
          <a:custGeom>
            <a:avLst/>
            <a:gdLst/>
            <a:ahLst/>
            <a:rect l="l" t="t" r="r" b="b"/>
            <a:pathLst>
              <a:path w="4005" h="280">
                <a:moveTo>
                  <a:pt x="0" y="280"/>
                </a:moveTo>
                <a:cubicBezTo>
                  <a:pt x="193" y="144"/>
                  <a:pt x="386" y="8"/>
                  <a:pt x="590" y="8"/>
                </a:cubicBezTo>
                <a:cubicBezTo>
                  <a:pt x="794" y="8"/>
                  <a:pt x="1006" y="280"/>
                  <a:pt x="1225" y="280"/>
                </a:cubicBezTo>
                <a:cubicBezTo>
                  <a:pt x="1444" y="280"/>
                  <a:pt x="1687" y="8"/>
                  <a:pt x="1906" y="8"/>
                </a:cubicBezTo>
                <a:cubicBezTo>
                  <a:pt x="2125" y="8"/>
                  <a:pt x="2329" y="280"/>
                  <a:pt x="2541" y="280"/>
                </a:cubicBezTo>
                <a:cubicBezTo>
                  <a:pt x="2753" y="280"/>
                  <a:pt x="2972" y="16"/>
                  <a:pt x="3176" y="8"/>
                </a:cubicBezTo>
                <a:cubicBezTo>
                  <a:pt x="3380" y="0"/>
                  <a:pt x="3627" y="207"/>
                  <a:pt x="3765" y="235"/>
                </a:cubicBezTo>
                <a:cubicBezTo>
                  <a:pt x="3903" y="263"/>
                  <a:pt x="3955" y="189"/>
                  <a:pt x="4005" y="1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773360"/>
            <a:ext cx="71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n cambio, para aquellas 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4365720"/>
            <a:ext cx="289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365720"/>
            <a:ext cx="5904000" cy="1811160"/>
          </a:xfrm>
          <a:custGeom>
            <a:avLst/>
            <a:gdLst/>
            <a:ahLst/>
            <a:rect l="l" t="t" r="r" b="b"/>
            <a:pathLst>
              <a:path w="3719" h="1141">
                <a:moveTo>
                  <a:pt x="0" y="680"/>
                </a:moveTo>
                <a:cubicBezTo>
                  <a:pt x="30" y="544"/>
                  <a:pt x="61" y="408"/>
                  <a:pt x="91" y="408"/>
                </a:cubicBezTo>
                <a:cubicBezTo>
                  <a:pt x="121" y="408"/>
                  <a:pt x="151" y="680"/>
                  <a:pt x="181" y="680"/>
                </a:cubicBezTo>
                <a:cubicBezTo>
                  <a:pt x="211" y="680"/>
                  <a:pt x="242" y="408"/>
                  <a:pt x="272" y="408"/>
                </a:cubicBezTo>
                <a:cubicBezTo>
                  <a:pt x="302" y="408"/>
                  <a:pt x="333" y="673"/>
                  <a:pt x="363" y="680"/>
                </a:cubicBezTo>
                <a:cubicBezTo>
                  <a:pt x="393" y="687"/>
                  <a:pt x="430" y="498"/>
                  <a:pt x="453" y="453"/>
                </a:cubicBezTo>
                <a:cubicBezTo>
                  <a:pt x="476" y="408"/>
                  <a:pt x="484" y="370"/>
                  <a:pt x="499" y="408"/>
                </a:cubicBezTo>
                <a:cubicBezTo>
                  <a:pt x="514" y="446"/>
                  <a:pt x="521" y="680"/>
                  <a:pt x="544" y="680"/>
                </a:cubicBezTo>
                <a:cubicBezTo>
                  <a:pt x="567" y="680"/>
                  <a:pt x="605" y="408"/>
                  <a:pt x="635" y="408"/>
                </a:cubicBezTo>
                <a:cubicBezTo>
                  <a:pt x="665" y="408"/>
                  <a:pt x="696" y="680"/>
                  <a:pt x="726" y="680"/>
                </a:cubicBezTo>
                <a:cubicBezTo>
                  <a:pt x="756" y="680"/>
                  <a:pt x="786" y="408"/>
                  <a:pt x="816" y="408"/>
                </a:cubicBezTo>
                <a:cubicBezTo>
                  <a:pt x="846" y="408"/>
                  <a:pt x="877" y="680"/>
                  <a:pt x="907" y="680"/>
                </a:cubicBezTo>
                <a:cubicBezTo>
                  <a:pt x="937" y="680"/>
                  <a:pt x="968" y="408"/>
                  <a:pt x="998" y="408"/>
                </a:cubicBezTo>
                <a:cubicBezTo>
                  <a:pt x="1028" y="408"/>
                  <a:pt x="1050" y="680"/>
                  <a:pt x="1088" y="680"/>
                </a:cubicBezTo>
                <a:cubicBezTo>
                  <a:pt x="1126" y="680"/>
                  <a:pt x="1187" y="408"/>
                  <a:pt x="1225" y="408"/>
                </a:cubicBezTo>
                <a:cubicBezTo>
                  <a:pt x="1263" y="408"/>
                  <a:pt x="1285" y="680"/>
                  <a:pt x="1315" y="680"/>
                </a:cubicBezTo>
                <a:cubicBezTo>
                  <a:pt x="1345" y="680"/>
                  <a:pt x="1376" y="408"/>
                  <a:pt x="1406" y="408"/>
                </a:cubicBezTo>
                <a:cubicBezTo>
                  <a:pt x="1436" y="408"/>
                  <a:pt x="1467" y="680"/>
                  <a:pt x="1497" y="680"/>
                </a:cubicBezTo>
                <a:cubicBezTo>
                  <a:pt x="1527" y="680"/>
                  <a:pt x="1557" y="408"/>
                  <a:pt x="1587" y="408"/>
                </a:cubicBezTo>
                <a:cubicBezTo>
                  <a:pt x="1617" y="408"/>
                  <a:pt x="1648" y="680"/>
                  <a:pt x="1678" y="680"/>
                </a:cubicBezTo>
                <a:cubicBezTo>
                  <a:pt x="1708" y="680"/>
                  <a:pt x="1739" y="408"/>
                  <a:pt x="1769" y="408"/>
                </a:cubicBezTo>
                <a:cubicBezTo>
                  <a:pt x="1799" y="408"/>
                  <a:pt x="1830" y="680"/>
                  <a:pt x="1860" y="680"/>
                </a:cubicBezTo>
                <a:cubicBezTo>
                  <a:pt x="1890" y="680"/>
                  <a:pt x="1920" y="408"/>
                  <a:pt x="1950" y="408"/>
                </a:cubicBezTo>
                <a:cubicBezTo>
                  <a:pt x="1980" y="408"/>
                  <a:pt x="2011" y="680"/>
                  <a:pt x="2041" y="680"/>
                </a:cubicBezTo>
                <a:cubicBezTo>
                  <a:pt x="2071" y="680"/>
                  <a:pt x="2102" y="408"/>
                  <a:pt x="2132" y="408"/>
                </a:cubicBezTo>
                <a:cubicBezTo>
                  <a:pt x="2162" y="408"/>
                  <a:pt x="2192" y="680"/>
                  <a:pt x="2222" y="680"/>
                </a:cubicBezTo>
                <a:cubicBezTo>
                  <a:pt x="2252" y="680"/>
                  <a:pt x="2283" y="408"/>
                  <a:pt x="2313" y="408"/>
                </a:cubicBezTo>
                <a:cubicBezTo>
                  <a:pt x="2343" y="408"/>
                  <a:pt x="2374" y="680"/>
                  <a:pt x="2404" y="680"/>
                </a:cubicBezTo>
                <a:cubicBezTo>
                  <a:pt x="2434" y="680"/>
                  <a:pt x="2465" y="408"/>
                  <a:pt x="2495" y="408"/>
                </a:cubicBezTo>
                <a:cubicBezTo>
                  <a:pt x="2525" y="408"/>
                  <a:pt x="2555" y="687"/>
                  <a:pt x="2585" y="680"/>
                </a:cubicBezTo>
                <a:cubicBezTo>
                  <a:pt x="2615" y="673"/>
                  <a:pt x="2646" y="356"/>
                  <a:pt x="2676" y="363"/>
                </a:cubicBezTo>
                <a:cubicBezTo>
                  <a:pt x="2706" y="370"/>
                  <a:pt x="2737" y="733"/>
                  <a:pt x="2767" y="725"/>
                </a:cubicBezTo>
                <a:cubicBezTo>
                  <a:pt x="2797" y="717"/>
                  <a:pt x="2819" y="302"/>
                  <a:pt x="2857" y="317"/>
                </a:cubicBezTo>
                <a:cubicBezTo>
                  <a:pt x="2895" y="332"/>
                  <a:pt x="2956" y="839"/>
                  <a:pt x="2994" y="816"/>
                </a:cubicBezTo>
                <a:cubicBezTo>
                  <a:pt x="3032" y="793"/>
                  <a:pt x="3054" y="151"/>
                  <a:pt x="3084" y="181"/>
                </a:cubicBezTo>
                <a:cubicBezTo>
                  <a:pt x="3114" y="211"/>
                  <a:pt x="3152" y="1021"/>
                  <a:pt x="3175" y="998"/>
                </a:cubicBezTo>
                <a:cubicBezTo>
                  <a:pt x="3198" y="975"/>
                  <a:pt x="3197" y="22"/>
                  <a:pt x="3220" y="45"/>
                </a:cubicBezTo>
                <a:cubicBezTo>
                  <a:pt x="3243" y="68"/>
                  <a:pt x="3288" y="1134"/>
                  <a:pt x="3311" y="1134"/>
                </a:cubicBezTo>
                <a:cubicBezTo>
                  <a:pt x="3334" y="1134"/>
                  <a:pt x="3333" y="45"/>
                  <a:pt x="3356" y="45"/>
                </a:cubicBezTo>
                <a:cubicBezTo>
                  <a:pt x="3379" y="45"/>
                  <a:pt x="3424" y="1141"/>
                  <a:pt x="3447" y="1134"/>
                </a:cubicBezTo>
                <a:cubicBezTo>
                  <a:pt x="3470" y="1127"/>
                  <a:pt x="3470" y="0"/>
                  <a:pt x="3493" y="0"/>
                </a:cubicBezTo>
                <a:cubicBezTo>
                  <a:pt x="3516" y="0"/>
                  <a:pt x="3560" y="1134"/>
                  <a:pt x="3583" y="1134"/>
                </a:cubicBezTo>
                <a:cubicBezTo>
                  <a:pt x="3606" y="1134"/>
                  <a:pt x="3606" y="0"/>
                  <a:pt x="3629" y="0"/>
                </a:cubicBezTo>
                <a:cubicBezTo>
                  <a:pt x="3652" y="0"/>
                  <a:pt x="3685" y="567"/>
                  <a:pt x="3719" y="113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443280" y="5229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57340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1773360"/>
            <a:ext cx="71276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De esta forma, debido a esta relación entre tasa de crecimiento de la campana y longitud de onda de la frecuencia en el instrumento, se observa que para las bajas frecuencias la campana no existe y se mantiene el área de la columna, y en cambio para las altas frecuencias la campana sí aumenta la superficie de contac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ste cambio en la receta, introducido por la presencia de la campana, es el que da el timbre característico de los instrumentos de bronce como la trompeta, trombón, corn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58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8360" y="4724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84360" y="494172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00000" y="501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116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764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6544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24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580536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columna del instr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720" y="465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86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49417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72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56000" y="5229360"/>
            <a:ext cx="433080" cy="431640"/>
            <a:chOff x="2556000" y="5229360"/>
            <a:chExt cx="433080" cy="431640"/>
          </a:xfrm>
        </p:grpSpPr>
        <p:sp>
          <p:nvSpPr>
            <p:cNvPr id="111" name=""/>
            <p:cNvSpPr/>
            <p:nvPr/>
          </p:nvSpPr>
          <p:spPr>
            <a:xfrm>
              <a:off x="2773440" y="522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5445000"/>
              <a:ext cx="43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3640" y="56023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084640"/>
            <a:ext cx="1295280" cy="517680"/>
          </a:xfrm>
          <a:custGeom>
            <a:avLst/>
            <a:gdLst/>
            <a:ahLst/>
            <a:rect l="l" t="t" r="r" b="b"/>
            <a:pathLst>
              <a:path w="816" h="326">
                <a:moveTo>
                  <a:pt x="0" y="326"/>
                </a:moveTo>
                <a:cubicBezTo>
                  <a:pt x="26" y="216"/>
                  <a:pt x="53" y="107"/>
                  <a:pt x="91" y="54"/>
                </a:cubicBezTo>
                <a:cubicBezTo>
                  <a:pt x="129" y="1"/>
                  <a:pt x="106" y="16"/>
                  <a:pt x="227" y="8"/>
                </a:cubicBezTo>
                <a:cubicBezTo>
                  <a:pt x="348" y="0"/>
                  <a:pt x="582" y="4"/>
                  <a:pt x="81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18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spuesta de frecuencia de la camp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229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5589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20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3600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5164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10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51920" y="542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sa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522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6764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9446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25T18:16:17Z</dcterms:modified>
  <cp:revision>52</cp:revision>
  <dc:subject/>
  <dc:title>Taller de Ciencias en la Música </dc:title>
</cp:coreProperties>
</file>