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4ACB5-18ED-401F-BEB9-559A028CA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B6739-EEC2-4F89-B436-F741B01C6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62246-2FFD-4D23-86BC-5AB8E039E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223A8-8BC8-4441-90FD-DA410D9D9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45F8-320E-44FD-9B28-360EB63CC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66C4-E154-4A95-9F55-6FB4E048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4BCC6-9A9D-408D-81F2-920A2873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5293-8034-45E0-8578-382C04EE7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484A-B88E-4D3E-BE60-31993C114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95D0-49A6-4F78-B2BA-489D4A76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6ABB-E9BC-4551-A0F2-F99E0442E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1E13-B4F2-4909-B88D-58B53D3F9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999E-8694-4F13-9DB7-B425D0576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barwaves/" TargetMode="External"/><Relationship Id="rId3" Type="http://schemas.openxmlformats.org/officeDocument/2006/relationships/hyperlink" Target="http://www.falstad.com/barwaves/" TargetMode="External"/><Relationship Id="rId4" Type="http://schemas.openxmlformats.org/officeDocument/2006/relationships/hyperlink" Target="http://www.falstad.com/barwaves/" TargetMode="External"/><Relationship Id="rId5" Type="http://schemas.openxmlformats.org/officeDocument/2006/relationships/hyperlink" Target="http://www.falstad.com/barwaves/" TargetMode="External"/><Relationship Id="rId6" Type="http://schemas.openxmlformats.org/officeDocument/2006/relationships/hyperlink" Target="http://www.falstad.com/barwaves/" TargetMode="External"/><Relationship Id="rId7" Type="http://schemas.openxmlformats.org/officeDocument/2006/relationships/hyperlink" Target="http://www.falstad.com/barwaves/"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5148360" y="2781360"/>
            <a:ext cx="2916000" cy="5508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IDIÓFONOS</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rcRect l="12312" t="0" r="0" b="0"/>
          <a:stretch/>
        </p:blipFill>
        <p:spPr>
          <a:xfrm>
            <a:off x="755640" y="2565360"/>
            <a:ext cx="3076560" cy="35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49"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54"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6"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5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9"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1096200" y="3327480"/>
            <a:ext cx="6382080" cy="1068120"/>
            <a:chOff x="1096200" y="3327480"/>
            <a:chExt cx="6382080" cy="1068120"/>
          </a:xfrm>
        </p:grpSpPr>
        <p:sp>
          <p:nvSpPr>
            <p:cNvPr id="62"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7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73"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74"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76"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77"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87" name=""/>
          <p:cNvSpPr/>
          <p:nvPr/>
        </p:nvSpPr>
        <p:spPr>
          <a:xfrm>
            <a:off x="1116000" y="2276640"/>
            <a:ext cx="7128000" cy="460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de barra libre (barras no sujetas en los extrem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a frecuencia fundamental depende de parámetros propios del material. Lo que sí se puede calcular fácilmente es la diferencia en longitud que debe tener la nueva barra (de longitud L’) respecto de una barra “patrón” (de longitud L). Esta relación está dad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L’ = L x (0.5)^1/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0" name=""/>
          <p:cNvSpPr/>
          <p:nvPr/>
        </p:nvSpPr>
        <p:spPr>
          <a:xfrm>
            <a:off x="1116000" y="1844640"/>
            <a:ext cx="71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se puede determinar la manera de construir escalas con barras lib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Respecto de la barra original              La nueva barra debe 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pic>
        <p:nvPicPr>
          <p:cNvPr id="9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3" name=""/>
          <p:cNvSpPr/>
          <p:nvPr/>
        </p:nvSpPr>
        <p:spPr>
          <a:xfrm>
            <a:off x="1116000" y="1844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pic>
        <p:nvPicPr>
          <p:cNvPr id="94"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6" name=""/>
          <p:cNvSpPr/>
          <p:nvPr/>
        </p:nvSpPr>
        <p:spPr>
          <a:xfrm>
            <a:off x="1116000" y="1844640"/>
            <a:ext cx="71280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Applet que permite visualizar los efectos de rigidez de distintas barras, así como su composición armón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rcRect l="12312" t="0" r="0" b="0"/>
          <a:stretch/>
        </p:blipFill>
        <p:spPr>
          <a:xfrm>
            <a:off x="7524720" y="189000"/>
            <a:ext cx="1116000" cy="1116000"/>
          </a:xfrm>
          <a:prstGeom prst="rect">
            <a:avLst/>
          </a:prstGeom>
          <a:ln w="0">
            <a:noFill/>
          </a:ln>
        </p:spPr>
      </p:pic>
      <p:sp>
        <p:nvSpPr>
          <p:cNvPr id="98"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barwaves</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19:46Z</dcterms:modified>
  <cp:revision>46</cp:revision>
  <dc:subject/>
  <dc:title>Taller de Ciencias en la Música </dc:title>
</cp:coreProperties>
</file>