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F30-6FD5-4C5C-A3B2-CBC3A106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7DD-1C14-4D2F-9AC9-562E3F1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2A3-F1B5-4489-8F70-A42FD5D7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17F-6B04-41FD-88B2-E2099FE6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DAF-3627-4FFA-821B-46570F01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03C-26D4-4AB2-867E-FCF42FC0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70B-C6BC-40F4-A29B-FC87BB0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D50-DAC8-4FAC-805A-C8E1B6F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E49-2FB2-48F9-A44C-00E53E72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AFD-AA47-4873-B462-24333B73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FC25-E55C-437D-BC1A-A1D45CA1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F5B-18C0-4A4D-929C-177701E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B51-06E8-4752-972C-F2A7C924753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ie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Perico</cp:lastModifiedBy>
  <dcterms:modified xsi:type="dcterms:W3CDTF">2007-01-09T16:17:55Z</dcterms:modified>
  <cp:revision>29</cp:revision>
  <dc:subject/>
  <dc:title>Taller de Ciencias en la Música </dc:title>
</cp:coreProperties>
</file>