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DEE-9D1E-4826-9CEE-92BB1888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14B-6B31-4350-999E-FA29C3D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7D3-5017-4FB4-BD2A-8DB9C671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0C5-9DB7-42DE-A21A-CA8D8F0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22F-A51A-4336-B841-60958431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5C7-12E4-456E-936B-0BEE9901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627-3025-4108-879D-769C416D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C4B-79BE-4946-8FB9-9CCB631D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270-303B-41E3-AA3D-8CD80E94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0D1-17A4-4B3D-B1B2-749398D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E60-2D61-4782-8ACA-065D22D0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3D0-524A-437C-B41D-64AD65C2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5A13-75BB-45E5-AE20-3297BD0E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  nº 3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scilador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Resolver oscilador n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itula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Matlab uno puede definir funciones propias que no vengan implementadas de por si. Estas funciones de guardan en M-files con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uaciones difer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ecuación diferencial de cualquier grado se puede escribir como una ecuación de primer orden vectorial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/dt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= -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ω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es equivalente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t=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 y  d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/dt= -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ω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Arial"/>
              </a:rPr>
              <a:t>Esta es la manera en que Matlab trabaja las ecuaciones diferenciales, vectorialmente y de primer 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posee diferentes métodos para integrar ecuaciones diferenciales. Nosotros ocuparemos e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de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 este método debemos ingresarle, las condiciones iniciales del sistema, la función diferencial que la define, y un vector de tiempo inicial y 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 Y]=ode45(‘y_prima’,[ti tf],[condiciones iniciales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nde los datos entregados son: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  ‘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y_prima’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fuctio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finida anteriorment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en Matlab que representa el lad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derecho de la ecuación diferenci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[ti tf]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vector de dos componentes,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tiempo inicial y el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[Condiciones iniciales]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decir 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xis Parte 1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res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xis  Parte 2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dando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método nos entrega el vector tiempo, es decir, los instantes en los cuales se evalúa la solución, y obviamente … un vector solució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o guardamos en nuestra fórmula de la forma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[T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 el vector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 el vector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elva la ecuación diferencial de un oscilador no lin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una función llamada oscilador(t,y) que entregue un ve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y/dt =[ y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-k/(2 l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) y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ga un M-file que integre la function oscilador, entre 0 y 10[s] y las condiciones iniciales que usted prefiera, además, que entregue un grafico de la solución versus el tiempo y que tenga nombre en los e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2:33:46Z</dcterms:created>
  <dc:creator>Soka</dc:creator>
  <dc:description/>
  <dc:language>en-US</dc:language>
  <cp:lastModifiedBy>dimec</cp:lastModifiedBy>
  <dcterms:modified xsi:type="dcterms:W3CDTF">2007-01-21T00:14:44Z</dcterms:modified>
  <cp:revision>6</cp:revision>
  <dc:subject/>
  <dc:title>Diapositiva 1</dc:title>
</cp:coreProperties>
</file>