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146-14AC-40B6-9FBB-AD2950CD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AB0-7765-4E74-8161-0BE0DAF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F05-3ED8-4BBF-9DF5-AAB8DF8A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72EF-FC61-463C-8A7B-ECEC3592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AF0-3B47-4A70-A1A5-5FA8DF51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034F-1D66-4319-B856-0C7978A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7AE-5CA1-4146-997A-9C564CE3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018-7075-4518-9844-E0C25EAF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D5CD-6ED9-494D-AC80-C737C01A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D3F-FE89-48B6-8100-59B4AEB4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081-400C-43ED-8292-E06D3CDB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89CD-FE70-480B-B297-A5E883D8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B7B8-054D-4E3D-9769-4FE66FB2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  nº 3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scilador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Resolver oscilador no li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CUELA DE VERANO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apitula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Matlab uno puede definir funciones propias que no vengan implementadas de por si. Estas funciones de guardan en M-files con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uaciones diferen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ecuación diferencial de cualquier grado se puede escribir como una ecuación de primer orden vectorial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/dt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= -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ω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es equivalente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dt=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 y  d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/dt= - </a:t>
            </a:r>
            <a:r>
              <a:rPr b="0" lang="el-GR" sz="3200" spc="-1" strike="noStrike">
                <a:solidFill>
                  <a:srgbClr val="ff3300"/>
                </a:solidFill>
                <a:latin typeface="Arial"/>
                <a:ea typeface="Arial"/>
              </a:rPr>
              <a:t>ω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CL" sz="32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0" lang="es-CL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CL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Arial"/>
              </a:rPr>
              <a:t>Esta es la manera en que Matlab trabaja las ecuaciones diferenciales, vectorialmente y de primer gr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t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posee diferentes métodos para integrar ecuaciones diferenciales. Nosotros ocuparemos el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de4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 este método debemos ingresarle, las condiciones iniciales del sistema, la función diferencial que la define, y un vector de tiempo inicial y 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T Y]=ode45(‘y_prima’,[ti tf],[condiciones iniciales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nde los datos entregados son: 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  ‘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y_prima’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CL" sz="2800" spc="-1" strike="noStrike">
                <a:solidFill>
                  <a:srgbClr val="333399"/>
                </a:solidFill>
                <a:latin typeface="Arial"/>
              </a:rPr>
              <a:t>fuctio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definida anteriorment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en Matlab que representa el lado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derecho de la ecuación diferencial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[ti tf]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 vector de dos componentes,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el tiempo inicial y el f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9900"/>
                </a:solidFill>
                <a:latin typeface="Arial"/>
              </a:rPr>
              <a:t>[Condiciones iniciales]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decir 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v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xis Parte 1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greso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taxis  Parte 2: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rdando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e método nos entrega el vector tiempo, es decir, los instantes en los cuales se evalúa la solución, y obviamente … un vector solució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o guardamos en nuestra fórmula de la forma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[T Y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 el vector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 el vector sol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uelva la ecuación diferencial de un oscilador no lin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una función llamada oscilador(t,y) que entregue un vec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y/dt =[ y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; -k/(2 l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) y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aga un M-file que integre la function oscilador, entre 0 y 10[s] y las condiciones iniciales que usted prefiera, además, que entregue un grafico de la solución versus el tiempo y que tenga nombre en los ej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7T22:33:46Z</dcterms:created>
  <dc:creator>Soka</dc:creator>
  <dc:description/>
  <dc:language>en-US</dc:language>
  <cp:lastModifiedBy>dimec</cp:lastModifiedBy>
  <dcterms:modified xsi:type="dcterms:W3CDTF">2007-01-21T00:14:44Z</dcterms:modified>
  <cp:revision>6</cp:revision>
  <dc:subject/>
  <dc:title>Diapositiva 1</dc:title>
</cp:coreProperties>
</file>