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F12-82B7-45F4-89D2-3E690F61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4D4-89F2-4A7E-B7F4-43A82A43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EEA-3C66-48B8-AD1A-7A04E932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F20-043B-4FA1-B8C5-62E0D1CF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313-28B0-4526-8F02-C07966EF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5BB-3C88-4EB3-BA36-C3160C60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CA7-419B-45E1-BD45-D6655E31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A2B-3561-470A-9C4F-6E8D277C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64D-D895-4743-82FD-6A48C58A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7AC-E129-450C-9CF9-809A768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98E-E809-4DB6-9C80-258C7838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C53-29E6-412A-978D-10040C15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F053-0EB1-4123-AEB9-B31C82D1F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30440" y="476280"/>
          <a:ext cx="6613560" cy="28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0440" y="476280"/>
                    <a:ext cx="661356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00000" y="4292640"/>
          <a:ext cx="2637000" cy="16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292640"/>
                    <a:ext cx="263700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76720" y="4076640"/>
          <a:ext cx="3240360" cy="25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4076640"/>
                    <a:ext cx="32403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28320" y="357336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 estimaciones distintas para la raíz de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364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7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Control 1 Ejercici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5800" y="260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o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71640" y="0"/>
          <a:ext cx="532944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0"/>
                    <a:ext cx="532944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771640" y="1773360"/>
          <a:ext cx="5253120" cy="15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773360"/>
                    <a:ext cx="52531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34180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744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92360" y="3500280"/>
          <a:ext cx="5472000" cy="90972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360"/>
                <a:gridCol w="1366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8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5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91080" y="736560"/>
            <a:ext cx="29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s dos aproxim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n origen a dos estim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76280" y="4869000"/>
          <a:ext cx="776772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4869000"/>
                    <a:ext cx="776772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880" y="5013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800" y="623736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valor exacto es ~ 0.27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0" y="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Control 1 Ejercicio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" y="47628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respecto a la línea rec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trayectoria se desvía en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1268280"/>
            <a:ext cx="4032360" cy="4175280"/>
            <a:chOff x="0" y="1268280"/>
            <a:chExt cx="4032360" cy="4175280"/>
          </a:xfrm>
        </p:grpSpPr>
        <p:grpSp>
          <p:nvGrpSpPr>
            <p:cNvPr id="67" name=""/>
            <p:cNvGrpSpPr/>
            <p:nvPr/>
          </p:nvGrpSpPr>
          <p:grpSpPr>
            <a:xfrm>
              <a:off x="2016000" y="1339920"/>
              <a:ext cx="1584720" cy="2232000"/>
              <a:chOff x="2016000" y="1339920"/>
              <a:chExt cx="1584720" cy="2232000"/>
            </a:xfrm>
          </p:grpSpPr>
          <p:sp>
            <p:nvSpPr>
              <p:cNvPr id="68" name=""/>
              <p:cNvSpPr/>
              <p:nvPr/>
            </p:nvSpPr>
            <p:spPr>
              <a:xfrm>
                <a:off x="2016360" y="1339920"/>
                <a:ext cx="1584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016000" y="1339920"/>
                <a:ext cx="1584360" cy="21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16360" y="1339920"/>
                <a:ext cx="0" cy="22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0" y="1339920"/>
              <a:ext cx="4032360" cy="4103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71920" y="3183120"/>
              <a:ext cx="502920" cy="5047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44720" y="12682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38720" y="2151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18160" y="27795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9080" y="1432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18000" y="2511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" name=""/>
          <p:cNvGraphicFramePr/>
          <p:nvPr/>
        </p:nvGraphicFramePr>
        <p:xfrm>
          <a:off x="4716360" y="333360"/>
          <a:ext cx="374328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33360"/>
                    <a:ext cx="3743280" cy="1833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724360" y="2276640"/>
          <a:ext cx="2089440" cy="14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276640"/>
                    <a:ext cx="2089440" cy="1498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360680" y="414972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 el ángulo es igual a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írculo completo dividi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undos en un a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492360" y="5048280"/>
          <a:ext cx="5112000" cy="14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5048280"/>
                    <a:ext cx="5112000" cy="1433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0" y="18900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ora evaluamos dichos números para el caso de la Tier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2360" y="6415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año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85240" y="63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5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17400" y="620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1400" y="6206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 min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8432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6868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6904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2480" y="620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 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2520" y="98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1800" y="132084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7440" y="12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7800" y="98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7440" y="1320840"/>
            <a:ext cx="411120" cy="1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1800" y="126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9240" y="1052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69240" y="1392120"/>
            <a:ext cx="771480" cy="2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9240" y="133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50520" y="9795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40160" y="1319040"/>
            <a:ext cx="771840" cy="2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10520" y="1266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1628640"/>
          <a:ext cx="453528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45352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58920" y="2781360"/>
          <a:ext cx="2952720" cy="10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781360"/>
                    <a:ext cx="29527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720680" y="299736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mos que el resultado exacto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¡31536000 segund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0" y="4495680"/>
            <a:ext cx="503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 UA = 300000 km/s x 8 minutos x 60 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58920" y="4941720"/>
          <a:ext cx="4176720" cy="13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4941720"/>
                    <a:ext cx="417672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59600" y="53006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Respuesta exacta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4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50920" y="333360"/>
          <a:ext cx="374472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37447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76720" y="5084640"/>
          <a:ext cx="201600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084640"/>
                    <a:ext cx="201600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584680" y="981000"/>
            <a:ext cx="30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emos h ~ 3 m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cálculo exacto de to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magnitudes  usando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dora entre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~ 2.8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724360" y="260280"/>
          <a:ext cx="2808360" cy="6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260280"/>
                    <a:ext cx="28083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06280" y="2565360"/>
            <a:ext cx="89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los demás planetas podemos hacer el mismo cálculo, pero podemos aprovech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álculo ya hecho: para un planeta cualquiera a distancia y con periodo da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3500280"/>
          <a:ext cx="2881080" cy="13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3500280"/>
                    <a:ext cx="28810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35640" y="3500280"/>
          <a:ext cx="3097080" cy="125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3500280"/>
                    <a:ext cx="30970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85128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26828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76720" y="5877000"/>
          <a:ext cx="2089080" cy="71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877000"/>
                    <a:ext cx="2089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flipH="1" rot="16200000">
            <a:off x="6095520" y="536004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95280" y="260280"/>
          <a:ext cx="3382920" cy="126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60280"/>
                    <a:ext cx="338292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03640" y="114480"/>
          <a:ext cx="3673800" cy="12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114480"/>
                    <a:ext cx="367380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68360" y="1628640"/>
          <a:ext cx="3456000" cy="3965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628640"/>
                    <a:ext cx="345600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80480" y="5950080"/>
            <a:ext cx="2201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ultado ex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.88 h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tierr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= 5.2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219640" y="1555920"/>
          <a:ext cx="3484800" cy="423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19640" y="1555920"/>
                    <a:ext cx="34848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5965560" y="5950080"/>
            <a:ext cx="2454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ultado ex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0.36 h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tierr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= 0.103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427640" y="333360"/>
          <a:ext cx="471636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716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908000" y="2205000"/>
          <a:ext cx="4826160" cy="13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205000"/>
                    <a:ext cx="482616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320" y="404640"/>
            <a:ext cx="44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ode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erificar la ley de los recípro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uadrados verificando direct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4320" y="1844640"/>
            <a:ext cx="70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 otra vez es más fácil usar como base, los cálculos en la tier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4320" y="386064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nuestro problema se reduce a verificar 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308720" y="3645000"/>
          <a:ext cx="122400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3645000"/>
                    <a:ext cx="1224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95280" y="4653000"/>
          <a:ext cx="3456000" cy="16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4653000"/>
                    <a:ext cx="34560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724360" y="4869000"/>
          <a:ext cx="3024360" cy="13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4360" y="4869000"/>
                    <a:ext cx="30243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34000" y="4313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8160" y="64911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exacto: 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6520" y="450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51240" y="649116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exacto: 1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2:46:17Z</dcterms:created>
  <dc:creator>Alvaro S. Nunez</dc:creator>
  <dc:description/>
  <dc:language>en-US</dc:language>
  <cp:lastModifiedBy>Alvaro S. Nunez</cp:lastModifiedBy>
  <dcterms:modified xsi:type="dcterms:W3CDTF">2007-01-07T16:08:12Z</dcterms:modified>
  <cp:revision>18</cp:revision>
  <dc:subject/>
  <dc:title>Slide 1</dc:title>
</cp:coreProperties>
</file>