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embeddings/oleObject4.bin" ContentType="application/vnd.openxmlformats-officedocument.oleObject"/>
  <Override PartName="/ppt/embeddings/oleObject5.bin" ContentType="application/vnd.openxmlformats-officedocument.oleObject"/>
  <Override PartName="/ppt/embeddings/oleObject6.bin" ContentType="application/vnd.openxmlformats-officedocument.oleObject"/>
  <Override PartName="/ppt/media/image9.wmf" ContentType="image/x-wmf"/>
  <Override PartName="/ppt/media/image13.wmf" ContentType="image/x-wmf"/>
  <Override PartName="/ppt/media/image8.wmf" ContentType="image/x-wmf"/>
  <Override PartName="/ppt/media/image12.wmf" ContentType="image/x-wmf"/>
  <Override PartName="/ppt/media/image7.wmf" ContentType="image/x-wmf"/>
  <Override PartName="/ppt/media/image11.wmf" ContentType="image/x-wmf"/>
  <Override PartName="/ppt/media/image6.wmf" ContentType="image/x-wmf"/>
  <Override PartName="/ppt/media/image10.wmf" ContentType="image/x-wmf"/>
  <Override PartName="/ppt/media/image5.wmf" ContentType="image/x-wmf"/>
  <Override PartName="/ppt/media/image4.wmf" ContentType="image/x-wmf"/>
  <Override PartName="/ppt/media/image3.wmf" ContentType="image/x-wmf"/>
  <Override PartName="/ppt/media/image26.wmf" ContentType="image/x-wmf"/>
  <Override PartName="/ppt/media/image23.wmf" ContentType="image/x-wmf"/>
  <Override PartName="/ppt/media/image22.wmf" ContentType="image/x-wmf"/>
  <Override PartName="/ppt/media/image21.wmf" ContentType="image/x-wmf"/>
  <Override PartName="/ppt/media/image19.png" ContentType="image/png"/>
  <Override PartName="/ppt/media/image18.wmf" ContentType="image/x-wmf"/>
  <Override PartName="/ppt/media/image20.wmf" ContentType="image/x-wmf"/>
  <Override PartName="/ppt/media/image17.wmf" ContentType="image/x-wmf"/>
  <Override PartName="/ppt/media/image16.wmf" ContentType="image/x-wmf"/>
  <Override PartName="/ppt/media/image15.wmf" ContentType="image/x-wmf"/>
  <Override PartName="/ppt/media/image14.wmf" ContentType="image/x-wmf"/>
  <Override PartName="/ppt/media/image24.wmf" ContentType="image/x-wmf"/>
  <Override PartName="/ppt/media/image1.wmf" ContentType="image/x-wmf"/>
  <Override PartName="/ppt/media/image2.wmf" ContentType="image/x-wmf"/>
  <Override PartName="/ppt/media/image25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59795-FF53-4D1B-87EC-20E0013B09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1662D-4542-4C77-BD7B-AC1D8A6D02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8240C9-9768-415C-A5B1-C85B47227C1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FC3F71-914B-4287-B7ED-094ED10606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DAC8B-E053-412F-B8C9-989448B2CA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C505C3-4AA0-4653-ACAA-C8CF27CB3A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A674-A8FD-413A-A22B-418C788246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04B3-DEA0-4948-98A8-FE047011B3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91FCBC-D53D-47EC-B774-4CA863649B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FF2052-FD35-4650-99ED-5A48F731B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2C419E-2FBE-4973-9522-122B9F6531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C3EBF5-DD6D-4459-8E38-BC63984A55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9CEEF1-0CD4-4939-A54F-DBE97270C0F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3.wmf"/><Relationship Id="rId7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5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6.wmf"/><Relationship Id="rId7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8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9.wmf"/><Relationship Id="rId7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1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2.wmf"/><Relationship Id="rId7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3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14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15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16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17.wmf"/><Relationship Id="rId11" Type="http://schemas.openxmlformats.org/officeDocument/2006/relationships/oleObject" Target="../embeddings/oleObject6.bin"/><Relationship Id="rId12" Type="http://schemas.openxmlformats.org/officeDocument/2006/relationships/image" Target="../media/image18.wmf"/><Relationship Id="rId13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oleObject" Target="../embeddings/oleObject1.bin"/><Relationship Id="rId3" Type="http://schemas.openxmlformats.org/officeDocument/2006/relationships/image" Target="../media/image14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8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20.wmf"/><Relationship Id="rId8" Type="http://schemas.openxmlformats.org/officeDocument/2006/relationships/oleObject" Target="../embeddings/oleObject4.bin"/><Relationship Id="rId9" Type="http://schemas.openxmlformats.org/officeDocument/2006/relationships/image" Target="../media/image21.wmf"/><Relationship Id="rId10" Type="http://schemas.openxmlformats.org/officeDocument/2006/relationships/slideLayout" Target="../slideLayouts/slideLayout8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3.wmf"/><Relationship Id="rId5" Type="http://schemas.openxmlformats.org/officeDocument/2006/relationships/oleObject" Target="../embeddings/oleObject3.bin"/><Relationship Id="rId6" Type="http://schemas.openxmlformats.org/officeDocument/2006/relationships/image" Target="../media/image24.wmf"/><Relationship Id="rId7" Type="http://schemas.openxmlformats.org/officeDocument/2006/relationships/oleObject" Target="../embeddings/oleObject4.bin"/><Relationship Id="rId8" Type="http://schemas.openxmlformats.org/officeDocument/2006/relationships/image" Target="../media/image25.wmf"/><Relationship Id="rId9" Type="http://schemas.openxmlformats.org/officeDocument/2006/relationships/oleObject" Target="../embeddings/oleObject5.bin"/><Relationship Id="rId10" Type="http://schemas.openxmlformats.org/officeDocument/2006/relationships/image" Target="../media/image26.wmf"/><Relationship Id="rId1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530440" y="476280"/>
          <a:ext cx="6613560" cy="28875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30440" y="476280"/>
                    <a:ext cx="6613560" cy="2887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3" name=""/>
          <p:cNvGraphicFramePr/>
          <p:nvPr/>
        </p:nvGraphicFramePr>
        <p:xfrm>
          <a:off x="900000" y="4292640"/>
          <a:ext cx="2637000" cy="16938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900000" y="4292640"/>
                    <a:ext cx="2637000" cy="1693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5" name=""/>
          <p:cNvGraphicFramePr/>
          <p:nvPr/>
        </p:nvGraphicFramePr>
        <p:xfrm>
          <a:off x="5076720" y="4076640"/>
          <a:ext cx="3240360" cy="257328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46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076720" y="4076640"/>
                    <a:ext cx="3240360" cy="2573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" name=""/>
          <p:cNvSpPr/>
          <p:nvPr/>
        </p:nvSpPr>
        <p:spPr>
          <a:xfrm>
            <a:off x="328320" y="3573360"/>
            <a:ext cx="46584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os estimaciones distintas para la raíz de 3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233640" y="49608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4697640" y="50324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1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325800" y="260280"/>
            <a:ext cx="916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2771640" y="0"/>
          <a:ext cx="5329440" cy="1639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771640" y="0"/>
                    <a:ext cx="5329440" cy="1639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54" name=""/>
          <p:cNvGraphicFramePr/>
          <p:nvPr/>
        </p:nvGraphicFramePr>
        <p:xfrm>
          <a:off x="2771640" y="1773360"/>
          <a:ext cx="5253120" cy="15001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55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771640" y="1773360"/>
                    <a:ext cx="5253120" cy="1500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56" name=""/>
          <p:cNvSpPr/>
          <p:nvPr/>
        </p:nvSpPr>
        <p:spPr>
          <a:xfrm>
            <a:off x="2341800" y="18900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2197440" y="1700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8" name=""/>
          <p:cNvGraphicFramePr/>
          <p:nvPr/>
        </p:nvGraphicFramePr>
        <p:xfrm>
          <a:off x="1692360" y="3500280"/>
          <a:ext cx="5472000" cy="909720"/>
        </p:xfrm>
        <a:graphic>
          <a:graphicData uri="http://schemas.openxmlformats.org/drawingml/2006/table">
            <a:tbl>
              <a:tblPr/>
              <a:tblGrid>
                <a:gridCol w="1368360"/>
                <a:gridCol w="1368360"/>
                <a:gridCol w="1368360"/>
                <a:gridCol w="1366920"/>
              </a:tblGrid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1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2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Exac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Sin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694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258819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Cos 1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87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0.965925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</a:tr>
            </a:tbl>
          </a:graphicData>
        </a:graphic>
      </p:graphicFrame>
      <p:sp>
        <p:nvSpPr>
          <p:cNvPr id="59" name=""/>
          <p:cNvSpPr/>
          <p:nvPr/>
        </p:nvSpPr>
        <p:spPr>
          <a:xfrm>
            <a:off x="-91080" y="736560"/>
            <a:ext cx="29361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Las dos aprox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dan origen a dos estimacion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376280" y="4869000"/>
          <a:ext cx="7767720" cy="116820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376280" y="4869000"/>
                    <a:ext cx="7767720" cy="1168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2" name=""/>
          <p:cNvSpPr/>
          <p:nvPr/>
        </p:nvSpPr>
        <p:spPr>
          <a:xfrm>
            <a:off x="2880" y="5013360"/>
            <a:ext cx="1308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nalment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3061800" y="6237360"/>
            <a:ext cx="2940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valor exacto es ~ 0.2756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"/>
          <p:cNvSpPr/>
          <p:nvPr/>
        </p:nvSpPr>
        <p:spPr>
          <a:xfrm>
            <a:off x="4680" y="0"/>
            <a:ext cx="322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lución Control 1 Ejercicio 2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240" y="476280"/>
            <a:ext cx="3225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on respecto a la línea recta,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 trayectoria se desvía en h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66" name=""/>
          <p:cNvGrpSpPr/>
          <p:nvPr/>
        </p:nvGrpSpPr>
        <p:grpSpPr>
          <a:xfrm>
            <a:off x="0" y="1268280"/>
            <a:ext cx="4032360" cy="4175280"/>
            <a:chOff x="0" y="1268280"/>
            <a:chExt cx="4032360" cy="4175280"/>
          </a:xfrm>
        </p:grpSpPr>
        <p:grpSp>
          <p:nvGrpSpPr>
            <p:cNvPr id="67" name=""/>
            <p:cNvGrpSpPr/>
            <p:nvPr/>
          </p:nvGrpSpPr>
          <p:grpSpPr>
            <a:xfrm>
              <a:off x="2016000" y="1339920"/>
              <a:ext cx="1584720" cy="2232000"/>
              <a:chOff x="2016000" y="1339920"/>
              <a:chExt cx="1584720" cy="2232000"/>
            </a:xfrm>
          </p:grpSpPr>
          <p:sp>
            <p:nvSpPr>
              <p:cNvPr id="68" name=""/>
              <p:cNvSpPr/>
              <p:nvPr/>
            </p:nvSpPr>
            <p:spPr>
              <a:xfrm>
                <a:off x="2016360" y="1339920"/>
                <a:ext cx="1584360" cy="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flipH="1">
                <a:off x="2016000" y="1339920"/>
                <a:ext cx="1584360" cy="216036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>
                <a:off x="2016360" y="1339920"/>
                <a:ext cx="0" cy="2232000"/>
              </a:xfrm>
              <a:prstGeom prst="line">
                <a:avLst/>
              </a:prstGeom>
              <a:ln w="38160">
                <a:solidFill>
                  <a:srgbClr val="ffffff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sp>
          <p:nvSpPr>
            <p:cNvPr id="71" name=""/>
            <p:cNvSpPr/>
            <p:nvPr/>
          </p:nvSpPr>
          <p:spPr>
            <a:xfrm>
              <a:off x="0" y="1339920"/>
              <a:ext cx="4032360" cy="4103640"/>
            </a:xfrm>
            <a:prstGeom prst="ellipse">
              <a:avLst/>
            </a:prstGeom>
            <a:noFill/>
            <a:ln w="381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1771920" y="3183120"/>
              <a:ext cx="502920" cy="504720"/>
            </a:xfrm>
            <a:prstGeom prst="sun">
              <a:avLst>
                <a:gd name="adj" fmla="val 25000"/>
              </a:avLst>
            </a:prstGeom>
            <a:solidFill>
              <a:srgbClr val="bbe0e3"/>
            </a:solidFill>
            <a:ln w="9360">
              <a:solidFill>
                <a:srgbClr val="ff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1944720" y="1268280"/>
              <a:ext cx="216000" cy="216000"/>
            </a:xfrm>
            <a:prstGeom prst="ellipse">
              <a:avLst/>
            </a:prstGeom>
            <a:solidFill>
              <a:srgbClr val="ffffff"/>
            </a:solidFill>
            <a:ln w="381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1638720" y="215100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018160" y="2779560"/>
              <a:ext cx="3391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ffffff"/>
                  </a:solidFill>
                  <a:latin typeface="Symbol"/>
                  <a:ea typeface="Symbol"/>
                </a:rPr>
                <a:t>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439080" y="1432080"/>
              <a:ext cx="30708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h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2718000" y="2511360"/>
              <a:ext cx="3452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aphicFrame>
        <p:nvGraphicFramePr>
          <p:cNvPr id="78" name=""/>
          <p:cNvGraphicFramePr/>
          <p:nvPr/>
        </p:nvGraphicFramePr>
        <p:xfrm>
          <a:off x="4716360" y="333360"/>
          <a:ext cx="3743280" cy="1833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716360" y="333360"/>
                    <a:ext cx="3743280" cy="18334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80" name=""/>
          <p:cNvGraphicFramePr/>
          <p:nvPr/>
        </p:nvGraphicFramePr>
        <p:xfrm>
          <a:off x="5724360" y="2276640"/>
          <a:ext cx="2089440" cy="14983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8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724360" y="2276640"/>
                    <a:ext cx="2089440" cy="14983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82" name=""/>
          <p:cNvSpPr/>
          <p:nvPr/>
        </p:nvSpPr>
        <p:spPr>
          <a:xfrm>
            <a:off x="4360680" y="4149720"/>
            <a:ext cx="30700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el ángulo es igual a el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írculo completo dividido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gundos en un año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83" name=""/>
          <p:cNvGraphicFramePr/>
          <p:nvPr/>
        </p:nvGraphicFramePr>
        <p:xfrm>
          <a:off x="3492360" y="5048280"/>
          <a:ext cx="5112000" cy="14335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84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3492360" y="5048280"/>
                    <a:ext cx="5112000" cy="1433520"/>
                  </a:xfrm>
                  <a:prstGeom prst="rect">
                    <a:avLst/>
                  </a:prstGeom>
                  <a:ln w="381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"/>
          <p:cNvSpPr/>
          <p:nvPr/>
        </p:nvSpPr>
        <p:spPr>
          <a:xfrm>
            <a:off x="6840" y="189000"/>
            <a:ext cx="6215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Ahora evaluamos dichos números para el caso de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612360" y="641520"/>
            <a:ext cx="1076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 año   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1785240" y="639720"/>
            <a:ext cx="1055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65 dí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317400" y="620640"/>
            <a:ext cx="1067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4 hora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4901400" y="620640"/>
            <a:ext cx="1296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minut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288432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46868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6269040" y="620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702480" y="620640"/>
            <a:ext cx="1485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1982520" y="98100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2071800" y="1320840"/>
            <a:ext cx="574560" cy="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2197440" y="12700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637800" y="981000"/>
            <a:ext cx="56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727440" y="1320840"/>
            <a:ext cx="411120" cy="19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3781800" y="126828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6879240" y="105264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6969240" y="1392120"/>
            <a:ext cx="77148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239240" y="133992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5150520" y="979560"/>
            <a:ext cx="929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2 x 100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5240160" y="1319040"/>
            <a:ext cx="771840" cy="208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5510520" y="1266840"/>
            <a:ext cx="307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3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06" name=""/>
          <p:cNvGraphicFramePr/>
          <p:nvPr/>
        </p:nvGraphicFramePr>
        <p:xfrm>
          <a:off x="611280" y="1628640"/>
          <a:ext cx="4535280" cy="857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11280" y="1628640"/>
                    <a:ext cx="4535280" cy="857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08" name=""/>
          <p:cNvGraphicFramePr/>
          <p:nvPr/>
        </p:nvGraphicFramePr>
        <p:xfrm>
          <a:off x="1258920" y="2781360"/>
          <a:ext cx="2952720" cy="10540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09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258920" y="2781360"/>
                    <a:ext cx="2952720" cy="1054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0" name=""/>
          <p:cNvSpPr/>
          <p:nvPr/>
        </p:nvSpPr>
        <p:spPr>
          <a:xfrm>
            <a:off x="4720680" y="2997360"/>
            <a:ext cx="3884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otemos que el resultado exacto e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¡31536000 segundo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3600" y="4495680"/>
            <a:ext cx="5034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 UA = 300000 km/s x 8 minutos x 60 segundo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2" name=""/>
          <p:cNvGraphicFramePr/>
          <p:nvPr/>
        </p:nvGraphicFramePr>
        <p:xfrm>
          <a:off x="1258920" y="4941720"/>
          <a:ext cx="4176720" cy="13305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13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1258920" y="4941720"/>
                    <a:ext cx="4176720" cy="1330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4" name=""/>
          <p:cNvSpPr/>
          <p:nvPr/>
        </p:nvSpPr>
        <p:spPr>
          <a:xfrm>
            <a:off x="6159600" y="5300640"/>
            <a:ext cx="23875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(Respuesta exacta 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44 x 10</a:t>
            </a:r>
            <a:r>
              <a:rPr b="0" lang="en-US" sz="1800" spc="-1" strike="noStrike" baseline="30000">
                <a:solidFill>
                  <a:srgbClr val="ffffff"/>
                </a:solidFill>
                <a:latin typeface="Arial"/>
              </a:rPr>
              <a:t>9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5" name=""/>
          <p:cNvGraphicFramePr/>
          <p:nvPr/>
        </p:nvGraphicFramePr>
        <p:xfrm>
          <a:off x="250920" y="333360"/>
          <a:ext cx="3744720" cy="17812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1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0920" y="333360"/>
                    <a:ext cx="3744720" cy="1781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17" name=""/>
          <p:cNvGraphicFramePr/>
          <p:nvPr/>
        </p:nvGraphicFramePr>
        <p:xfrm>
          <a:off x="3276720" y="5084640"/>
          <a:ext cx="2016000" cy="7542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18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276720" y="5084640"/>
                    <a:ext cx="2016000" cy="75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19" name=""/>
          <p:cNvSpPr/>
          <p:nvPr/>
        </p:nvSpPr>
        <p:spPr>
          <a:xfrm>
            <a:off x="5584680" y="981000"/>
            <a:ext cx="309600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nemos h ~ 3 mm.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Un cálculo exacto de toda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as magnitudes  usando un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calculadora entrega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 ~ 2.8 mm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0" name=""/>
          <p:cNvGraphicFramePr/>
          <p:nvPr/>
        </p:nvGraphicFramePr>
        <p:xfrm>
          <a:off x="5724360" y="260280"/>
          <a:ext cx="2808360" cy="657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2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724360" y="260280"/>
                    <a:ext cx="2808360" cy="657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2" name=""/>
          <p:cNvSpPr/>
          <p:nvPr/>
        </p:nvSpPr>
        <p:spPr>
          <a:xfrm>
            <a:off x="206280" y="2565360"/>
            <a:ext cx="8928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a los demás planetas podemos hacer el mismo cálculo, pero podemos aprovechar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l cálculo ya hecho: para un planeta cualquiera a distancia y con periodo dados po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3" name=""/>
          <p:cNvGraphicFramePr/>
          <p:nvPr/>
        </p:nvGraphicFramePr>
        <p:xfrm>
          <a:off x="324000" y="3500280"/>
          <a:ext cx="2881080" cy="134316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24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24000" y="3500280"/>
                    <a:ext cx="2881080" cy="1343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25" name=""/>
          <p:cNvGraphicFramePr/>
          <p:nvPr/>
        </p:nvGraphicFramePr>
        <p:xfrm>
          <a:off x="5435640" y="3500280"/>
          <a:ext cx="3097080" cy="125424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26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435640" y="3500280"/>
                    <a:ext cx="3097080" cy="1254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7" name=""/>
          <p:cNvSpPr/>
          <p:nvPr/>
        </p:nvSpPr>
        <p:spPr>
          <a:xfrm>
            <a:off x="3851280" y="3860640"/>
            <a:ext cx="976320" cy="486000"/>
          </a:xfrm>
          <a:prstGeom prst="rightArrow">
            <a:avLst>
              <a:gd name="adj1" fmla="val 50000"/>
              <a:gd name="adj2" fmla="val 50222"/>
            </a:avLst>
          </a:prstGeom>
          <a:solidFill>
            <a:srgbClr val="ffffff"/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4284720" y="1268280"/>
            <a:ext cx="852480" cy="73368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640 h 733680"/>
              <a:gd name="textAreaBottom" fmla="*/ 628560 h 7336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3276720" y="5877000"/>
          <a:ext cx="2089080" cy="716040"/>
        </p:xfrm>
        <a:graphic>
          <a:graphicData uri="http://schemas.openxmlformats.org/presentationml/2006/ole">
            <p:oleObj r:id="rId11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12"/>
                  <a:stretch/>
                </p:blipFill>
                <p:spPr>
                  <a:xfrm>
                    <a:off x="3276720" y="5877000"/>
                    <a:ext cx="2089080" cy="7160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1" name=""/>
          <p:cNvSpPr/>
          <p:nvPr/>
        </p:nvSpPr>
        <p:spPr>
          <a:xfrm flipH="1" rot="16200000">
            <a:off x="6095520" y="5360040"/>
            <a:ext cx="852480" cy="733320"/>
          </a:xfrm>
          <a:custGeom>
            <a:avLst/>
            <a:gdLst>
              <a:gd name="textAreaLeft" fmla="*/ 284040 w 852480"/>
              <a:gd name="textAreaRight" fmla="*/ 730440 w 852480"/>
              <a:gd name="textAreaTop" fmla="*/ 422280 h 733320"/>
              <a:gd name="textAreaBottom" fmla="*/ 628200 h 73332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solidFill>
            <a:srgbClr val="bbe0e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2" name="" descr=""/>
          <p:cNvPicPr/>
          <p:nvPr/>
        </p:nvPicPr>
        <p:blipFill>
          <a:blip r:embed="rId1"/>
          <a:stretch/>
        </p:blipFill>
        <p:spPr>
          <a:xfrm>
            <a:off x="457200" y="2515680"/>
            <a:ext cx="4038480" cy="269244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133" name=""/>
          <p:cNvGraphicFramePr/>
          <p:nvPr/>
        </p:nvGraphicFramePr>
        <p:xfrm>
          <a:off x="395280" y="260280"/>
          <a:ext cx="3382920" cy="1263600"/>
        </p:xfrm>
        <a:graphic>
          <a:graphicData uri="http://schemas.openxmlformats.org/presentationml/2006/ole">
            <p:oleObj r:id="rId2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395280" y="260280"/>
                    <a:ext cx="3382920" cy="12636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5" name=""/>
          <p:cNvGraphicFramePr/>
          <p:nvPr/>
        </p:nvGraphicFramePr>
        <p:xfrm>
          <a:off x="5003640" y="114480"/>
          <a:ext cx="3673800" cy="125712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136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5003640" y="114480"/>
                    <a:ext cx="3673800" cy="12571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7" name=""/>
          <p:cNvGraphicFramePr/>
          <p:nvPr/>
        </p:nvGraphicFramePr>
        <p:xfrm>
          <a:off x="468360" y="1628640"/>
          <a:ext cx="3456000" cy="39657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138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468360" y="1628640"/>
                    <a:ext cx="3456000" cy="3965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39" name=""/>
          <p:cNvSpPr/>
          <p:nvPr/>
        </p:nvSpPr>
        <p:spPr>
          <a:xfrm>
            <a:off x="780480" y="5950080"/>
            <a:ext cx="220140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1.88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5.26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219640" y="1555920"/>
          <a:ext cx="3484800" cy="423684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141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5219640" y="1555920"/>
                    <a:ext cx="3484800" cy="4236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2" name=""/>
          <p:cNvSpPr/>
          <p:nvPr/>
        </p:nvSpPr>
        <p:spPr>
          <a:xfrm>
            <a:off x="5965560" y="5950080"/>
            <a:ext cx="2454480" cy="68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Resultado exacto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0.36 h</a:t>
            </a:r>
            <a:r>
              <a:rPr b="0" lang="es-CL" sz="1800" spc="-1" strike="noStrike" baseline="-25000">
                <a:solidFill>
                  <a:srgbClr val="ffffff"/>
                </a:solidFill>
                <a:latin typeface="Arial"/>
              </a:rPr>
              <a:t>tierra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= 0.1035 mm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9999"/>
            </a:gs>
            <a:gs pos="100000">
              <a:srgbClr val="333399"/>
            </a:gs>
          </a:gsLst>
          <a:lin ang="135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43" name=""/>
          <p:cNvGraphicFramePr/>
          <p:nvPr/>
        </p:nvGraphicFramePr>
        <p:xfrm>
          <a:off x="4427640" y="333360"/>
          <a:ext cx="4716360" cy="1152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427640" y="333360"/>
                    <a:ext cx="4716360" cy="1152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45" name=""/>
          <p:cNvGraphicFramePr/>
          <p:nvPr/>
        </p:nvGraphicFramePr>
        <p:xfrm>
          <a:off x="1908000" y="2205000"/>
          <a:ext cx="4826160" cy="133200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14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1908000" y="2205000"/>
                    <a:ext cx="4826160" cy="133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7" name=""/>
          <p:cNvSpPr/>
          <p:nvPr/>
        </p:nvSpPr>
        <p:spPr>
          <a:xfrm>
            <a:off x="4320" y="404640"/>
            <a:ext cx="44676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Podemos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verificar la ley de los recíproco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cuadrados verificando directamente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184320" y="1844640"/>
            <a:ext cx="700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ero otra vez es más fácil usar como base, los cálculos en la tierra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984320" y="3860640"/>
            <a:ext cx="486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Y nuestro problema se reduce a verificar que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50" name=""/>
          <p:cNvGraphicFramePr/>
          <p:nvPr/>
        </p:nvGraphicFramePr>
        <p:xfrm>
          <a:off x="7308720" y="3645000"/>
          <a:ext cx="1224000" cy="93636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151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7308720" y="3645000"/>
                    <a:ext cx="1224000" cy="936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2" name=""/>
          <p:cNvGraphicFramePr/>
          <p:nvPr/>
        </p:nvGraphicFramePr>
        <p:xfrm>
          <a:off x="395280" y="4653000"/>
          <a:ext cx="3456000" cy="1666800"/>
        </p:xfrm>
        <a:graphic>
          <a:graphicData uri="http://schemas.openxmlformats.org/presentationml/2006/ole">
            <p:oleObj r:id="rId7" spid="">
              <p:embed/>
              <p:pic>
                <p:nvPicPr>
                  <p:cNvPr id="153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395280" y="4653000"/>
                    <a:ext cx="3456000" cy="1666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54" name=""/>
          <p:cNvGraphicFramePr/>
          <p:nvPr/>
        </p:nvGraphicFramePr>
        <p:xfrm>
          <a:off x="5724360" y="4869000"/>
          <a:ext cx="3024360" cy="1368360"/>
        </p:xfrm>
        <a:graphic>
          <a:graphicData uri="http://schemas.openxmlformats.org/presentationml/2006/ole">
            <p:oleObj r:id="rId9" spid="">
              <p:embed/>
              <p:pic>
                <p:nvPicPr>
                  <p:cNvPr id="155" name="" descr=""/>
                  <p:cNvPicPr/>
                  <p:nvPr/>
                </p:nvPicPr>
                <p:blipFill>
                  <a:blip r:embed="rId10"/>
                  <a:stretch/>
                </p:blipFill>
                <p:spPr>
                  <a:xfrm>
                    <a:off x="5724360" y="4869000"/>
                    <a:ext cx="302436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56" name=""/>
          <p:cNvSpPr/>
          <p:nvPr/>
        </p:nvSpPr>
        <p:spPr>
          <a:xfrm>
            <a:off x="234000" y="4313160"/>
            <a:ext cx="891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enus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758160" y="6491160"/>
            <a:ext cx="2020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0.98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366520" y="4508640"/>
            <a:ext cx="865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1800" spc="-1" strike="noStrike">
                <a:solidFill>
                  <a:srgbClr val="ffffff"/>
                </a:solidFill>
                <a:latin typeface="Arial"/>
              </a:rPr>
              <a:t>Jupiter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5151240" y="6491160"/>
            <a:ext cx="2146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Valor exacto: 1.001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1-06T12:46:17Z</dcterms:created>
  <dc:creator>Alvaro S. Nunez</dc:creator>
  <dc:description/>
  <dc:language>en-US</dc:language>
  <cp:lastModifiedBy>Alvaro S. Nunez</cp:lastModifiedBy>
  <dcterms:modified xsi:type="dcterms:W3CDTF">2007-01-07T16:08:12Z</dcterms:modified>
  <cp:revision>18</cp:revision>
  <dc:subject/>
  <dc:title>Slide 1</dc:title>
</cp:coreProperties>
</file>