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B6F-A583-430D-ABB9-0EE6F448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420-46D3-4988-9416-8FD07F66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679-D0DA-4E86-835D-22F57C38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F0FF-9620-4976-869F-5CC13A12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167-66AD-42D9-8070-B9625CF4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A938-2558-4BE5-BEE1-99717B1C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432-E408-48D8-A83B-84993442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574-3C62-4284-942F-20449FB2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E7C-BC07-4616-97FC-3C854479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9BC-3E4F-4111-A235-0B1CBA2B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75EB-E4C2-4B36-841D-E0F67C0A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5EC-01C4-4BB6-B9FA-BE613B60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E6DB-463D-4B98-99C5-9390ABE4B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30440" y="476280"/>
          <a:ext cx="6613560" cy="28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0440" y="476280"/>
                    <a:ext cx="6613560" cy="28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00000" y="4292640"/>
          <a:ext cx="2637000" cy="16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292640"/>
                    <a:ext cx="263700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076720" y="4076640"/>
          <a:ext cx="3240360" cy="25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4076640"/>
                    <a:ext cx="324036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28320" y="357336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s estimaciones distintas para la raíz de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3640" y="49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9764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0" y="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ción Control 1 Ejercicio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5800" y="2602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or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771640" y="0"/>
          <a:ext cx="532944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0"/>
                    <a:ext cx="532944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771640" y="1773360"/>
          <a:ext cx="5253120" cy="15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1773360"/>
                    <a:ext cx="525312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341800" y="1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744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692360" y="3500280"/>
          <a:ext cx="5472000" cy="90972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  <a:gridCol w="1368360"/>
                <a:gridCol w="1366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88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6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6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659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-91080" y="736560"/>
            <a:ext cx="293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s dos aproxim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n origen a dos estim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376280" y="4869000"/>
          <a:ext cx="7767720" cy="11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6280" y="4869000"/>
                    <a:ext cx="776772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880" y="50133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800" y="623736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valor exacto es ~ 0.27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0" y="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ción Control 1 Ejercicio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" y="47628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 respecto a la línea rec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trayectoria se desvía en 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1268280"/>
            <a:ext cx="4032360" cy="4175280"/>
            <a:chOff x="0" y="1268280"/>
            <a:chExt cx="4032360" cy="4175280"/>
          </a:xfrm>
        </p:grpSpPr>
        <p:grpSp>
          <p:nvGrpSpPr>
            <p:cNvPr id="67" name=""/>
            <p:cNvGrpSpPr/>
            <p:nvPr/>
          </p:nvGrpSpPr>
          <p:grpSpPr>
            <a:xfrm>
              <a:off x="2016000" y="1339920"/>
              <a:ext cx="1584720" cy="2232000"/>
              <a:chOff x="2016000" y="1339920"/>
              <a:chExt cx="1584720" cy="2232000"/>
            </a:xfrm>
          </p:grpSpPr>
          <p:sp>
            <p:nvSpPr>
              <p:cNvPr id="68" name=""/>
              <p:cNvSpPr/>
              <p:nvPr/>
            </p:nvSpPr>
            <p:spPr>
              <a:xfrm>
                <a:off x="2016360" y="1339920"/>
                <a:ext cx="1584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2016000" y="1339920"/>
                <a:ext cx="1584360" cy="2160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016360" y="1339920"/>
                <a:ext cx="0" cy="22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0" y="1339920"/>
              <a:ext cx="4032360" cy="4103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71920" y="3183120"/>
              <a:ext cx="502920" cy="5047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44720" y="1268280"/>
              <a:ext cx="216000" cy="216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38720" y="2151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18160" y="27795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39080" y="1432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18000" y="2511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8" name=""/>
          <p:cNvGraphicFramePr/>
          <p:nvPr/>
        </p:nvGraphicFramePr>
        <p:xfrm>
          <a:off x="4716360" y="333360"/>
          <a:ext cx="3743280" cy="18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33360"/>
                    <a:ext cx="3743280" cy="1833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724360" y="2276640"/>
          <a:ext cx="2089440" cy="149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2276640"/>
                    <a:ext cx="2089440" cy="14983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4360680" y="4149720"/>
            <a:ext cx="30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o el ángulo es igual a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írculo completo dividido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undos en un añ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492360" y="5048280"/>
          <a:ext cx="5112000" cy="14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5048280"/>
                    <a:ext cx="5112000" cy="14335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0" y="189000"/>
            <a:ext cx="62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ora evaluamos dichos números para el caso de la Tier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2360" y="64152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año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85240" y="63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65 d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17400" y="6206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 h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1400" y="6206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 min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84320" y="62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68680" y="62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69040" y="62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2480" y="62064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 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2520" y="981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1800" y="1320840"/>
            <a:ext cx="57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7440" y="127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7800" y="981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7440" y="1320840"/>
            <a:ext cx="411120" cy="1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1800" y="126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9240" y="10526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x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69240" y="1392120"/>
            <a:ext cx="771480" cy="2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9240" y="133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50520" y="97956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x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40160" y="1319040"/>
            <a:ext cx="771840" cy="2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10520" y="1266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11280" y="1628640"/>
          <a:ext cx="453528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453528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258920" y="2781360"/>
          <a:ext cx="2952720" cy="10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2781360"/>
                    <a:ext cx="295272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720680" y="299736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mos que el resultado exacto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¡31536000 segund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0" y="4495680"/>
            <a:ext cx="503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1 UA = 300000 km/s x 8 minutos x 60 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58920" y="4941720"/>
          <a:ext cx="4176720" cy="133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8920" y="4941720"/>
                    <a:ext cx="417672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159600" y="530064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Respuesta exacta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4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50920" y="333360"/>
          <a:ext cx="374472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374472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276720" y="5084640"/>
          <a:ext cx="2016000" cy="7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5084640"/>
                    <a:ext cx="201600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584680" y="981000"/>
            <a:ext cx="30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emos h ~ 3 m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cálculo exacto de to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magnitudes  usando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dora entre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~ 2.8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724360" y="260280"/>
          <a:ext cx="2808360" cy="65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260280"/>
                    <a:ext cx="28083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206280" y="2565360"/>
            <a:ext cx="89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 los demás planetas podemos hacer el mismo cálculo, pero podemos aprovech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cálculo ya hecho: para un planeta cualquiera a distancia y con periodo dados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24000" y="3500280"/>
          <a:ext cx="2881080" cy="134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000" y="3500280"/>
                    <a:ext cx="288108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435640" y="3500280"/>
          <a:ext cx="3097080" cy="125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5640" y="3500280"/>
                    <a:ext cx="309708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851280" y="386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1268280"/>
            <a:ext cx="852480" cy="7336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64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276720" y="5877000"/>
          <a:ext cx="2089080" cy="716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5877000"/>
                    <a:ext cx="20890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 flipH="1" rot="16200000">
            <a:off x="6095520" y="536004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395280" y="260280"/>
          <a:ext cx="3382920" cy="126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60280"/>
                    <a:ext cx="3382920" cy="12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003640" y="114480"/>
          <a:ext cx="3673800" cy="125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3640" y="114480"/>
                    <a:ext cx="367380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68360" y="1628640"/>
          <a:ext cx="3456000" cy="3965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628640"/>
                    <a:ext cx="3456000" cy="39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780480" y="5950080"/>
            <a:ext cx="2201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sultado ex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1.88 h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tierr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= 5.26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219640" y="1555920"/>
          <a:ext cx="3484800" cy="4236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19640" y="1555920"/>
                    <a:ext cx="348480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5965560" y="5950080"/>
            <a:ext cx="2454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sultado ex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0.36 h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tierr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= 0.103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427640" y="333360"/>
          <a:ext cx="471636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3360"/>
                    <a:ext cx="47163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908000" y="2205000"/>
          <a:ext cx="4826160" cy="13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205000"/>
                    <a:ext cx="482616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320" y="404640"/>
            <a:ext cx="44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ode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verificar la ley de los recípro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uadrados verificando directam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4320" y="1844640"/>
            <a:ext cx="70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o otra vez es más fácil usar como base, los cálculos en la tier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4320" y="386064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nuestro problema se reduce a verificar qu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308720" y="3645000"/>
          <a:ext cx="1224000" cy="93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720" y="3645000"/>
                    <a:ext cx="122400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95280" y="4653000"/>
          <a:ext cx="3456000" cy="166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4653000"/>
                    <a:ext cx="345600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724360" y="4869000"/>
          <a:ext cx="3024360" cy="136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24360" y="4869000"/>
                    <a:ext cx="30243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234000" y="4313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8160" y="649116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or exacto: 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6520" y="450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51240" y="649116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or exacto: 1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12:46:17Z</dcterms:created>
  <dc:creator>Alvaro S. Nunez</dc:creator>
  <dc:description/>
  <dc:language>en-US</dc:language>
  <cp:lastModifiedBy>Alvaro S. Nunez</cp:lastModifiedBy>
  <dcterms:modified xsi:type="dcterms:W3CDTF">2007-01-07T16:08:12Z</dcterms:modified>
  <cp:revision>18</cp:revision>
  <dc:subject/>
  <dc:title>Slide 1</dc:title>
</cp:coreProperties>
</file>