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0C9-0659-48D1-BDD0-0009E522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1B6-DFB0-466E-A4CA-CAC295AB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5DB-6EE0-4EA0-9009-17CEEB4C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3EC-6438-4935-8C43-CDC069E9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BE5-2AF9-4BEB-A7EC-6667CA08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208-1EFF-42F7-9E75-9A7BC2DC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5A8-2DAC-477C-A0FE-5630066E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D1D-C1BF-4144-A63B-BA34EF7B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A9B-9BAA-4BF1-8A26-49760135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7BD-37EB-4F89-B018-2447DD2F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205-51D0-4D25-8636-820F3475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241-B9A9-4003-A195-E1A865DB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E68B-7B43-4686-B28F-318B10B8F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Conocer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Resolver problemas físicos numér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  <a:ea typeface="Arial"/>
              </a:rPr>
              <a:t>¿Qué es Matla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Matlab es un software de cálculo numérico utilizado en ingenierías y ciencias puras para análisis de datos, simulaciones o resolución de ecuaciones comple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¿Cómo trabajar en Matla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iene una linea de comando para calculos “en vivo” y script’s (llamados M-files) para escribir programas (de una o más lineas de codi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aja de una M-file es que permite guardar los programas hechos y reutilizarlos cuantas veces qui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Características de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rabaja con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ctores son matrices de 1xn o nx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ma, resta, multiplicación, división y potencia son respectivamente: +,-,*,/ y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operar elemento a elemento en una matriz se antepone un “.”, punto,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además cuenta con funciones matemáticas predefinidas, como seno, coseno, tangen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Datos Útile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que matlab no nos muestre los resultados, finalizamos la linea de codigo con “;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hacer un ciclo en matlab se ocupa la siguiente sint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s-CL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valor inicial : paso : valor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no sabes bien como utilizar una función, en la pantalla principal escribes: “help funcion_que_no_sab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Tus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rear tus propias funciones debes abrir un M-file nuevo con el nombre de tu función y utilizar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Nelson Zamorano</cp:lastModifiedBy>
  <dcterms:modified xsi:type="dcterms:W3CDTF">2007-01-03T00:34:32Z</dcterms:modified>
  <cp:revision>9</cp:revision>
  <dc:subject/>
  <dc:title>Clase nº1  Complemento Numérico</dc:title>
</cp:coreProperties>
</file>