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92E-1259-43D1-BDC1-80BFF71E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482-6903-4314-901F-9CC792FF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4AF-3F5B-4041-BBF5-46D74CBF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2AD-0090-4177-A2A2-7C06C02C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D2F-C19C-4C59-B422-C4A6E287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950-062F-4606-9C5D-BC7545A8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F68-0D1F-4EB4-8722-DDAE8C36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4F4-1F33-4F3E-A1FA-90AF62ED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532-0789-464A-AF8F-38450D11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B27-1F24-4A7D-94B6-5D021368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4CF-1E1C-4571-B3AA-804F9291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EA5-0ED2-420D-B170-E9498057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DC8B-0336-4061-AB8F-A46ACBC28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Conocer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Resolver problemas físicos numér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  <a:ea typeface="Arial"/>
              </a:rPr>
              <a:t>¿Qué es Matla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Matlab es un software de cálculo numérico utilizado en ingenierías y ciencias puras para análisis de datos, simulaciones o resolución de ecuaciones complej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¿Cómo trabajar en Matla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iene una linea de comando para calculos “en vivo” y script’s (llamados M-files) para escribir programas (de una o más lineas de codi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ntaja de una M-file es que permite guardar los programas hechos y reutilizarlos cuantas veces qui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Características de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rabaja con mat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ctores son matrices de 1xn o nx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ma, resta, multiplicación, división y potencia son respectivamente: +,-,*,/ y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operar elemento a elemento en una matriz se antepone un “.”, punto,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además cuenta con funciones matemáticas predefinidas, como seno, coseno, tangen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Datos Útile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que matlab no nos muestre los resultados, finalizamos la linea de codigo con “;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hacer un ciclo en matlab se ocupa la siguiente sint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es-CL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valor inicial : paso : valor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no sabes bien como utilizar una función, en la pantalla principal escribes: “help funcion_que_no_sab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Tus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rear tus propias funciones debes abrir un M-file nuevo con el nombre de tu función y utilizar la siguiente sin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valor=mi_funcion(x, y, etc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=f(x, y, et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Nelson Zamorano</cp:lastModifiedBy>
  <dcterms:modified xsi:type="dcterms:W3CDTF">2007-01-03T00:34:32Z</dcterms:modified>
  <cp:revision>9</cp:revision>
  <dc:subject/>
  <dc:title>Clase nº1  Complemento Numérico</dc:title>
</cp:coreProperties>
</file>