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0C36-2E36-4BA2-8997-740423121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CC28-4252-4C1E-8E5C-DB73A8E8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2329-09F1-4A5A-8DE4-052619F1F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78EE-EBCD-48CD-8838-F8D1201B7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D606-C40C-4386-8C3E-E9C9FFAF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2A29-D767-489F-A03F-26216F66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B540-C9E4-4542-8B13-F1E010C3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C7E1-8BB3-4C54-8AB0-3FD18E05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4DD3-AC7B-44D5-9C0C-29D68071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2559-2E39-4C58-A403-1C4F31D9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1EB2-6E7C-4495-975E-60AC54D3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C7B0-6EDD-4ADA-963C-AF713978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1DC1-962F-49CD-946F-69EDCBAC6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2205000"/>
            <a:ext cx="6192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e n º 1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ción a Mat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560" y="4076280"/>
            <a:ext cx="727236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bjetiv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Conocer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Resolver problemas físicos numéric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571680" cy="857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1620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620640"/>
            <a:ext cx="4319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ULTAD DE CIENCIAS FISICAS Y MATEMA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ELA DE VERANO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Arial"/>
                <a:ea typeface="Arial"/>
              </a:rPr>
              <a:t>¿Qué es Matlab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Matlab es un software de cálculo numérico utilizado en ingenierías y ciencias puras para análisis de datos, simulaciones o resolución de ecuaciones complej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Arial"/>
              </a:rPr>
              <a:t>¿Cómo trabajar en Matlab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tlab tiene una linea de comando para calculos “en vivo” y script’s (llamados M-files) para escribir programas (de una o más lineas de codig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ventaja de una M-file es que permite guardar los programas hechos y reutilizarlos cuantas veces quie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9999"/>
                </a:solidFill>
                <a:latin typeface="Arial"/>
              </a:rPr>
              <a:t>Características de Mat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tlab trabaja con matr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ectores son matrices de 1xn o nx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9999"/>
                </a:solidFill>
                <a:latin typeface="Arial"/>
              </a:rPr>
              <a:t>Opera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ma, resta, multiplicación, división y potencia son respectivamente: +,-,*,/ y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operar elemento a elemento en una matriz se antepone un “.”, punto, a la op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tlab además cuenta con funciones matemáticas predefinidas, como seno, coseno, tangen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9999"/>
                </a:solidFill>
                <a:latin typeface="Arial"/>
              </a:rPr>
              <a:t>Datos Útiles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a que matlab no nos muestre los resultados, finalizamos la linea de codigo con “;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a hacer un ciclo en matlab se ocupa la siguiente sintax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for</a:t>
            </a:r>
            <a:r>
              <a:rPr b="0" lang="es-CL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 = valor inicial : paso : valor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presión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 no sabes bien como utilizar una función, en la pantalla principal escribes: “help funcion_que_no_sab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9999"/>
                </a:solidFill>
                <a:latin typeface="Arial"/>
              </a:rPr>
              <a:t>Tus fun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crear tus propias funciones debes abrir un M-file nuevo con el nombre de tu función y utilizar la siguiente sint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functio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valor=mi_funcion(x, y, etc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xpres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alor=f(x, y, et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01:06:42Z</dcterms:created>
  <dc:creator>Maria Fernanda Duran Sierra</dc:creator>
  <dc:description/>
  <dc:language>en-US</dc:language>
  <cp:lastModifiedBy>Nelson Zamorano</cp:lastModifiedBy>
  <dcterms:modified xsi:type="dcterms:W3CDTF">2007-01-03T00:34:32Z</dcterms:modified>
  <cp:revision>9</cp:revision>
  <dc:subject/>
  <dc:title>Clase nº1  Complemento Numérico</dc:title>
</cp:coreProperties>
</file>