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5B3C-DEF1-41A1-813E-F3E035F8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B153-0507-4FE4-BC41-414F866A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823-3EAC-4B04-BDF7-F0EB4F25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0AE6-4F58-4E41-8B57-10ED8BDF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51C3-0EB6-431B-ABE2-B5C98103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929F-410F-4CC1-BA59-B95C6049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8F8-369B-443C-803E-66B514A0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2E33-3B86-4C88-B2B0-A8018917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B2AB-A90E-4F00-97C6-F29426DB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CF4-1208-42D4-BE33-76B134E8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D5D3-521A-467F-8CEA-8B9BF3FF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16E-76E5-43C7-853B-007025A7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70CA-7ACA-4EBE-AF7A-7CED3D635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e n º 1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 a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Conocer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Resolver problemas físicos numér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  <a:ea typeface="Arial"/>
              </a:rPr>
              <a:t>¿Qué es Matla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Matlab es un software de cálculo numérico utilizado en ingenierías y ciencias puras para análisis de datos, simulaciones o resolución de ecuaciones complej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Arial"/>
              </a:rPr>
              <a:t>¿Cómo trabajar en Matlab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tiene una linea de comando para calculos “en vivo” y script’s (llamados M-files) para escribir programas (de una o más lineas de codig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ventaja de una M-file es que permite guardar los programas hechos y reutilizarlos cuantas veces quie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Características de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trabaja con mat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ctores son matrices de 1xn o nx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ma, resta, multiplicación, división y potencia son respectivamente: +,-,*,/ y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operar elemento a elemento en una matriz se antepone un “.”, punto, a la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además cuenta con funciones matemáticas predefinidas, como seno, coseno, tangen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Datos Útiles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que matlab no nos muestre los resultados, finalizamos la linea de codigo con “;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hacer un ciclo en matlab se ocupa la siguiente sint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for</a:t>
            </a:r>
            <a:r>
              <a:rPr b="0" lang="es-CL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valor inicial : paso : valor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resión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 no sabes bien como utilizar una función, en la pantalla principal escribes: “help funcion_que_no_sab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Tus fu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crear tus propias funciones debes abrir un M-file nuevo con el nombre de tu función y utilizar la siguiente sint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functi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valor=mi_funcion(x, y, etc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pres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lor=f(x, y, et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Nelson Zamorano</cp:lastModifiedBy>
  <dcterms:modified xsi:type="dcterms:W3CDTF">2007-01-03T00:34:32Z</dcterms:modified>
  <cp:revision>9</cp:revision>
  <dc:subject/>
  <dc:title>Clase nº1  Complemento Numérico</dc:title>
</cp:coreProperties>
</file>