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D5B-3612-44C3-B365-608C019B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664-488A-4B1E-9123-7907026A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AB5-E983-4547-97CF-9740CC9A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747-1517-496F-AF4C-8886F46D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F8F-1D72-41E0-9CE5-57933C1B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94F-C3ED-42F5-91D4-C021B17A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62D-F7B2-417B-9367-26259799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ED8-A3D4-4DF9-9435-02DFF6F7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776-A9AF-4EAB-B073-1AAC1F28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4D6-3342-41F2-8654-41D6A28F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099-CD02-4EB1-9E06-87F0EDE2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4B8-921C-426C-95A3-CBD4F619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EE03-7B7D-4E71-A1AA-74A9D2830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 a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Conocer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Resolver problemas físicos numér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  <a:ea typeface="Arial"/>
              </a:rPr>
              <a:t>¿Qué es Matla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Matlab es un software de cálculo numérico utilizado en ingenierías y ciencias puras para análisis de datos, simulaciones o resolución de ecuaciones complej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¿Cómo trabajar en Matla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iene una linea de comando para calculos “en vivo” y script’s (llamados M-files) para escribir programas (de una o más lineas de codig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ntaja de una M-file es que permite guardar los programas hechos y reutilizarlos cuantas veces quie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Características de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rabaja con mat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ctores son matrices de 1xn o nx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ma, resta, multiplicación, división y potencia son respectivamente: +,-,*,/ y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operar elemento a elemento en una matriz se antepone un “.”, punto,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además cuenta con funciones matemáticas predefinidas, como seno, coseno, tangen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Datos Útile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que matlab no nos muestre los resultados, finalizamos la linea de codigo con “;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hacer un ciclo en matlab se ocupa la siguiente sint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es-CL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valor inicial : paso : valor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 no sabes bien como utilizar una función, en la pantalla principal escribes: “help funcion_que_no_sab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Tus fu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crear tus propias funciones debes abrir un M-file nuevo con el nombre de tu función y utilizar la siguiente sint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valor=mi_funcion(x, y, etc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pre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=f(x, y, et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Nelson Zamorano</cp:lastModifiedBy>
  <dcterms:modified xsi:type="dcterms:W3CDTF">2007-01-03T00:34:32Z</dcterms:modified>
  <cp:revision>9</cp:revision>
  <dc:subject/>
  <dc:title>Clase nº1  Complemento Numérico</dc:title>
</cp:coreProperties>
</file>