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317-E81E-4964-B84D-B1D5623D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691-502B-4743-947E-919DC66B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51B-DD4B-4CE6-99CF-2C3E21D1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70D-3B31-4FE7-80A4-659D91E1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A55-24ED-4BD8-9AF7-CD46B3DD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348-8E61-4B86-9301-8F06CA4B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C41-E5C9-4211-8CA6-FD46B553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9C2-89D7-438F-8B0D-3282EED5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E4D-3815-4753-9076-D5C91340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DA7-4433-4EEF-B2C5-E59AA79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3FF-C158-49D4-9DF3-493793A7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474-F557-47F2-A196-3A236EE6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94D2-2DD9-4986-9119-C6173C77D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Conocer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Resolver problemas físicos numér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  <a:ea typeface="Arial"/>
              </a:rPr>
              <a:t>¿Qué es Matla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Matlab es un software de cálculo numérico utilizado en ingenierías y ciencias puras para análisis de datos, simulaciones o resolución de ecuaciones comple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¿Cómo trabajar en Matl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iene una linea de comando para calculos “en vivo” y script’s (llamados M-files) para escribir programas (de una o más lineas de codi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aja de una M-file es que permite guardar los programas hechos y reutilizarlos cuantas veces qui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Características de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rabaja con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ctores son matrices de 1xn o n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ma, resta, multiplicación, división y potencia son respectivamente: +,-,*,/ y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operar elemento a elemento en una matriz se antepone un “.”, punto,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además cuenta con funciones matemáticas predefinidas, como seno, coseno, tangen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Datos Útile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que matlab no nos muestre los resultados, finalizamos la linea de codigo con “;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hacer un ciclo en matlab se ocupa la siguiente sint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s-CL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valor inicial : paso : valor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no sabes bien como utilizar una función, en la pantalla principal escribes: “help funcion_que_no_sab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Tus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rear tus propias funciones debes abrir un M-file nuevo con el nombre de tu función y utilizar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Nelson Zamorano</cp:lastModifiedBy>
  <dcterms:modified xsi:type="dcterms:W3CDTF">2007-01-03T00:34:32Z</dcterms:modified>
  <cp:revision>9</cp:revision>
  <dc:subject/>
  <dc:title>Clase nº1  Complemento Numérico</dc:title>
</cp:coreProperties>
</file>