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77D3-C6B4-4F70-90BF-35A815548D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A0933-F202-4D50-8316-4018B429D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9FA63-9643-42A2-8B42-EAD1A9F7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D6D07-8690-49BA-8B61-7BBA0F708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324A5-80CD-4E82-A3B9-5CBF074B5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7B749-FE76-4F71-9F53-608051A46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3D64C-3683-457A-9968-A0352C41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0C3F-421A-4A26-9F31-F61BBCD32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4703-F8B0-4C31-AA54-8AB3B8E5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976D-32F9-4248-A134-C6773B3F6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DFB90-CDE4-4919-B1F2-73A2EF7A3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9444-C12A-4937-A11F-0B7EE939A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B587-7DC7-401C-92D3-A631266A6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4775-9AFD-439E-8B92-646C2FA35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2</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7</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laboratorio</cp:lastModifiedBy>
  <dcterms:modified xsi:type="dcterms:W3CDTF">2007-01-10T13:49:22Z</dcterms:modified>
  <cp:revision>13</cp:revision>
  <dc:subject/>
  <dc:title>Clase n º 3  Complemento Numérico</dc:title>
</cp:coreProperties>
</file>